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5505F-2A21-48C7-B734-04797F94F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80ED8-ECDF-4B5B-9098-938F44FA8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0F79C-AE89-4E04-843E-6611585A8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051CD-226E-439F-A52E-1BD89AE85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AA5DA-6A48-4F14-A0C9-55CD2BCD9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DADF9-0F44-4D51-AF67-AFE6A8F0E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9E2A7-30D9-4E4A-9C0C-28D256A4D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02D30-C40D-49C2-85E5-37754982D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8FF03-8AF4-4F14-9845-1F6459F18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BB7AF-BB80-4D92-859A-E069B5D6F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D5563-45DB-4DD8-8166-401D8BF63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8F37C-B457-4B4D-85F2-983F8158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FA8D0-AD21-4F14-BD12-24ABB37F4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20063-2C41-4EE3-AF77-55630791E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D44E6-CEEC-43C0-8FEE-87B887103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2A537-CA43-49E8-A018-7E8E4AF83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F5EB1-F731-4FE2-8EBB-05B8046EC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C600D-4F70-49EB-B7D1-94B8D12C1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50BD8-9E20-43E0-A654-4C72905A9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0CFB4-D193-4E51-A9BA-25FD1347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150A-17D5-4F09-B1FA-088B818DC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B0AD0-F87D-47F0-B283-51B5C7E1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C53C-5C67-4ECB-ACFB-FD345D8D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4F97-9C8E-4274-9520-AAA69F29A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E37C-64B6-4803-8A96-51731435A1F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AC78-DC5C-4D17-83FF-9626E96216A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ums of finite serie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sum of a finite ARITHMETIC sequence with n terms is…</a:t>
            </a:r>
            <a:endParaRPr b="0" lang="en-US" sz="4000" spc="-1" strike="noStrike">
              <a:solidFill>
                <a:srgbClr val="ffffff"/>
              </a:solidFill>
              <a:latin typeface="Times New Roman"/>
            </a:endParaRPr>
          </a:p>
        </p:txBody>
      </p:sp>
      <p:graphicFrame>
        <p:nvGraphicFramePr>
          <p:cNvPr id="93" name=""/>
          <p:cNvGraphicFramePr/>
          <p:nvPr/>
        </p:nvGraphicFramePr>
        <p:xfrm>
          <a:off x="1371600" y="1905120"/>
          <a:ext cx="6058080" cy="2471760"/>
        </p:xfrm>
        <a:graphic>
          <a:graphicData uri="http://schemas.openxmlformats.org/presentationml/2006/ole">
            <p:oleObj r:id="rId1" spid="">
              <p:embed/>
              <p:pic>
                <p:nvPicPr>
                  <p:cNvPr id="94" name="" descr=""/>
                  <p:cNvPicPr/>
                  <p:nvPr/>
                </p:nvPicPr>
                <p:blipFill>
                  <a:blip r:embed="rId2"/>
                  <a:stretch/>
                </p:blipFill>
                <p:spPr>
                  <a:xfrm>
                    <a:off x="1371600" y="1905120"/>
                    <a:ext cx="6058080" cy="24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ind the sum of the integers from 1 to 100.</a:t>
            </a:r>
            <a:endParaRPr b="0" lang="en-US" sz="40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 name=""/>
          <p:cNvSpPr/>
          <p:nvPr/>
        </p:nvSpPr>
        <p:spPr>
          <a:xfrm>
            <a:off x="1911240" y="1160640"/>
            <a:ext cx="2384640" cy="849240"/>
          </a:xfrm>
          <a:custGeom>
            <a:avLst/>
            <a:gdLst/>
            <a:ahLst/>
            <a:rect l="l" t="t" r="r" b="b"/>
            <a:pathLst>
              <a:path w="6624" h="2357">
                <a:moveTo>
                  <a:pt x="5631" y="3770"/>
                </a:moveTo>
                <a:cubicBezTo>
                  <a:pt x="5659" y="3848"/>
                  <a:pt x="5655" y="3910"/>
                  <a:pt x="5655" y="3994"/>
                </a:cubicBezTo>
                <a:cubicBezTo>
                  <a:pt x="5655" y="4099"/>
                  <a:pt x="5655" y="4199"/>
                  <a:pt x="5631" y="4291"/>
                </a:cubicBezTo>
                <a:cubicBezTo>
                  <a:pt x="5629" y="4298"/>
                  <a:pt x="5631" y="4384"/>
                  <a:pt x="5631" y="4316"/>
                </a:cubicBezTo>
                <a:cubicBezTo>
                  <a:pt x="5631" y="4243"/>
                  <a:pt x="5652" y="4188"/>
                  <a:pt x="5655" y="4118"/>
                </a:cubicBezTo>
                <a:cubicBezTo>
                  <a:pt x="5659" y="4025"/>
                  <a:pt x="5678" y="3935"/>
                  <a:pt x="5705" y="3845"/>
                </a:cubicBezTo>
                <a:cubicBezTo>
                  <a:pt x="5727" y="3770"/>
                  <a:pt x="5800" y="3619"/>
                  <a:pt x="5854" y="3572"/>
                </a:cubicBezTo>
                <a:cubicBezTo>
                  <a:pt x="5902" y="3530"/>
                  <a:pt x="5942" y="3522"/>
                  <a:pt x="6003" y="3522"/>
                </a:cubicBezTo>
                <a:cubicBezTo>
                  <a:pt x="6057" y="3522"/>
                  <a:pt x="6057" y="3579"/>
                  <a:pt x="6077" y="3621"/>
                </a:cubicBezTo>
                <a:cubicBezTo>
                  <a:pt x="6137" y="3747"/>
                  <a:pt x="6098" y="3908"/>
                  <a:pt x="6127" y="4043"/>
                </a:cubicBezTo>
                <a:cubicBezTo>
                  <a:pt x="6140" y="4103"/>
                  <a:pt x="6159" y="4183"/>
                  <a:pt x="6176" y="4242"/>
                </a:cubicBezTo>
                <a:cubicBezTo>
                  <a:pt x="6194" y="4305"/>
                  <a:pt x="6221" y="4326"/>
                  <a:pt x="6226" y="4390"/>
                </a:cubicBezTo>
                <a:cubicBezTo>
                  <a:pt x="6226" y="4418"/>
                  <a:pt x="6224" y="4429"/>
                  <a:pt x="6201" y="4440"/>
                </a:cubicBezTo>
              </a:path>
              <a:path w="6624" h="2357">
                <a:moveTo>
                  <a:pt x="5308" y="4539"/>
                </a:moveTo>
                <a:cubicBezTo>
                  <a:pt x="5534" y="4539"/>
                  <a:pt x="5758" y="4534"/>
                  <a:pt x="5978" y="4514"/>
                </a:cubicBezTo>
                <a:cubicBezTo>
                  <a:pt x="6030" y="4509"/>
                  <a:pt x="6376" y="4538"/>
                  <a:pt x="6375" y="4539"/>
                </a:cubicBezTo>
                <a:cubicBezTo>
                  <a:pt x="6347" y="4539"/>
                  <a:pt x="6336" y="4541"/>
                  <a:pt x="6325" y="4564"/>
                </a:cubicBezTo>
              </a:path>
              <a:path w="6624" h="2357">
                <a:moveTo>
                  <a:pt x="5655" y="4837"/>
                </a:moveTo>
                <a:cubicBezTo>
                  <a:pt x="5673" y="4828"/>
                  <a:pt x="5733" y="4799"/>
                  <a:pt x="5779" y="4787"/>
                </a:cubicBezTo>
                <a:cubicBezTo>
                  <a:pt x="5848" y="4769"/>
                  <a:pt x="5921" y="4737"/>
                  <a:pt x="5978" y="4787"/>
                </a:cubicBezTo>
                <a:cubicBezTo>
                  <a:pt x="6037" y="4838"/>
                  <a:pt x="6032" y="4853"/>
                  <a:pt x="6003" y="4936"/>
                </a:cubicBezTo>
                <a:cubicBezTo>
                  <a:pt x="5967" y="5040"/>
                  <a:pt x="5919" y="5098"/>
                  <a:pt x="5854" y="5184"/>
                </a:cubicBezTo>
                <a:cubicBezTo>
                  <a:pt x="5781" y="5281"/>
                  <a:pt x="5695" y="5351"/>
                  <a:pt x="5606" y="5432"/>
                </a:cubicBezTo>
                <a:cubicBezTo>
                  <a:pt x="5553" y="5480"/>
                  <a:pt x="5499" y="5554"/>
                  <a:pt x="5432" y="5581"/>
                </a:cubicBezTo>
                <a:cubicBezTo>
                  <a:pt x="5424" y="5581"/>
                  <a:pt x="5415" y="5581"/>
                  <a:pt x="5407" y="5581"/>
                </a:cubicBezTo>
                <a:cubicBezTo>
                  <a:pt x="5437" y="5563"/>
                  <a:pt x="5463" y="5554"/>
                  <a:pt x="5507" y="5531"/>
                </a:cubicBezTo>
                <a:cubicBezTo>
                  <a:pt x="5595" y="5485"/>
                  <a:pt x="5640" y="5504"/>
                  <a:pt x="5730" y="5482"/>
                </a:cubicBezTo>
                <a:cubicBezTo>
                  <a:pt x="5815" y="5461"/>
                  <a:pt x="5887" y="5457"/>
                  <a:pt x="5978" y="5457"/>
                </a:cubicBezTo>
                <a:cubicBezTo>
                  <a:pt x="6045" y="5457"/>
                  <a:pt x="6098" y="5471"/>
                  <a:pt x="6152" y="5482"/>
                </a:cubicBezTo>
                <a:cubicBezTo>
                  <a:pt x="6213" y="5494"/>
                  <a:pt x="6274" y="5473"/>
                  <a:pt x="6300" y="5457"/>
                </a:cubicBezTo>
              </a:path>
              <a:path w="6624" h="2357">
                <a:moveTo>
                  <a:pt x="7317" y="3522"/>
                </a:moveTo>
                <a:cubicBezTo>
                  <a:pt x="7303" y="3547"/>
                  <a:pt x="7246" y="3625"/>
                  <a:pt x="7218" y="3671"/>
                </a:cubicBezTo>
                <a:cubicBezTo>
                  <a:pt x="7125" y="3826"/>
                  <a:pt x="6999" y="4019"/>
                  <a:pt x="6945" y="4192"/>
                </a:cubicBezTo>
                <a:cubicBezTo>
                  <a:pt x="6893" y="4356"/>
                  <a:pt x="6871" y="4492"/>
                  <a:pt x="6871" y="4663"/>
                </a:cubicBezTo>
                <a:cubicBezTo>
                  <a:pt x="6871" y="4786"/>
                  <a:pt x="6894" y="4946"/>
                  <a:pt x="6945" y="5060"/>
                </a:cubicBezTo>
                <a:cubicBezTo>
                  <a:pt x="6982" y="5142"/>
                  <a:pt x="7001" y="5208"/>
                  <a:pt x="7045" y="5283"/>
                </a:cubicBezTo>
                <a:cubicBezTo>
                  <a:pt x="7073" y="5330"/>
                  <a:pt x="7111" y="5366"/>
                  <a:pt x="7169" y="5308"/>
                </a:cubicBezTo>
                <a:cubicBezTo>
                  <a:pt x="7177" y="5292"/>
                  <a:pt x="7185" y="5275"/>
                  <a:pt x="7193" y="5259"/>
                </a:cubicBezTo>
              </a:path>
              <a:path w="6624" h="2357">
                <a:moveTo>
                  <a:pt x="8037" y="4539"/>
                </a:moveTo>
                <a:cubicBezTo>
                  <a:pt x="8037" y="4581"/>
                  <a:pt x="8037" y="4589"/>
                  <a:pt x="8037" y="4614"/>
                </a:cubicBezTo>
                <a:cubicBezTo>
                  <a:pt x="8037" y="4548"/>
                  <a:pt x="8022" y="4501"/>
                  <a:pt x="8012" y="4440"/>
                </a:cubicBezTo>
                <a:cubicBezTo>
                  <a:pt x="8008" y="4413"/>
                  <a:pt x="7980" y="4279"/>
                  <a:pt x="7962" y="4266"/>
                </a:cubicBezTo>
                <a:cubicBezTo>
                  <a:pt x="7920" y="4235"/>
                  <a:pt x="7849" y="4248"/>
                  <a:pt x="7813" y="4291"/>
                </a:cubicBezTo>
                <a:cubicBezTo>
                  <a:pt x="7757" y="4358"/>
                  <a:pt x="7673" y="4457"/>
                  <a:pt x="7640" y="4539"/>
                </a:cubicBezTo>
                <a:cubicBezTo>
                  <a:pt x="7591" y="4660"/>
                  <a:pt x="7531" y="4804"/>
                  <a:pt x="7516" y="4936"/>
                </a:cubicBezTo>
                <a:cubicBezTo>
                  <a:pt x="7505" y="5036"/>
                  <a:pt x="7541" y="5185"/>
                  <a:pt x="7615" y="5259"/>
                </a:cubicBezTo>
                <a:cubicBezTo>
                  <a:pt x="7650" y="5293"/>
                  <a:pt x="7745" y="5293"/>
                  <a:pt x="7789" y="5283"/>
                </a:cubicBezTo>
                <a:cubicBezTo>
                  <a:pt x="7865" y="5265"/>
                  <a:pt x="7895" y="5187"/>
                  <a:pt x="7938" y="5135"/>
                </a:cubicBezTo>
                <a:cubicBezTo>
                  <a:pt x="8000" y="5061"/>
                  <a:pt x="8008" y="5021"/>
                  <a:pt x="8037" y="4936"/>
                </a:cubicBezTo>
                <a:cubicBezTo>
                  <a:pt x="8055" y="4881"/>
                  <a:pt x="8056" y="4866"/>
                  <a:pt x="8062" y="4812"/>
                </a:cubicBezTo>
                <a:cubicBezTo>
                  <a:pt x="8062" y="4925"/>
                  <a:pt x="8018" y="5140"/>
                  <a:pt x="8086" y="5234"/>
                </a:cubicBezTo>
                <a:cubicBezTo>
                  <a:pt x="8126" y="5289"/>
                  <a:pt x="8133" y="5287"/>
                  <a:pt x="8186" y="5234"/>
                </a:cubicBezTo>
              </a:path>
              <a:path w="6624" h="2357">
                <a:moveTo>
                  <a:pt x="8434" y="5184"/>
                </a:moveTo>
                <a:cubicBezTo>
                  <a:pt x="8428" y="5288"/>
                  <a:pt x="8409" y="5379"/>
                  <a:pt x="8409" y="5482"/>
                </a:cubicBezTo>
                <a:cubicBezTo>
                  <a:pt x="8409" y="5540"/>
                  <a:pt x="8381" y="5620"/>
                  <a:pt x="8434" y="5531"/>
                </a:cubicBezTo>
              </a:path>
              <a:path w="6624" h="2357">
                <a:moveTo>
                  <a:pt x="9178" y="4192"/>
                </a:moveTo>
                <a:cubicBezTo>
                  <a:pt x="9178" y="4292"/>
                  <a:pt x="9174" y="4394"/>
                  <a:pt x="9153" y="4490"/>
                </a:cubicBezTo>
                <a:cubicBezTo>
                  <a:pt x="9124" y="4619"/>
                  <a:pt x="9109" y="4755"/>
                  <a:pt x="9103" y="4887"/>
                </a:cubicBezTo>
                <a:cubicBezTo>
                  <a:pt x="9100" y="4954"/>
                  <a:pt x="9137" y="5006"/>
                  <a:pt x="9153" y="5060"/>
                </a:cubicBezTo>
                <a:cubicBezTo>
                  <a:pt x="9153" y="5095"/>
                  <a:pt x="9148" y="5094"/>
                  <a:pt x="9128" y="5035"/>
                </a:cubicBezTo>
              </a:path>
              <a:path w="6624" h="2357">
                <a:moveTo>
                  <a:pt x="8806" y="4614"/>
                </a:moveTo>
                <a:cubicBezTo>
                  <a:pt x="8985" y="4591"/>
                  <a:pt x="9146" y="4589"/>
                  <a:pt x="9327" y="4589"/>
                </a:cubicBezTo>
              </a:path>
              <a:path w="6624" h="2357">
                <a:moveTo>
                  <a:pt x="10344" y="4490"/>
                </a:moveTo>
                <a:cubicBezTo>
                  <a:pt x="10349" y="4444"/>
                  <a:pt x="10344" y="4421"/>
                  <a:pt x="10294" y="4341"/>
                </a:cubicBezTo>
                <a:cubicBezTo>
                  <a:pt x="10277" y="4313"/>
                  <a:pt x="10264" y="4224"/>
                  <a:pt x="10220" y="4217"/>
                </a:cubicBezTo>
                <a:cubicBezTo>
                  <a:pt x="10117" y="4200"/>
                  <a:pt x="10107" y="4231"/>
                  <a:pt x="10046" y="4291"/>
                </a:cubicBezTo>
                <a:cubicBezTo>
                  <a:pt x="9972" y="4365"/>
                  <a:pt x="9946" y="4450"/>
                  <a:pt x="9897" y="4539"/>
                </a:cubicBezTo>
                <a:cubicBezTo>
                  <a:pt x="9830" y="4659"/>
                  <a:pt x="9824" y="4731"/>
                  <a:pt x="9798" y="4862"/>
                </a:cubicBezTo>
                <a:cubicBezTo>
                  <a:pt x="9784" y="4932"/>
                  <a:pt x="9781" y="5025"/>
                  <a:pt x="9847" y="5085"/>
                </a:cubicBezTo>
                <a:cubicBezTo>
                  <a:pt x="9869" y="5104"/>
                  <a:pt x="9962" y="5120"/>
                  <a:pt x="9996" y="5110"/>
                </a:cubicBezTo>
                <a:cubicBezTo>
                  <a:pt x="10087" y="5083"/>
                  <a:pt x="10116" y="5026"/>
                  <a:pt x="10170" y="4961"/>
                </a:cubicBezTo>
                <a:cubicBezTo>
                  <a:pt x="10229" y="4890"/>
                  <a:pt x="10277" y="4846"/>
                  <a:pt x="10319" y="4762"/>
                </a:cubicBezTo>
                <a:cubicBezTo>
                  <a:pt x="10347" y="4706"/>
                  <a:pt x="10344" y="4699"/>
                  <a:pt x="10344" y="4638"/>
                </a:cubicBezTo>
                <a:cubicBezTo>
                  <a:pt x="10344" y="4694"/>
                  <a:pt x="10326" y="4736"/>
                  <a:pt x="10319" y="4787"/>
                </a:cubicBezTo>
                <a:cubicBezTo>
                  <a:pt x="10307" y="4876"/>
                  <a:pt x="10331" y="4954"/>
                  <a:pt x="10344" y="5035"/>
                </a:cubicBezTo>
                <a:cubicBezTo>
                  <a:pt x="10350" y="5076"/>
                  <a:pt x="10354" y="5160"/>
                  <a:pt x="10393" y="5184"/>
                </a:cubicBezTo>
                <a:cubicBezTo>
                  <a:pt x="10421" y="5184"/>
                  <a:pt x="10432" y="5182"/>
                  <a:pt x="10443" y="5159"/>
                </a:cubicBezTo>
              </a:path>
              <a:path w="6624" h="2357">
                <a:moveTo>
                  <a:pt x="10592" y="5209"/>
                </a:moveTo>
                <a:cubicBezTo>
                  <a:pt x="10592" y="5285"/>
                  <a:pt x="10604" y="5284"/>
                  <a:pt x="10567" y="5333"/>
                </a:cubicBezTo>
                <a:cubicBezTo>
                  <a:pt x="10567" y="5242"/>
                  <a:pt x="10574" y="5220"/>
                  <a:pt x="10616" y="5110"/>
                </a:cubicBezTo>
                <a:cubicBezTo>
                  <a:pt x="10644" y="5035"/>
                  <a:pt x="10686" y="4969"/>
                  <a:pt x="10740" y="4911"/>
                </a:cubicBezTo>
                <a:cubicBezTo>
                  <a:pt x="10790" y="4857"/>
                  <a:pt x="10824" y="4896"/>
                  <a:pt x="10864" y="4936"/>
                </a:cubicBezTo>
                <a:cubicBezTo>
                  <a:pt x="10899" y="4972"/>
                  <a:pt x="10948" y="5036"/>
                  <a:pt x="10964" y="5085"/>
                </a:cubicBezTo>
                <a:cubicBezTo>
                  <a:pt x="10978" y="5128"/>
                  <a:pt x="11003" y="5149"/>
                  <a:pt x="11038" y="5184"/>
                </a:cubicBezTo>
                <a:cubicBezTo>
                  <a:pt x="11088" y="5134"/>
                  <a:pt x="11088" y="5101"/>
                  <a:pt x="11112" y="5035"/>
                </a:cubicBezTo>
              </a:path>
              <a:path w="6624" h="2357">
                <a:moveTo>
                  <a:pt x="11162" y="3225"/>
                </a:moveTo>
                <a:cubicBezTo>
                  <a:pt x="11264" y="3300"/>
                  <a:pt x="11345" y="3402"/>
                  <a:pt x="11435" y="3497"/>
                </a:cubicBezTo>
                <a:cubicBezTo>
                  <a:pt x="11586" y="3658"/>
                  <a:pt x="11666" y="3821"/>
                  <a:pt x="11757" y="4018"/>
                </a:cubicBezTo>
                <a:cubicBezTo>
                  <a:pt x="11848" y="4213"/>
                  <a:pt x="11913" y="4396"/>
                  <a:pt x="11931" y="4614"/>
                </a:cubicBezTo>
                <a:cubicBezTo>
                  <a:pt x="11942" y="4753"/>
                  <a:pt x="11914" y="4956"/>
                  <a:pt x="11857" y="5085"/>
                </a:cubicBezTo>
                <a:cubicBezTo>
                  <a:pt x="11821" y="5167"/>
                  <a:pt x="11724" y="5297"/>
                  <a:pt x="11658" y="5358"/>
                </a:cubicBezTo>
                <a:cubicBezTo>
                  <a:pt x="11584" y="5407"/>
                  <a:pt x="11559" y="5424"/>
                  <a:pt x="11509" y="545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714680" y="2197080"/>
            <a:ext cx="3233520" cy="1071720"/>
          </a:xfrm>
          <a:custGeom>
            <a:avLst/>
            <a:gdLst/>
            <a:ahLst/>
            <a:rect l="l" t="t" r="r" b="b"/>
            <a:pathLst>
              <a:path w="8981" h="2978">
                <a:moveTo>
                  <a:pt x="5159" y="6375"/>
                </a:moveTo>
                <a:cubicBezTo>
                  <a:pt x="5135" y="6375"/>
                  <a:pt x="5127" y="6375"/>
                  <a:pt x="5135" y="6350"/>
                </a:cubicBezTo>
                <a:cubicBezTo>
                  <a:pt x="5135" y="6652"/>
                  <a:pt x="5164" y="6985"/>
                  <a:pt x="5110" y="7268"/>
                </a:cubicBezTo>
                <a:cubicBezTo>
                  <a:pt x="5108" y="7277"/>
                  <a:pt x="5110" y="7434"/>
                  <a:pt x="5110" y="7367"/>
                </a:cubicBezTo>
                <a:cubicBezTo>
                  <a:pt x="5110" y="7319"/>
                  <a:pt x="5112" y="7306"/>
                  <a:pt x="5135" y="7268"/>
                </a:cubicBezTo>
              </a:path>
              <a:path w="8981" h="2978">
                <a:moveTo>
                  <a:pt x="5581" y="6424"/>
                </a:moveTo>
                <a:cubicBezTo>
                  <a:pt x="5562" y="6494"/>
                  <a:pt x="5540" y="6579"/>
                  <a:pt x="5531" y="6648"/>
                </a:cubicBezTo>
                <a:cubicBezTo>
                  <a:pt x="5519" y="6741"/>
                  <a:pt x="5507" y="6824"/>
                  <a:pt x="5507" y="6921"/>
                </a:cubicBezTo>
                <a:cubicBezTo>
                  <a:pt x="5507" y="7042"/>
                  <a:pt x="5513" y="7154"/>
                  <a:pt x="5531" y="7268"/>
                </a:cubicBezTo>
                <a:cubicBezTo>
                  <a:pt x="5541" y="7334"/>
                  <a:pt x="5560" y="7387"/>
                  <a:pt x="5631" y="7417"/>
                </a:cubicBezTo>
                <a:cubicBezTo>
                  <a:pt x="5679" y="7437"/>
                  <a:pt x="5744" y="7396"/>
                  <a:pt x="5779" y="7367"/>
                </a:cubicBezTo>
                <a:cubicBezTo>
                  <a:pt x="5834" y="7322"/>
                  <a:pt x="5906" y="7230"/>
                  <a:pt x="5928" y="7169"/>
                </a:cubicBezTo>
                <a:cubicBezTo>
                  <a:pt x="5961" y="7080"/>
                  <a:pt x="5969" y="6941"/>
                  <a:pt x="5953" y="6846"/>
                </a:cubicBezTo>
                <a:cubicBezTo>
                  <a:pt x="5931" y="6719"/>
                  <a:pt x="5848" y="6657"/>
                  <a:pt x="5779" y="6573"/>
                </a:cubicBezTo>
                <a:cubicBezTo>
                  <a:pt x="5739" y="6524"/>
                  <a:pt x="5699" y="6472"/>
                  <a:pt x="5631" y="6449"/>
                </a:cubicBezTo>
                <a:cubicBezTo>
                  <a:pt x="5615" y="6444"/>
                  <a:pt x="5527" y="6441"/>
                  <a:pt x="5531" y="6474"/>
                </a:cubicBezTo>
                <a:cubicBezTo>
                  <a:pt x="5539" y="6482"/>
                  <a:pt x="5548" y="6491"/>
                  <a:pt x="5556" y="6499"/>
                </a:cubicBezTo>
              </a:path>
              <a:path w="8981" h="2978">
                <a:moveTo>
                  <a:pt x="6350" y="6499"/>
                </a:moveTo>
                <a:cubicBezTo>
                  <a:pt x="6297" y="6581"/>
                  <a:pt x="6288" y="6639"/>
                  <a:pt x="6251" y="6722"/>
                </a:cubicBezTo>
                <a:cubicBezTo>
                  <a:pt x="6212" y="6809"/>
                  <a:pt x="6186" y="6902"/>
                  <a:pt x="6176" y="6995"/>
                </a:cubicBezTo>
                <a:cubicBezTo>
                  <a:pt x="6165" y="7094"/>
                  <a:pt x="6187" y="7174"/>
                  <a:pt x="6201" y="7268"/>
                </a:cubicBezTo>
                <a:cubicBezTo>
                  <a:pt x="6208" y="7320"/>
                  <a:pt x="6239" y="7396"/>
                  <a:pt x="6300" y="7417"/>
                </a:cubicBezTo>
                <a:cubicBezTo>
                  <a:pt x="6383" y="7445"/>
                  <a:pt x="6439" y="7404"/>
                  <a:pt x="6499" y="7367"/>
                </a:cubicBezTo>
                <a:cubicBezTo>
                  <a:pt x="6610" y="7298"/>
                  <a:pt x="6670" y="7211"/>
                  <a:pt x="6722" y="7094"/>
                </a:cubicBezTo>
                <a:cubicBezTo>
                  <a:pt x="6756" y="7018"/>
                  <a:pt x="6766" y="6879"/>
                  <a:pt x="6747" y="6796"/>
                </a:cubicBezTo>
                <a:cubicBezTo>
                  <a:pt x="6732" y="6729"/>
                  <a:pt x="6653" y="6615"/>
                  <a:pt x="6598" y="6573"/>
                </a:cubicBezTo>
                <a:cubicBezTo>
                  <a:pt x="6519" y="6513"/>
                  <a:pt x="6424" y="6448"/>
                  <a:pt x="6325" y="6424"/>
                </a:cubicBezTo>
                <a:cubicBezTo>
                  <a:pt x="6258" y="6408"/>
                  <a:pt x="6211" y="6434"/>
                  <a:pt x="6152" y="6449"/>
                </a:cubicBezTo>
                <a:cubicBezTo>
                  <a:pt x="6144" y="6449"/>
                  <a:pt x="6135" y="6449"/>
                  <a:pt x="6127" y="6449"/>
                </a:cubicBezTo>
              </a:path>
              <a:path w="8981" h="2978">
                <a:moveTo>
                  <a:pt x="4762" y="7590"/>
                </a:moveTo>
                <a:cubicBezTo>
                  <a:pt x="4857" y="7599"/>
                  <a:pt x="4936" y="7615"/>
                  <a:pt x="5035" y="7615"/>
                </a:cubicBezTo>
                <a:cubicBezTo>
                  <a:pt x="5442" y="7615"/>
                  <a:pt x="5848" y="7617"/>
                  <a:pt x="6251" y="7640"/>
                </a:cubicBezTo>
                <a:cubicBezTo>
                  <a:pt x="6412" y="7649"/>
                  <a:pt x="6564" y="7647"/>
                  <a:pt x="6722" y="7665"/>
                </a:cubicBezTo>
                <a:cubicBezTo>
                  <a:pt x="6774" y="7671"/>
                  <a:pt x="6822" y="7651"/>
                  <a:pt x="6871" y="7640"/>
                </a:cubicBezTo>
                <a:cubicBezTo>
                  <a:pt x="6830" y="7640"/>
                  <a:pt x="6788" y="7640"/>
                  <a:pt x="6747" y="7640"/>
                </a:cubicBezTo>
              </a:path>
              <a:path w="8981" h="2978">
                <a:moveTo>
                  <a:pt x="5407" y="8111"/>
                </a:moveTo>
                <a:cubicBezTo>
                  <a:pt x="5460" y="8081"/>
                  <a:pt x="5514" y="8071"/>
                  <a:pt x="5556" y="8037"/>
                </a:cubicBezTo>
                <a:cubicBezTo>
                  <a:pt x="5596" y="8005"/>
                  <a:pt x="5653" y="7989"/>
                  <a:pt x="5705" y="7987"/>
                </a:cubicBezTo>
                <a:cubicBezTo>
                  <a:pt x="5774" y="7984"/>
                  <a:pt x="5824" y="8001"/>
                  <a:pt x="5879" y="8012"/>
                </a:cubicBezTo>
                <a:cubicBezTo>
                  <a:pt x="5926" y="8022"/>
                  <a:pt x="5967" y="8031"/>
                  <a:pt x="5978" y="8086"/>
                </a:cubicBezTo>
                <a:cubicBezTo>
                  <a:pt x="5990" y="8145"/>
                  <a:pt x="5962" y="8189"/>
                  <a:pt x="5928" y="8235"/>
                </a:cubicBezTo>
                <a:cubicBezTo>
                  <a:pt x="5885" y="8294"/>
                  <a:pt x="5834" y="8363"/>
                  <a:pt x="5779" y="8409"/>
                </a:cubicBezTo>
                <a:cubicBezTo>
                  <a:pt x="5721" y="8458"/>
                  <a:pt x="5619" y="8520"/>
                  <a:pt x="5581" y="8558"/>
                </a:cubicBezTo>
                <a:cubicBezTo>
                  <a:pt x="5534" y="8605"/>
                  <a:pt x="5447" y="8684"/>
                  <a:pt x="5407" y="8731"/>
                </a:cubicBezTo>
                <a:cubicBezTo>
                  <a:pt x="5362" y="8784"/>
                  <a:pt x="5307" y="8818"/>
                  <a:pt x="5259" y="8855"/>
                </a:cubicBezTo>
                <a:cubicBezTo>
                  <a:pt x="5313" y="8819"/>
                  <a:pt x="5320" y="8831"/>
                  <a:pt x="5383" y="8806"/>
                </a:cubicBezTo>
                <a:cubicBezTo>
                  <a:pt x="5474" y="8770"/>
                  <a:pt x="5517" y="8799"/>
                  <a:pt x="5606" y="8806"/>
                </a:cubicBezTo>
                <a:cubicBezTo>
                  <a:pt x="5733" y="8816"/>
                  <a:pt x="5808" y="8855"/>
                  <a:pt x="5928" y="8855"/>
                </a:cubicBezTo>
                <a:cubicBezTo>
                  <a:pt x="5950" y="8855"/>
                  <a:pt x="6062" y="8900"/>
                  <a:pt x="6077" y="8880"/>
                </a:cubicBezTo>
                <a:cubicBezTo>
                  <a:pt x="6101" y="8846"/>
                  <a:pt x="6053" y="8839"/>
                  <a:pt x="6077" y="8806"/>
                </a:cubicBezTo>
                <a:cubicBezTo>
                  <a:pt x="6102" y="8781"/>
                  <a:pt x="6127" y="8756"/>
                  <a:pt x="6152" y="8731"/>
                </a:cubicBezTo>
              </a:path>
              <a:path w="8981" h="2978">
                <a:moveTo>
                  <a:pt x="7714" y="6102"/>
                </a:moveTo>
                <a:cubicBezTo>
                  <a:pt x="7680" y="6127"/>
                  <a:pt x="7665" y="6133"/>
                  <a:pt x="7640" y="6176"/>
                </a:cubicBezTo>
                <a:cubicBezTo>
                  <a:pt x="7594" y="6255"/>
                  <a:pt x="7582" y="6345"/>
                  <a:pt x="7541" y="6424"/>
                </a:cubicBezTo>
                <a:cubicBezTo>
                  <a:pt x="7475" y="6552"/>
                  <a:pt x="7423" y="6685"/>
                  <a:pt x="7367" y="6821"/>
                </a:cubicBezTo>
                <a:cubicBezTo>
                  <a:pt x="7294" y="6998"/>
                  <a:pt x="7213" y="7155"/>
                  <a:pt x="7169" y="7342"/>
                </a:cubicBezTo>
                <a:cubicBezTo>
                  <a:pt x="7113" y="7581"/>
                  <a:pt x="7119" y="7818"/>
                  <a:pt x="7119" y="8062"/>
                </a:cubicBezTo>
                <a:cubicBezTo>
                  <a:pt x="7119" y="8224"/>
                  <a:pt x="7146" y="8343"/>
                  <a:pt x="7218" y="8483"/>
                </a:cubicBezTo>
                <a:cubicBezTo>
                  <a:pt x="7263" y="8569"/>
                  <a:pt x="7303" y="8712"/>
                  <a:pt x="7367" y="8781"/>
                </a:cubicBezTo>
                <a:cubicBezTo>
                  <a:pt x="7403" y="8820"/>
                  <a:pt x="7450" y="8893"/>
                  <a:pt x="7491" y="8930"/>
                </a:cubicBezTo>
                <a:cubicBezTo>
                  <a:pt x="7499" y="8930"/>
                  <a:pt x="7508" y="8930"/>
                  <a:pt x="7516" y="8930"/>
                </a:cubicBezTo>
              </a:path>
              <a:path w="8981" h="2978">
                <a:moveTo>
                  <a:pt x="8359" y="6821"/>
                </a:moveTo>
                <a:cubicBezTo>
                  <a:pt x="8385" y="6916"/>
                  <a:pt x="8384" y="6994"/>
                  <a:pt x="8384" y="7094"/>
                </a:cubicBezTo>
                <a:cubicBezTo>
                  <a:pt x="8384" y="7303"/>
                  <a:pt x="8374" y="7508"/>
                  <a:pt x="8359" y="7714"/>
                </a:cubicBezTo>
                <a:cubicBezTo>
                  <a:pt x="8348" y="7862"/>
                  <a:pt x="8338" y="8013"/>
                  <a:pt x="8334" y="8161"/>
                </a:cubicBezTo>
                <a:cubicBezTo>
                  <a:pt x="8331" y="8280"/>
                  <a:pt x="8307" y="8448"/>
                  <a:pt x="8359" y="8558"/>
                </a:cubicBezTo>
                <a:cubicBezTo>
                  <a:pt x="8385" y="8613"/>
                  <a:pt x="8376" y="8556"/>
                  <a:pt x="8384" y="8558"/>
                </a:cubicBezTo>
              </a:path>
              <a:path w="8981" h="2978">
                <a:moveTo>
                  <a:pt x="9674" y="7218"/>
                </a:moveTo>
                <a:cubicBezTo>
                  <a:pt x="9674" y="7331"/>
                  <a:pt x="9662" y="7432"/>
                  <a:pt x="9649" y="7541"/>
                </a:cubicBezTo>
                <a:cubicBezTo>
                  <a:pt x="9637" y="7647"/>
                  <a:pt x="9635" y="7758"/>
                  <a:pt x="9624" y="7863"/>
                </a:cubicBezTo>
                <a:cubicBezTo>
                  <a:pt x="9614" y="7963"/>
                  <a:pt x="9604" y="8062"/>
                  <a:pt x="9599" y="8161"/>
                </a:cubicBezTo>
                <a:cubicBezTo>
                  <a:pt x="9598" y="8178"/>
                  <a:pt x="9551" y="8313"/>
                  <a:pt x="9550" y="8310"/>
                </a:cubicBezTo>
                <a:cubicBezTo>
                  <a:pt x="9550" y="8293"/>
                  <a:pt x="9550" y="8277"/>
                  <a:pt x="9550" y="8260"/>
                </a:cubicBezTo>
              </a:path>
              <a:path w="8981" h="2978">
                <a:moveTo>
                  <a:pt x="9252" y="7665"/>
                </a:moveTo>
                <a:cubicBezTo>
                  <a:pt x="9398" y="7671"/>
                  <a:pt x="9528" y="7689"/>
                  <a:pt x="9674" y="7689"/>
                </a:cubicBezTo>
                <a:cubicBezTo>
                  <a:pt x="9843" y="7689"/>
                  <a:pt x="10004" y="7698"/>
                  <a:pt x="10170" y="7714"/>
                </a:cubicBezTo>
                <a:cubicBezTo>
                  <a:pt x="10224" y="7719"/>
                  <a:pt x="10377" y="7729"/>
                  <a:pt x="10418" y="7689"/>
                </a:cubicBezTo>
                <a:cubicBezTo>
                  <a:pt x="10418" y="7681"/>
                  <a:pt x="10418" y="7673"/>
                  <a:pt x="10418" y="7665"/>
                </a:cubicBezTo>
                <a:cubicBezTo>
                  <a:pt x="10380" y="7652"/>
                  <a:pt x="10397" y="7640"/>
                  <a:pt x="10344" y="7640"/>
                </a:cubicBezTo>
                <a:cubicBezTo>
                  <a:pt x="10336" y="7640"/>
                  <a:pt x="10327" y="7640"/>
                  <a:pt x="10319" y="7640"/>
                </a:cubicBezTo>
              </a:path>
              <a:path w="8981" h="2978">
                <a:moveTo>
                  <a:pt x="11361" y="6970"/>
                </a:moveTo>
                <a:cubicBezTo>
                  <a:pt x="11361" y="7098"/>
                  <a:pt x="11348" y="7219"/>
                  <a:pt x="11336" y="7342"/>
                </a:cubicBezTo>
                <a:cubicBezTo>
                  <a:pt x="11320" y="7514"/>
                  <a:pt x="11325" y="7692"/>
                  <a:pt x="11311" y="7863"/>
                </a:cubicBezTo>
                <a:cubicBezTo>
                  <a:pt x="11300" y="7988"/>
                  <a:pt x="11291" y="8111"/>
                  <a:pt x="11286" y="8235"/>
                </a:cubicBezTo>
                <a:cubicBezTo>
                  <a:pt x="11284" y="8295"/>
                  <a:pt x="11210" y="8440"/>
                  <a:pt x="11261" y="8409"/>
                </a:cubicBezTo>
                <a:cubicBezTo>
                  <a:pt x="11281" y="8368"/>
                  <a:pt x="11290" y="8362"/>
                  <a:pt x="11286" y="8334"/>
                </a:cubicBezTo>
              </a:path>
              <a:path w="8981" h="2978">
                <a:moveTo>
                  <a:pt x="11782" y="7317"/>
                </a:moveTo>
                <a:cubicBezTo>
                  <a:pt x="11794" y="7342"/>
                  <a:pt x="11821" y="7352"/>
                  <a:pt x="11807" y="7417"/>
                </a:cubicBezTo>
                <a:cubicBezTo>
                  <a:pt x="11785" y="7517"/>
                  <a:pt x="11775" y="7614"/>
                  <a:pt x="11757" y="7714"/>
                </a:cubicBezTo>
                <a:cubicBezTo>
                  <a:pt x="11726" y="7884"/>
                  <a:pt x="11702" y="8065"/>
                  <a:pt x="11733" y="8235"/>
                </a:cubicBezTo>
                <a:cubicBezTo>
                  <a:pt x="11750" y="8329"/>
                  <a:pt x="11802" y="8372"/>
                  <a:pt x="11857" y="8409"/>
                </a:cubicBezTo>
                <a:cubicBezTo>
                  <a:pt x="11900" y="8438"/>
                  <a:pt x="11982" y="8438"/>
                  <a:pt x="12030" y="8409"/>
                </a:cubicBezTo>
                <a:cubicBezTo>
                  <a:pt x="12108" y="8361"/>
                  <a:pt x="12171" y="8316"/>
                  <a:pt x="12204" y="8235"/>
                </a:cubicBezTo>
                <a:cubicBezTo>
                  <a:pt x="12248" y="8127"/>
                  <a:pt x="12274" y="8028"/>
                  <a:pt x="12278" y="7913"/>
                </a:cubicBezTo>
                <a:cubicBezTo>
                  <a:pt x="12282" y="7799"/>
                  <a:pt x="12268" y="7698"/>
                  <a:pt x="12229" y="7590"/>
                </a:cubicBezTo>
                <a:cubicBezTo>
                  <a:pt x="12194" y="7493"/>
                  <a:pt x="12150" y="7418"/>
                  <a:pt x="12080" y="7342"/>
                </a:cubicBezTo>
                <a:cubicBezTo>
                  <a:pt x="12034" y="7292"/>
                  <a:pt x="11975" y="7234"/>
                  <a:pt x="11906" y="7218"/>
                </a:cubicBezTo>
                <a:cubicBezTo>
                  <a:pt x="11863" y="7208"/>
                  <a:pt x="11802" y="7218"/>
                  <a:pt x="11757" y="7218"/>
                </a:cubicBezTo>
              </a:path>
              <a:path w="8981" h="2978">
                <a:moveTo>
                  <a:pt x="12526" y="7590"/>
                </a:moveTo>
                <a:cubicBezTo>
                  <a:pt x="12493" y="7724"/>
                  <a:pt x="12457" y="7850"/>
                  <a:pt x="12452" y="7987"/>
                </a:cubicBezTo>
                <a:cubicBezTo>
                  <a:pt x="12448" y="8097"/>
                  <a:pt x="12457" y="8184"/>
                  <a:pt x="12502" y="8285"/>
                </a:cubicBezTo>
                <a:cubicBezTo>
                  <a:pt x="12543" y="8377"/>
                  <a:pt x="12590" y="8432"/>
                  <a:pt x="12675" y="8483"/>
                </a:cubicBezTo>
                <a:cubicBezTo>
                  <a:pt x="12729" y="8515"/>
                  <a:pt x="12836" y="8523"/>
                  <a:pt x="12898" y="8508"/>
                </a:cubicBezTo>
                <a:cubicBezTo>
                  <a:pt x="13004" y="8483"/>
                  <a:pt x="13001" y="8456"/>
                  <a:pt x="13047" y="8359"/>
                </a:cubicBezTo>
                <a:cubicBezTo>
                  <a:pt x="13082" y="8286"/>
                  <a:pt x="13077" y="8161"/>
                  <a:pt x="13047" y="8086"/>
                </a:cubicBezTo>
                <a:cubicBezTo>
                  <a:pt x="12998" y="7964"/>
                  <a:pt x="12884" y="7833"/>
                  <a:pt x="12799" y="7739"/>
                </a:cubicBezTo>
                <a:cubicBezTo>
                  <a:pt x="12763" y="7698"/>
                  <a:pt x="12621" y="7603"/>
                  <a:pt x="12626" y="7541"/>
                </a:cubicBezTo>
                <a:cubicBezTo>
                  <a:pt x="12654" y="7512"/>
                  <a:pt x="12662" y="7499"/>
                  <a:pt x="12650" y="7466"/>
                </a:cubicBezTo>
              </a:path>
              <a:path w="8981" h="2978">
                <a:moveTo>
                  <a:pt x="12799" y="6152"/>
                </a:moveTo>
                <a:cubicBezTo>
                  <a:pt x="12883" y="6167"/>
                  <a:pt x="12875" y="6174"/>
                  <a:pt x="12948" y="6226"/>
                </a:cubicBezTo>
                <a:cubicBezTo>
                  <a:pt x="13057" y="6303"/>
                  <a:pt x="13139" y="6417"/>
                  <a:pt x="13221" y="6524"/>
                </a:cubicBezTo>
                <a:cubicBezTo>
                  <a:pt x="13380" y="6730"/>
                  <a:pt x="13499" y="6976"/>
                  <a:pt x="13593" y="7218"/>
                </a:cubicBezTo>
                <a:cubicBezTo>
                  <a:pt x="13670" y="7416"/>
                  <a:pt x="13734" y="7628"/>
                  <a:pt x="13742" y="7838"/>
                </a:cubicBezTo>
                <a:cubicBezTo>
                  <a:pt x="13749" y="8027"/>
                  <a:pt x="13712" y="8188"/>
                  <a:pt x="13643" y="8359"/>
                </a:cubicBezTo>
                <a:cubicBezTo>
                  <a:pt x="13565" y="8551"/>
                  <a:pt x="13461" y="8709"/>
                  <a:pt x="13320" y="8855"/>
                </a:cubicBezTo>
                <a:cubicBezTo>
                  <a:pt x="13221" y="8957"/>
                  <a:pt x="13117" y="9009"/>
                  <a:pt x="12998" y="907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2536920" y="3911760"/>
            <a:ext cx="1187280" cy="606240"/>
          </a:xfrm>
          <a:custGeom>
            <a:avLst/>
            <a:gdLst/>
            <a:ahLst/>
            <a:rect l="l" t="t" r="r" b="b"/>
            <a:pathLst>
              <a:path w="3300" h="1688">
                <a:moveTo>
                  <a:pt x="7144" y="10914"/>
                </a:moveTo>
                <a:cubicBezTo>
                  <a:pt x="7365" y="10914"/>
                  <a:pt x="7603" y="10938"/>
                  <a:pt x="7813" y="10889"/>
                </a:cubicBezTo>
                <a:cubicBezTo>
                  <a:pt x="7838" y="10889"/>
                  <a:pt x="7846" y="10889"/>
                  <a:pt x="7838" y="10864"/>
                </a:cubicBezTo>
              </a:path>
              <a:path w="3300" h="1688">
                <a:moveTo>
                  <a:pt x="7144" y="10914"/>
                </a:moveTo>
                <a:cubicBezTo>
                  <a:pt x="7105" y="11005"/>
                  <a:pt x="7097" y="11074"/>
                  <a:pt x="7069" y="11162"/>
                </a:cubicBezTo>
                <a:cubicBezTo>
                  <a:pt x="7052" y="11216"/>
                  <a:pt x="7048" y="11232"/>
                  <a:pt x="7045" y="11286"/>
                </a:cubicBezTo>
                <a:cubicBezTo>
                  <a:pt x="7045" y="11311"/>
                  <a:pt x="7045" y="11319"/>
                  <a:pt x="7045" y="11336"/>
                </a:cubicBezTo>
                <a:cubicBezTo>
                  <a:pt x="7065" y="11316"/>
                  <a:pt x="7110" y="11271"/>
                  <a:pt x="7144" y="11237"/>
                </a:cubicBezTo>
                <a:cubicBezTo>
                  <a:pt x="7174" y="11207"/>
                  <a:pt x="7213" y="11208"/>
                  <a:pt x="7243" y="11187"/>
                </a:cubicBezTo>
                <a:cubicBezTo>
                  <a:pt x="7292" y="11153"/>
                  <a:pt x="7308" y="11167"/>
                  <a:pt x="7367" y="11187"/>
                </a:cubicBezTo>
                <a:cubicBezTo>
                  <a:pt x="7448" y="11214"/>
                  <a:pt x="7492" y="11270"/>
                  <a:pt x="7541" y="11336"/>
                </a:cubicBezTo>
                <a:cubicBezTo>
                  <a:pt x="7607" y="11425"/>
                  <a:pt x="7669" y="11496"/>
                  <a:pt x="7689" y="11609"/>
                </a:cubicBezTo>
                <a:cubicBezTo>
                  <a:pt x="7702" y="11684"/>
                  <a:pt x="7683" y="11793"/>
                  <a:pt x="7640" y="11857"/>
                </a:cubicBezTo>
                <a:cubicBezTo>
                  <a:pt x="7591" y="11931"/>
                  <a:pt x="7504" y="11989"/>
                  <a:pt x="7417" y="12005"/>
                </a:cubicBezTo>
                <a:cubicBezTo>
                  <a:pt x="7349" y="12018"/>
                  <a:pt x="7273" y="12010"/>
                  <a:pt x="7218" y="11981"/>
                </a:cubicBezTo>
                <a:cubicBezTo>
                  <a:pt x="7168" y="11954"/>
                  <a:pt x="7109" y="11918"/>
                  <a:pt x="7094" y="11857"/>
                </a:cubicBezTo>
                <a:cubicBezTo>
                  <a:pt x="7094" y="11807"/>
                  <a:pt x="7094" y="11790"/>
                  <a:pt x="7094" y="11757"/>
                </a:cubicBezTo>
              </a:path>
              <a:path w="3300" h="1688">
                <a:moveTo>
                  <a:pt x="8086" y="11361"/>
                </a:moveTo>
                <a:cubicBezTo>
                  <a:pt x="8055" y="11464"/>
                  <a:pt x="8022" y="11577"/>
                  <a:pt x="8012" y="11683"/>
                </a:cubicBezTo>
                <a:cubicBezTo>
                  <a:pt x="8002" y="11791"/>
                  <a:pt x="8036" y="11933"/>
                  <a:pt x="8086" y="12030"/>
                </a:cubicBezTo>
                <a:cubicBezTo>
                  <a:pt x="8138" y="12131"/>
                  <a:pt x="8191" y="12144"/>
                  <a:pt x="8285" y="12179"/>
                </a:cubicBezTo>
                <a:cubicBezTo>
                  <a:pt x="8350" y="12203"/>
                  <a:pt x="8453" y="12188"/>
                  <a:pt x="8508" y="12129"/>
                </a:cubicBezTo>
                <a:cubicBezTo>
                  <a:pt x="8571" y="12062"/>
                  <a:pt x="8612" y="11919"/>
                  <a:pt x="8607" y="11832"/>
                </a:cubicBezTo>
                <a:cubicBezTo>
                  <a:pt x="8600" y="11724"/>
                  <a:pt x="8546" y="11575"/>
                  <a:pt x="8483" y="11485"/>
                </a:cubicBezTo>
                <a:cubicBezTo>
                  <a:pt x="8416" y="11390"/>
                  <a:pt x="8299" y="11326"/>
                  <a:pt x="8210" y="11261"/>
                </a:cubicBezTo>
                <a:cubicBezTo>
                  <a:pt x="8195" y="11250"/>
                  <a:pt x="8129" y="11187"/>
                  <a:pt x="8161" y="11162"/>
                </a:cubicBezTo>
                <a:cubicBezTo>
                  <a:pt x="8169" y="11162"/>
                  <a:pt x="8178" y="11162"/>
                  <a:pt x="8186" y="11162"/>
                </a:cubicBezTo>
              </a:path>
              <a:path w="3300" h="1688">
                <a:moveTo>
                  <a:pt x="8806" y="11063"/>
                </a:moveTo>
                <a:cubicBezTo>
                  <a:pt x="8921" y="11071"/>
                  <a:pt x="9008" y="11088"/>
                  <a:pt x="9128" y="11088"/>
                </a:cubicBezTo>
                <a:cubicBezTo>
                  <a:pt x="9202" y="11088"/>
                  <a:pt x="9265" y="11079"/>
                  <a:pt x="9302" y="11063"/>
                </a:cubicBezTo>
                <a:cubicBezTo>
                  <a:pt x="9310" y="11063"/>
                  <a:pt x="9319" y="11063"/>
                  <a:pt x="9327" y="11063"/>
                </a:cubicBezTo>
              </a:path>
              <a:path w="3300" h="1688">
                <a:moveTo>
                  <a:pt x="8731" y="11187"/>
                </a:moveTo>
                <a:cubicBezTo>
                  <a:pt x="8721" y="11257"/>
                  <a:pt x="8604" y="11493"/>
                  <a:pt x="8756" y="11509"/>
                </a:cubicBezTo>
                <a:cubicBezTo>
                  <a:pt x="8790" y="11513"/>
                  <a:pt x="8831" y="11501"/>
                  <a:pt x="8855" y="11485"/>
                </a:cubicBezTo>
                <a:cubicBezTo>
                  <a:pt x="8891" y="11461"/>
                  <a:pt x="8915" y="11423"/>
                  <a:pt x="8954" y="11410"/>
                </a:cubicBezTo>
                <a:cubicBezTo>
                  <a:pt x="9001" y="11394"/>
                  <a:pt x="9070" y="11405"/>
                  <a:pt x="9103" y="11435"/>
                </a:cubicBezTo>
                <a:cubicBezTo>
                  <a:pt x="9153" y="11480"/>
                  <a:pt x="9194" y="11525"/>
                  <a:pt x="9227" y="11584"/>
                </a:cubicBezTo>
                <a:cubicBezTo>
                  <a:pt x="9288" y="11695"/>
                  <a:pt x="9302" y="11781"/>
                  <a:pt x="9302" y="11906"/>
                </a:cubicBezTo>
                <a:cubicBezTo>
                  <a:pt x="9302" y="11975"/>
                  <a:pt x="9258" y="12134"/>
                  <a:pt x="9203" y="12179"/>
                </a:cubicBezTo>
                <a:cubicBezTo>
                  <a:pt x="9169" y="12207"/>
                  <a:pt x="9051" y="12204"/>
                  <a:pt x="9004" y="12204"/>
                </a:cubicBezTo>
                <a:cubicBezTo>
                  <a:pt x="8928" y="12204"/>
                  <a:pt x="8896" y="12154"/>
                  <a:pt x="8855" y="12105"/>
                </a:cubicBezTo>
                <a:cubicBezTo>
                  <a:pt x="8812" y="12054"/>
                  <a:pt x="8791" y="12001"/>
                  <a:pt x="8806" y="11931"/>
                </a:cubicBezTo>
                <a:cubicBezTo>
                  <a:pt x="8814" y="11906"/>
                  <a:pt x="8822" y="11882"/>
                  <a:pt x="8830" y="11857"/>
                </a:cubicBezTo>
              </a:path>
              <a:path w="3300" h="1688">
                <a:moveTo>
                  <a:pt x="9649" y="11361"/>
                </a:moveTo>
                <a:cubicBezTo>
                  <a:pt x="9599" y="11548"/>
                  <a:pt x="9550" y="11711"/>
                  <a:pt x="9550" y="11906"/>
                </a:cubicBezTo>
                <a:cubicBezTo>
                  <a:pt x="9550" y="12066"/>
                  <a:pt x="9594" y="12206"/>
                  <a:pt x="9699" y="12328"/>
                </a:cubicBezTo>
                <a:cubicBezTo>
                  <a:pt x="9779" y="12421"/>
                  <a:pt x="9857" y="12484"/>
                  <a:pt x="9971" y="12526"/>
                </a:cubicBezTo>
                <a:cubicBezTo>
                  <a:pt x="10069" y="12562"/>
                  <a:pt x="10174" y="12532"/>
                  <a:pt x="10244" y="12452"/>
                </a:cubicBezTo>
                <a:cubicBezTo>
                  <a:pt x="10316" y="12369"/>
                  <a:pt x="10356" y="12237"/>
                  <a:pt x="10344" y="12129"/>
                </a:cubicBezTo>
                <a:cubicBezTo>
                  <a:pt x="10327" y="11978"/>
                  <a:pt x="10241" y="11798"/>
                  <a:pt x="10145" y="11683"/>
                </a:cubicBezTo>
                <a:cubicBezTo>
                  <a:pt x="10022" y="11536"/>
                  <a:pt x="9904" y="11444"/>
                  <a:pt x="9748" y="11336"/>
                </a:cubicBezTo>
                <a:cubicBezTo>
                  <a:pt x="9642" y="11262"/>
                  <a:pt x="9540" y="11198"/>
                  <a:pt x="9426" y="1113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928880" y="3759120"/>
            <a:ext cx="2224080" cy="1027080"/>
          </a:xfrm>
          <a:custGeom>
            <a:avLst/>
            <a:gdLst/>
            <a:ahLst/>
            <a:rect l="l" t="t" r="r" b="b"/>
            <a:pathLst>
              <a:path w="6177" h="2853">
                <a:moveTo>
                  <a:pt x="6424" y="10889"/>
                </a:moveTo>
                <a:cubicBezTo>
                  <a:pt x="6428" y="11065"/>
                  <a:pt x="6435" y="11235"/>
                  <a:pt x="6449" y="11410"/>
                </a:cubicBezTo>
                <a:cubicBezTo>
                  <a:pt x="6463" y="11585"/>
                  <a:pt x="6481" y="11757"/>
                  <a:pt x="6499" y="11931"/>
                </a:cubicBezTo>
                <a:cubicBezTo>
                  <a:pt x="6512" y="12060"/>
                  <a:pt x="6535" y="12197"/>
                  <a:pt x="6524" y="12328"/>
                </a:cubicBezTo>
                <a:cubicBezTo>
                  <a:pt x="6520" y="12379"/>
                  <a:pt x="6502" y="12384"/>
                  <a:pt x="6499" y="12427"/>
                </a:cubicBezTo>
                <a:cubicBezTo>
                  <a:pt x="6473" y="12344"/>
                  <a:pt x="6446" y="12267"/>
                  <a:pt x="6424" y="12179"/>
                </a:cubicBezTo>
                <a:cubicBezTo>
                  <a:pt x="6384" y="12020"/>
                  <a:pt x="6364" y="11870"/>
                  <a:pt x="6350" y="11708"/>
                </a:cubicBezTo>
                <a:cubicBezTo>
                  <a:pt x="6329" y="11464"/>
                  <a:pt x="6309" y="11211"/>
                  <a:pt x="6325" y="10964"/>
                </a:cubicBezTo>
                <a:cubicBezTo>
                  <a:pt x="6331" y="10869"/>
                  <a:pt x="6349" y="10673"/>
                  <a:pt x="6400" y="10592"/>
                </a:cubicBezTo>
                <a:cubicBezTo>
                  <a:pt x="6487" y="10453"/>
                  <a:pt x="6595" y="10463"/>
                  <a:pt x="6722" y="10443"/>
                </a:cubicBezTo>
                <a:cubicBezTo>
                  <a:pt x="6864" y="10421"/>
                  <a:pt x="7006" y="10476"/>
                  <a:pt x="7144" y="10492"/>
                </a:cubicBezTo>
                <a:cubicBezTo>
                  <a:pt x="7347" y="10516"/>
                  <a:pt x="7563" y="10487"/>
                  <a:pt x="7764" y="10517"/>
                </a:cubicBezTo>
                <a:cubicBezTo>
                  <a:pt x="8058" y="10561"/>
                  <a:pt x="8331" y="10567"/>
                  <a:pt x="8632" y="10567"/>
                </a:cubicBezTo>
                <a:cubicBezTo>
                  <a:pt x="8956" y="10567"/>
                  <a:pt x="9276" y="10588"/>
                  <a:pt x="9599" y="10592"/>
                </a:cubicBezTo>
                <a:cubicBezTo>
                  <a:pt x="9885" y="10595"/>
                  <a:pt x="10154" y="10641"/>
                  <a:pt x="10443" y="10641"/>
                </a:cubicBezTo>
                <a:cubicBezTo>
                  <a:pt x="10641" y="10641"/>
                  <a:pt x="10967" y="10585"/>
                  <a:pt x="11137" y="10691"/>
                </a:cubicBezTo>
                <a:cubicBezTo>
                  <a:pt x="11218" y="10741"/>
                  <a:pt x="11205" y="10738"/>
                  <a:pt x="11237" y="10815"/>
                </a:cubicBezTo>
                <a:cubicBezTo>
                  <a:pt x="11283" y="10925"/>
                  <a:pt x="11272" y="11069"/>
                  <a:pt x="11286" y="11187"/>
                </a:cubicBezTo>
                <a:cubicBezTo>
                  <a:pt x="11305" y="11342"/>
                  <a:pt x="11314" y="11504"/>
                  <a:pt x="11336" y="11658"/>
                </a:cubicBezTo>
                <a:cubicBezTo>
                  <a:pt x="11364" y="11848"/>
                  <a:pt x="11384" y="12041"/>
                  <a:pt x="11410" y="12229"/>
                </a:cubicBezTo>
                <a:cubicBezTo>
                  <a:pt x="11435" y="12404"/>
                  <a:pt x="11465" y="12576"/>
                  <a:pt x="11485" y="12750"/>
                </a:cubicBezTo>
                <a:cubicBezTo>
                  <a:pt x="11502" y="12893"/>
                  <a:pt x="11537" y="13028"/>
                  <a:pt x="11534" y="13171"/>
                </a:cubicBezTo>
                <a:cubicBezTo>
                  <a:pt x="11533" y="13229"/>
                  <a:pt x="11512" y="13247"/>
                  <a:pt x="11509" y="13295"/>
                </a:cubicBezTo>
                <a:cubicBezTo>
                  <a:pt x="11433" y="13284"/>
                  <a:pt x="11360" y="13283"/>
                  <a:pt x="11286" y="13271"/>
                </a:cubicBezTo>
                <a:cubicBezTo>
                  <a:pt x="11208" y="13259"/>
                  <a:pt x="11146" y="13245"/>
                  <a:pt x="11063" y="13246"/>
                </a:cubicBezTo>
                <a:cubicBezTo>
                  <a:pt x="10881" y="13248"/>
                  <a:pt x="10700" y="13269"/>
                  <a:pt x="10517" y="13271"/>
                </a:cubicBezTo>
                <a:cubicBezTo>
                  <a:pt x="10337" y="13273"/>
                  <a:pt x="10174" y="13251"/>
                  <a:pt x="9996" y="13221"/>
                </a:cubicBezTo>
                <a:cubicBezTo>
                  <a:pt x="9754" y="13180"/>
                  <a:pt x="9518" y="13122"/>
                  <a:pt x="9277" y="13072"/>
                </a:cubicBezTo>
                <a:cubicBezTo>
                  <a:pt x="8883" y="12991"/>
                  <a:pt x="8514" y="12907"/>
                  <a:pt x="8111" y="12874"/>
                </a:cubicBezTo>
                <a:cubicBezTo>
                  <a:pt x="7596" y="12832"/>
                  <a:pt x="7089" y="12805"/>
                  <a:pt x="6573" y="12849"/>
                </a:cubicBezTo>
                <a:cubicBezTo>
                  <a:pt x="6162" y="12884"/>
                  <a:pt x="5762" y="12969"/>
                  <a:pt x="5358" y="1304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ind the 150</a:t>
            </a:r>
            <a:r>
              <a:rPr b="0" lang="en-US" sz="4000" spc="-1" strike="noStrike" baseline="30000">
                <a:solidFill>
                  <a:srgbClr val="ffffff"/>
                </a:solidFill>
                <a:latin typeface="Times New Roman"/>
              </a:rPr>
              <a:t>th</a:t>
            </a:r>
            <a:r>
              <a:rPr b="0" lang="en-US" sz="4000" spc="-1" strike="noStrike">
                <a:solidFill>
                  <a:srgbClr val="ffffff"/>
                </a:solidFill>
                <a:latin typeface="Times New Roman"/>
              </a:rPr>
              <a:t> partial sum of the arithmetic sequence 5,16,27,38,49,…</a:t>
            </a:r>
            <a:endParaRPr b="0" lang="en-US" sz="40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3" name=""/>
          <p:cNvSpPr/>
          <p:nvPr/>
        </p:nvSpPr>
        <p:spPr>
          <a:xfrm>
            <a:off x="1197000" y="1820880"/>
            <a:ext cx="2401920" cy="974880"/>
          </a:xfrm>
          <a:custGeom>
            <a:avLst/>
            <a:gdLst/>
            <a:ahLst/>
            <a:rect l="l" t="t" r="r" b="b"/>
            <a:pathLst>
              <a:path w="6673" h="2705">
                <a:moveTo>
                  <a:pt x="3671" y="5457"/>
                </a:moveTo>
                <a:cubicBezTo>
                  <a:pt x="3671" y="5395"/>
                  <a:pt x="3695" y="5514"/>
                  <a:pt x="3696" y="5531"/>
                </a:cubicBezTo>
                <a:cubicBezTo>
                  <a:pt x="3702" y="5654"/>
                  <a:pt x="3671" y="5778"/>
                  <a:pt x="3671" y="5904"/>
                </a:cubicBezTo>
                <a:cubicBezTo>
                  <a:pt x="3671" y="5971"/>
                  <a:pt x="3641" y="6242"/>
                  <a:pt x="3671" y="6152"/>
                </a:cubicBezTo>
                <a:cubicBezTo>
                  <a:pt x="3697" y="6074"/>
                  <a:pt x="3703" y="6007"/>
                  <a:pt x="3721" y="5928"/>
                </a:cubicBezTo>
                <a:cubicBezTo>
                  <a:pt x="3745" y="5824"/>
                  <a:pt x="3779" y="5712"/>
                  <a:pt x="3795" y="5606"/>
                </a:cubicBezTo>
                <a:cubicBezTo>
                  <a:pt x="3811" y="5495"/>
                  <a:pt x="3824" y="5427"/>
                  <a:pt x="3894" y="5333"/>
                </a:cubicBezTo>
                <a:cubicBezTo>
                  <a:pt x="3902" y="5325"/>
                  <a:pt x="3911" y="5316"/>
                  <a:pt x="3919" y="5308"/>
                </a:cubicBezTo>
                <a:cubicBezTo>
                  <a:pt x="3984" y="5308"/>
                  <a:pt x="3983" y="5296"/>
                  <a:pt x="4018" y="5358"/>
                </a:cubicBezTo>
                <a:cubicBezTo>
                  <a:pt x="4084" y="5476"/>
                  <a:pt x="4139" y="5629"/>
                  <a:pt x="4167" y="5755"/>
                </a:cubicBezTo>
                <a:cubicBezTo>
                  <a:pt x="4188" y="5851"/>
                  <a:pt x="4202" y="5934"/>
                  <a:pt x="4242" y="6028"/>
                </a:cubicBezTo>
                <a:cubicBezTo>
                  <a:pt x="4270" y="6094"/>
                  <a:pt x="4291" y="6102"/>
                  <a:pt x="4291" y="6176"/>
                </a:cubicBezTo>
                <a:cubicBezTo>
                  <a:pt x="4291" y="6219"/>
                  <a:pt x="4301" y="6214"/>
                  <a:pt x="4266" y="6226"/>
                </a:cubicBezTo>
              </a:path>
              <a:path w="6673" h="2705">
                <a:moveTo>
                  <a:pt x="3324" y="6474"/>
                </a:moveTo>
                <a:cubicBezTo>
                  <a:pt x="3437" y="6487"/>
                  <a:pt x="3533" y="6461"/>
                  <a:pt x="3646" y="6474"/>
                </a:cubicBezTo>
                <a:cubicBezTo>
                  <a:pt x="3812" y="6493"/>
                  <a:pt x="3973" y="6499"/>
                  <a:pt x="4142" y="6499"/>
                </a:cubicBezTo>
                <a:cubicBezTo>
                  <a:pt x="4255" y="6499"/>
                  <a:pt x="4421" y="6467"/>
                  <a:pt x="4514" y="6524"/>
                </a:cubicBezTo>
                <a:cubicBezTo>
                  <a:pt x="4460" y="6560"/>
                  <a:pt x="4404" y="6577"/>
                  <a:pt x="4341" y="6598"/>
                </a:cubicBezTo>
              </a:path>
              <a:path w="6673" h="2705">
                <a:moveTo>
                  <a:pt x="3473" y="6821"/>
                </a:moveTo>
                <a:cubicBezTo>
                  <a:pt x="3526" y="6788"/>
                  <a:pt x="3585" y="6792"/>
                  <a:pt x="3646" y="6772"/>
                </a:cubicBezTo>
                <a:cubicBezTo>
                  <a:pt x="3749" y="6738"/>
                  <a:pt x="3792" y="6760"/>
                  <a:pt x="3894" y="6772"/>
                </a:cubicBezTo>
                <a:cubicBezTo>
                  <a:pt x="3982" y="6782"/>
                  <a:pt x="4062" y="6788"/>
                  <a:pt x="4093" y="6896"/>
                </a:cubicBezTo>
                <a:cubicBezTo>
                  <a:pt x="4113" y="6968"/>
                  <a:pt x="4060" y="7042"/>
                  <a:pt x="4018" y="7094"/>
                </a:cubicBezTo>
                <a:cubicBezTo>
                  <a:pt x="3947" y="7182"/>
                  <a:pt x="3851" y="7292"/>
                  <a:pt x="3770" y="7367"/>
                </a:cubicBezTo>
                <a:cubicBezTo>
                  <a:pt x="3696" y="7435"/>
                  <a:pt x="3630" y="7530"/>
                  <a:pt x="3547" y="7590"/>
                </a:cubicBezTo>
                <a:cubicBezTo>
                  <a:pt x="3482" y="7637"/>
                  <a:pt x="3520" y="7617"/>
                  <a:pt x="3473" y="7665"/>
                </a:cubicBezTo>
                <a:cubicBezTo>
                  <a:pt x="3537" y="7681"/>
                  <a:pt x="3592" y="7668"/>
                  <a:pt x="3671" y="7665"/>
                </a:cubicBezTo>
                <a:cubicBezTo>
                  <a:pt x="3781" y="7661"/>
                  <a:pt x="3881" y="7640"/>
                  <a:pt x="3994" y="7640"/>
                </a:cubicBezTo>
                <a:cubicBezTo>
                  <a:pt x="4049" y="7640"/>
                  <a:pt x="4165" y="7646"/>
                  <a:pt x="4217" y="7665"/>
                </a:cubicBezTo>
                <a:cubicBezTo>
                  <a:pt x="4286" y="7691"/>
                  <a:pt x="4226" y="7685"/>
                  <a:pt x="4266" y="7665"/>
                </a:cubicBezTo>
              </a:path>
              <a:path w="6673" h="2705">
                <a:moveTo>
                  <a:pt x="5159" y="5383"/>
                </a:moveTo>
                <a:cubicBezTo>
                  <a:pt x="5060" y="5408"/>
                  <a:pt x="5024" y="5471"/>
                  <a:pt x="4961" y="5556"/>
                </a:cubicBezTo>
                <a:cubicBezTo>
                  <a:pt x="4863" y="5688"/>
                  <a:pt x="4758" y="5868"/>
                  <a:pt x="4713" y="6028"/>
                </a:cubicBezTo>
                <a:cubicBezTo>
                  <a:pt x="4664" y="6202"/>
                  <a:pt x="4627" y="6418"/>
                  <a:pt x="4614" y="6598"/>
                </a:cubicBezTo>
                <a:cubicBezTo>
                  <a:pt x="4601" y="6776"/>
                  <a:pt x="4644" y="6922"/>
                  <a:pt x="4663" y="7094"/>
                </a:cubicBezTo>
                <a:cubicBezTo>
                  <a:pt x="4672" y="7181"/>
                  <a:pt x="4668" y="7321"/>
                  <a:pt x="4738" y="7392"/>
                </a:cubicBezTo>
                <a:cubicBezTo>
                  <a:pt x="4782" y="7437"/>
                  <a:pt x="4844" y="7508"/>
                  <a:pt x="4911" y="7441"/>
                </a:cubicBezTo>
                <a:cubicBezTo>
                  <a:pt x="4944" y="7400"/>
                  <a:pt x="4978" y="7358"/>
                  <a:pt x="5011" y="7317"/>
                </a:cubicBezTo>
              </a:path>
              <a:path w="6673" h="2705">
                <a:moveTo>
                  <a:pt x="5779" y="6772"/>
                </a:moveTo>
                <a:cubicBezTo>
                  <a:pt x="5816" y="6760"/>
                  <a:pt x="5795" y="6717"/>
                  <a:pt x="5779" y="6672"/>
                </a:cubicBezTo>
                <a:cubicBezTo>
                  <a:pt x="5753" y="6597"/>
                  <a:pt x="5741" y="6524"/>
                  <a:pt x="5705" y="6449"/>
                </a:cubicBezTo>
                <a:cubicBezTo>
                  <a:pt x="5681" y="6399"/>
                  <a:pt x="5665" y="6332"/>
                  <a:pt x="5606" y="6325"/>
                </a:cubicBezTo>
                <a:cubicBezTo>
                  <a:pt x="5525" y="6316"/>
                  <a:pt x="5504" y="6360"/>
                  <a:pt x="5457" y="6424"/>
                </a:cubicBezTo>
                <a:cubicBezTo>
                  <a:pt x="5349" y="6570"/>
                  <a:pt x="5325" y="6721"/>
                  <a:pt x="5283" y="6896"/>
                </a:cubicBezTo>
                <a:cubicBezTo>
                  <a:pt x="5253" y="7023"/>
                  <a:pt x="5231" y="7116"/>
                  <a:pt x="5259" y="7243"/>
                </a:cubicBezTo>
                <a:cubicBezTo>
                  <a:pt x="5272" y="7302"/>
                  <a:pt x="5317" y="7402"/>
                  <a:pt x="5383" y="7417"/>
                </a:cubicBezTo>
                <a:cubicBezTo>
                  <a:pt x="5454" y="7433"/>
                  <a:pt x="5514" y="7397"/>
                  <a:pt x="5556" y="7342"/>
                </a:cubicBezTo>
                <a:cubicBezTo>
                  <a:pt x="5620" y="7259"/>
                  <a:pt x="5707" y="7176"/>
                  <a:pt x="5730" y="7069"/>
                </a:cubicBezTo>
                <a:cubicBezTo>
                  <a:pt x="5744" y="7002"/>
                  <a:pt x="5744" y="6977"/>
                  <a:pt x="5730" y="6921"/>
                </a:cubicBezTo>
                <a:cubicBezTo>
                  <a:pt x="5713" y="6989"/>
                  <a:pt x="5705" y="7045"/>
                  <a:pt x="5705" y="7119"/>
                </a:cubicBezTo>
                <a:cubicBezTo>
                  <a:pt x="5705" y="7260"/>
                  <a:pt x="5707" y="7306"/>
                  <a:pt x="5755" y="7417"/>
                </a:cubicBezTo>
              </a:path>
              <a:path w="6673" h="2705">
                <a:moveTo>
                  <a:pt x="6028" y="7367"/>
                </a:moveTo>
                <a:cubicBezTo>
                  <a:pt x="6028" y="7487"/>
                  <a:pt x="6011" y="7575"/>
                  <a:pt x="6003" y="7689"/>
                </a:cubicBezTo>
                <a:cubicBezTo>
                  <a:pt x="6001" y="7714"/>
                  <a:pt x="6003" y="7739"/>
                  <a:pt x="6003" y="7764"/>
                </a:cubicBezTo>
              </a:path>
              <a:path w="6673" h="2705">
                <a:moveTo>
                  <a:pt x="6648" y="6400"/>
                </a:moveTo>
                <a:cubicBezTo>
                  <a:pt x="6654" y="6545"/>
                  <a:pt x="6672" y="6676"/>
                  <a:pt x="6672" y="6821"/>
                </a:cubicBezTo>
                <a:cubicBezTo>
                  <a:pt x="6672" y="6928"/>
                  <a:pt x="6681" y="7019"/>
                  <a:pt x="6697" y="7119"/>
                </a:cubicBezTo>
                <a:cubicBezTo>
                  <a:pt x="6703" y="7154"/>
                  <a:pt x="6697" y="7208"/>
                  <a:pt x="6697" y="7243"/>
                </a:cubicBezTo>
              </a:path>
              <a:path w="6673" h="2705">
                <a:moveTo>
                  <a:pt x="6400" y="6747"/>
                </a:moveTo>
                <a:cubicBezTo>
                  <a:pt x="6516" y="6747"/>
                  <a:pt x="6635" y="6750"/>
                  <a:pt x="6747" y="6772"/>
                </a:cubicBezTo>
                <a:cubicBezTo>
                  <a:pt x="6772" y="6780"/>
                  <a:pt x="6796" y="6788"/>
                  <a:pt x="6821" y="6796"/>
                </a:cubicBezTo>
              </a:path>
              <a:path w="6673" h="2705">
                <a:moveTo>
                  <a:pt x="7987" y="6796"/>
                </a:moveTo>
                <a:cubicBezTo>
                  <a:pt x="8028" y="6730"/>
                  <a:pt x="8000" y="6749"/>
                  <a:pt x="7987" y="6672"/>
                </a:cubicBezTo>
                <a:cubicBezTo>
                  <a:pt x="7975" y="6603"/>
                  <a:pt x="7955" y="6535"/>
                  <a:pt x="7913" y="6474"/>
                </a:cubicBezTo>
                <a:cubicBezTo>
                  <a:pt x="7879" y="6425"/>
                  <a:pt x="7845" y="6403"/>
                  <a:pt x="7789" y="6400"/>
                </a:cubicBezTo>
                <a:cubicBezTo>
                  <a:pt x="7719" y="6396"/>
                  <a:pt x="7635" y="6449"/>
                  <a:pt x="7590" y="6499"/>
                </a:cubicBezTo>
                <a:cubicBezTo>
                  <a:pt x="7507" y="6591"/>
                  <a:pt x="7410" y="6702"/>
                  <a:pt x="7367" y="6821"/>
                </a:cubicBezTo>
                <a:cubicBezTo>
                  <a:pt x="7317" y="6960"/>
                  <a:pt x="7291" y="7102"/>
                  <a:pt x="7342" y="7243"/>
                </a:cubicBezTo>
                <a:cubicBezTo>
                  <a:pt x="7368" y="7315"/>
                  <a:pt x="7420" y="7359"/>
                  <a:pt x="7491" y="7367"/>
                </a:cubicBezTo>
                <a:cubicBezTo>
                  <a:pt x="7567" y="7375"/>
                  <a:pt x="7651" y="7363"/>
                  <a:pt x="7714" y="7317"/>
                </a:cubicBezTo>
                <a:cubicBezTo>
                  <a:pt x="7807" y="7249"/>
                  <a:pt x="7836" y="7162"/>
                  <a:pt x="7888" y="7069"/>
                </a:cubicBezTo>
                <a:cubicBezTo>
                  <a:pt x="7945" y="6967"/>
                  <a:pt x="7983" y="6891"/>
                  <a:pt x="7987" y="6772"/>
                </a:cubicBezTo>
                <a:cubicBezTo>
                  <a:pt x="7987" y="6747"/>
                  <a:pt x="7987" y="6722"/>
                  <a:pt x="7987" y="6697"/>
                </a:cubicBezTo>
                <a:cubicBezTo>
                  <a:pt x="7958" y="6784"/>
                  <a:pt x="7941" y="6876"/>
                  <a:pt x="7938" y="6970"/>
                </a:cubicBezTo>
                <a:cubicBezTo>
                  <a:pt x="7935" y="7072"/>
                  <a:pt x="7955" y="7174"/>
                  <a:pt x="7987" y="7268"/>
                </a:cubicBezTo>
                <a:cubicBezTo>
                  <a:pt x="8008" y="7329"/>
                  <a:pt x="8039" y="7384"/>
                  <a:pt x="8062" y="7441"/>
                </a:cubicBezTo>
              </a:path>
              <a:path w="6673" h="2705">
                <a:moveTo>
                  <a:pt x="8235" y="7417"/>
                </a:moveTo>
                <a:cubicBezTo>
                  <a:pt x="8250" y="7497"/>
                  <a:pt x="8260" y="7524"/>
                  <a:pt x="8260" y="7590"/>
                </a:cubicBezTo>
                <a:cubicBezTo>
                  <a:pt x="8260" y="7547"/>
                  <a:pt x="8271" y="7504"/>
                  <a:pt x="8285" y="7466"/>
                </a:cubicBezTo>
                <a:cubicBezTo>
                  <a:pt x="8312" y="7390"/>
                  <a:pt x="8355" y="7326"/>
                  <a:pt x="8409" y="7268"/>
                </a:cubicBezTo>
                <a:cubicBezTo>
                  <a:pt x="8445" y="7229"/>
                  <a:pt x="8456" y="7218"/>
                  <a:pt x="8508" y="7218"/>
                </a:cubicBezTo>
                <a:cubicBezTo>
                  <a:pt x="8564" y="7218"/>
                  <a:pt x="8605" y="7364"/>
                  <a:pt x="8632" y="7417"/>
                </a:cubicBezTo>
                <a:cubicBezTo>
                  <a:pt x="8670" y="7492"/>
                  <a:pt x="8667" y="7526"/>
                  <a:pt x="8731" y="7590"/>
                </a:cubicBezTo>
                <a:cubicBezTo>
                  <a:pt x="8770" y="7629"/>
                  <a:pt x="8791" y="7620"/>
                  <a:pt x="8830" y="7590"/>
                </a:cubicBezTo>
              </a:path>
              <a:path w="6673" h="2705">
                <a:moveTo>
                  <a:pt x="9079" y="5110"/>
                </a:moveTo>
                <a:cubicBezTo>
                  <a:pt x="9229" y="5072"/>
                  <a:pt x="9209" y="5061"/>
                  <a:pt x="9327" y="5184"/>
                </a:cubicBezTo>
                <a:cubicBezTo>
                  <a:pt x="9458" y="5321"/>
                  <a:pt x="9584" y="5463"/>
                  <a:pt x="9674" y="5631"/>
                </a:cubicBezTo>
                <a:cubicBezTo>
                  <a:pt x="9786" y="5840"/>
                  <a:pt x="9877" y="6092"/>
                  <a:pt x="9922" y="6325"/>
                </a:cubicBezTo>
                <a:cubicBezTo>
                  <a:pt x="9965" y="6551"/>
                  <a:pt x="9992" y="6791"/>
                  <a:pt x="9996" y="7020"/>
                </a:cubicBezTo>
                <a:cubicBezTo>
                  <a:pt x="9999" y="7179"/>
                  <a:pt x="9986" y="7337"/>
                  <a:pt x="9847" y="7441"/>
                </a:cubicBezTo>
                <a:cubicBezTo>
                  <a:pt x="9814" y="7458"/>
                  <a:pt x="9781" y="7474"/>
                  <a:pt x="9748" y="749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249880" y="2133720"/>
            <a:ext cx="2886120" cy="760320"/>
          </a:xfrm>
          <a:custGeom>
            <a:avLst/>
            <a:gdLst/>
            <a:ahLst/>
            <a:rect l="l" t="t" r="r" b="b"/>
            <a:pathLst>
              <a:path w="8013" h="2110">
                <a:moveTo>
                  <a:pt x="15304" y="6524"/>
                </a:moveTo>
                <a:cubicBezTo>
                  <a:pt x="15304" y="6582"/>
                  <a:pt x="15304" y="6590"/>
                  <a:pt x="15304" y="6623"/>
                </a:cubicBezTo>
                <a:cubicBezTo>
                  <a:pt x="15304" y="6526"/>
                  <a:pt x="15295" y="6441"/>
                  <a:pt x="15280" y="6350"/>
                </a:cubicBezTo>
                <a:cubicBezTo>
                  <a:pt x="15268" y="6273"/>
                  <a:pt x="15262" y="6198"/>
                  <a:pt x="15230" y="6127"/>
                </a:cubicBezTo>
                <a:cubicBezTo>
                  <a:pt x="15215" y="6093"/>
                  <a:pt x="15170" y="6018"/>
                  <a:pt x="15131" y="6003"/>
                </a:cubicBezTo>
                <a:cubicBezTo>
                  <a:pt x="15080" y="5983"/>
                  <a:pt x="15020" y="6024"/>
                  <a:pt x="14982" y="6052"/>
                </a:cubicBezTo>
                <a:cubicBezTo>
                  <a:pt x="14890" y="6119"/>
                  <a:pt x="14799" y="6293"/>
                  <a:pt x="14759" y="6400"/>
                </a:cubicBezTo>
                <a:cubicBezTo>
                  <a:pt x="14704" y="6548"/>
                  <a:pt x="14666" y="6690"/>
                  <a:pt x="14635" y="6846"/>
                </a:cubicBezTo>
                <a:cubicBezTo>
                  <a:pt x="14599" y="7025"/>
                  <a:pt x="14585" y="7184"/>
                  <a:pt x="14585" y="7367"/>
                </a:cubicBezTo>
                <a:cubicBezTo>
                  <a:pt x="14585" y="7479"/>
                  <a:pt x="14613" y="7564"/>
                  <a:pt x="14660" y="7665"/>
                </a:cubicBezTo>
                <a:cubicBezTo>
                  <a:pt x="14683" y="7715"/>
                  <a:pt x="14749" y="7742"/>
                  <a:pt x="14808" y="7714"/>
                </a:cubicBezTo>
                <a:cubicBezTo>
                  <a:pt x="14877" y="7682"/>
                  <a:pt x="14971" y="7555"/>
                  <a:pt x="15007" y="7491"/>
                </a:cubicBezTo>
                <a:cubicBezTo>
                  <a:pt x="15069" y="7380"/>
                  <a:pt x="15157" y="7248"/>
                  <a:pt x="15180" y="7119"/>
                </a:cubicBezTo>
                <a:cubicBezTo>
                  <a:pt x="15192" y="7052"/>
                  <a:pt x="15198" y="6989"/>
                  <a:pt x="15205" y="6921"/>
                </a:cubicBezTo>
                <a:cubicBezTo>
                  <a:pt x="15197" y="7025"/>
                  <a:pt x="15180" y="7111"/>
                  <a:pt x="15180" y="7218"/>
                </a:cubicBezTo>
                <a:cubicBezTo>
                  <a:pt x="15180" y="7310"/>
                  <a:pt x="15216" y="7382"/>
                  <a:pt x="15230" y="7466"/>
                </a:cubicBezTo>
                <a:cubicBezTo>
                  <a:pt x="15243" y="7542"/>
                  <a:pt x="15271" y="7553"/>
                  <a:pt x="15304" y="7615"/>
                </a:cubicBezTo>
                <a:cubicBezTo>
                  <a:pt x="15304" y="7623"/>
                  <a:pt x="15304" y="7632"/>
                  <a:pt x="15304" y="7640"/>
                </a:cubicBezTo>
              </a:path>
              <a:path w="8013" h="2110">
                <a:moveTo>
                  <a:pt x="15528" y="7491"/>
                </a:moveTo>
                <a:cubicBezTo>
                  <a:pt x="15514" y="7608"/>
                  <a:pt x="15503" y="7700"/>
                  <a:pt x="15503" y="7813"/>
                </a:cubicBezTo>
                <a:cubicBezTo>
                  <a:pt x="15503" y="7838"/>
                  <a:pt x="15503" y="7846"/>
                  <a:pt x="15503" y="7863"/>
                </a:cubicBezTo>
                <a:cubicBezTo>
                  <a:pt x="15530" y="7854"/>
                  <a:pt x="15546" y="7799"/>
                  <a:pt x="15553" y="7764"/>
                </a:cubicBezTo>
                <a:cubicBezTo>
                  <a:pt x="15567" y="7693"/>
                  <a:pt x="15593" y="7610"/>
                  <a:pt x="15602" y="7541"/>
                </a:cubicBezTo>
                <a:cubicBezTo>
                  <a:pt x="15610" y="7477"/>
                  <a:pt x="15618" y="7389"/>
                  <a:pt x="15677" y="7342"/>
                </a:cubicBezTo>
                <a:cubicBezTo>
                  <a:pt x="15700" y="7323"/>
                  <a:pt x="15755" y="7317"/>
                  <a:pt x="15776" y="7342"/>
                </a:cubicBezTo>
                <a:cubicBezTo>
                  <a:pt x="15844" y="7426"/>
                  <a:pt x="15850" y="7543"/>
                  <a:pt x="15875" y="7640"/>
                </a:cubicBezTo>
                <a:cubicBezTo>
                  <a:pt x="15896" y="7722"/>
                  <a:pt x="15921" y="7803"/>
                  <a:pt x="15925" y="7888"/>
                </a:cubicBezTo>
                <a:cubicBezTo>
                  <a:pt x="15928" y="7943"/>
                  <a:pt x="15949" y="7982"/>
                  <a:pt x="15949" y="8037"/>
                </a:cubicBezTo>
              </a:path>
              <a:path w="8013" h="2110">
                <a:moveTo>
                  <a:pt x="16173" y="6772"/>
                </a:moveTo>
                <a:cubicBezTo>
                  <a:pt x="16221" y="6752"/>
                  <a:pt x="16300" y="6772"/>
                  <a:pt x="16371" y="6772"/>
                </a:cubicBezTo>
                <a:cubicBezTo>
                  <a:pt x="16454" y="6772"/>
                  <a:pt x="16536" y="6772"/>
                  <a:pt x="16619" y="6772"/>
                </a:cubicBezTo>
              </a:path>
              <a:path w="8013" h="2110">
                <a:moveTo>
                  <a:pt x="16123" y="7094"/>
                </a:moveTo>
                <a:cubicBezTo>
                  <a:pt x="16255" y="7117"/>
                  <a:pt x="16318" y="7105"/>
                  <a:pt x="16446" y="7094"/>
                </a:cubicBezTo>
              </a:path>
              <a:path w="8013" h="2110">
                <a:moveTo>
                  <a:pt x="17661" y="6524"/>
                </a:moveTo>
                <a:cubicBezTo>
                  <a:pt x="17666" y="6566"/>
                  <a:pt x="17699" y="6607"/>
                  <a:pt x="17686" y="6648"/>
                </a:cubicBezTo>
                <a:cubicBezTo>
                  <a:pt x="17673" y="6690"/>
                  <a:pt x="17680" y="6685"/>
                  <a:pt x="17686" y="6648"/>
                </a:cubicBezTo>
                <a:cubicBezTo>
                  <a:pt x="17694" y="6600"/>
                  <a:pt x="17719" y="6547"/>
                  <a:pt x="17711" y="6499"/>
                </a:cubicBezTo>
                <a:cubicBezTo>
                  <a:pt x="17698" y="6427"/>
                  <a:pt x="17690" y="6342"/>
                  <a:pt x="17661" y="6276"/>
                </a:cubicBezTo>
                <a:cubicBezTo>
                  <a:pt x="17634" y="6215"/>
                  <a:pt x="17563" y="6114"/>
                  <a:pt x="17487" y="6127"/>
                </a:cubicBezTo>
                <a:cubicBezTo>
                  <a:pt x="17413" y="6140"/>
                  <a:pt x="17316" y="6204"/>
                  <a:pt x="17264" y="6251"/>
                </a:cubicBezTo>
                <a:cubicBezTo>
                  <a:pt x="17144" y="6361"/>
                  <a:pt x="17093" y="6485"/>
                  <a:pt x="17016" y="6623"/>
                </a:cubicBezTo>
                <a:cubicBezTo>
                  <a:pt x="16932" y="6774"/>
                  <a:pt x="16879" y="6924"/>
                  <a:pt x="16842" y="7094"/>
                </a:cubicBezTo>
                <a:cubicBezTo>
                  <a:pt x="16816" y="7213"/>
                  <a:pt x="16797" y="7368"/>
                  <a:pt x="16818" y="7491"/>
                </a:cubicBezTo>
                <a:cubicBezTo>
                  <a:pt x="16826" y="7539"/>
                  <a:pt x="16876" y="7640"/>
                  <a:pt x="16942" y="7640"/>
                </a:cubicBezTo>
                <a:cubicBezTo>
                  <a:pt x="17011" y="7640"/>
                  <a:pt x="17120" y="7566"/>
                  <a:pt x="17165" y="7516"/>
                </a:cubicBezTo>
                <a:cubicBezTo>
                  <a:pt x="17280" y="7389"/>
                  <a:pt x="17375" y="7200"/>
                  <a:pt x="17438" y="7045"/>
                </a:cubicBezTo>
                <a:cubicBezTo>
                  <a:pt x="17473" y="6960"/>
                  <a:pt x="17487" y="6886"/>
                  <a:pt x="17487" y="6796"/>
                </a:cubicBezTo>
                <a:cubicBezTo>
                  <a:pt x="17487" y="6788"/>
                  <a:pt x="17487" y="6780"/>
                  <a:pt x="17487" y="6772"/>
                </a:cubicBezTo>
                <a:cubicBezTo>
                  <a:pt x="17459" y="6846"/>
                  <a:pt x="17445" y="6941"/>
                  <a:pt x="17438" y="7020"/>
                </a:cubicBezTo>
                <a:cubicBezTo>
                  <a:pt x="17429" y="7123"/>
                  <a:pt x="17440" y="7243"/>
                  <a:pt x="17462" y="7342"/>
                </a:cubicBezTo>
                <a:cubicBezTo>
                  <a:pt x="17480" y="7422"/>
                  <a:pt x="17506" y="7517"/>
                  <a:pt x="17537" y="7590"/>
                </a:cubicBezTo>
                <a:cubicBezTo>
                  <a:pt x="17561" y="7646"/>
                  <a:pt x="17572" y="7725"/>
                  <a:pt x="17636" y="7714"/>
                </a:cubicBezTo>
                <a:cubicBezTo>
                  <a:pt x="17644" y="7706"/>
                  <a:pt x="17653" y="7697"/>
                  <a:pt x="17661" y="7689"/>
                </a:cubicBezTo>
              </a:path>
              <a:path w="8013" h="2110">
                <a:moveTo>
                  <a:pt x="18058" y="7441"/>
                </a:moveTo>
                <a:cubicBezTo>
                  <a:pt x="18051" y="7558"/>
                  <a:pt x="18025" y="7655"/>
                  <a:pt x="18008" y="7764"/>
                </a:cubicBezTo>
                <a:cubicBezTo>
                  <a:pt x="18000" y="7815"/>
                  <a:pt x="17993" y="7900"/>
                  <a:pt x="18033" y="7913"/>
                </a:cubicBezTo>
              </a:path>
              <a:path w="8013" h="2110">
                <a:moveTo>
                  <a:pt x="18554" y="6573"/>
                </a:moveTo>
                <a:cubicBezTo>
                  <a:pt x="18571" y="6667"/>
                  <a:pt x="18554" y="6743"/>
                  <a:pt x="18554" y="6846"/>
                </a:cubicBezTo>
                <a:cubicBezTo>
                  <a:pt x="18554" y="7007"/>
                  <a:pt x="18544" y="7165"/>
                  <a:pt x="18579" y="7317"/>
                </a:cubicBezTo>
                <a:cubicBezTo>
                  <a:pt x="18584" y="7339"/>
                  <a:pt x="18579" y="7370"/>
                  <a:pt x="18579" y="7392"/>
                </a:cubicBezTo>
              </a:path>
              <a:path w="8013" h="2110">
                <a:moveTo>
                  <a:pt x="18306" y="6995"/>
                </a:moveTo>
                <a:cubicBezTo>
                  <a:pt x="18366" y="6959"/>
                  <a:pt x="18430" y="6970"/>
                  <a:pt x="18504" y="6970"/>
                </a:cubicBezTo>
                <a:cubicBezTo>
                  <a:pt x="18613" y="6970"/>
                  <a:pt x="18697" y="6931"/>
                  <a:pt x="18802" y="6896"/>
                </a:cubicBezTo>
              </a:path>
              <a:path w="8013" h="2110">
                <a:moveTo>
                  <a:pt x="19645" y="6127"/>
                </a:moveTo>
                <a:cubicBezTo>
                  <a:pt x="19549" y="6244"/>
                  <a:pt x="19443" y="6342"/>
                  <a:pt x="19372" y="6474"/>
                </a:cubicBezTo>
                <a:cubicBezTo>
                  <a:pt x="19301" y="6606"/>
                  <a:pt x="19238" y="6744"/>
                  <a:pt x="19224" y="6896"/>
                </a:cubicBezTo>
                <a:cubicBezTo>
                  <a:pt x="19208" y="7071"/>
                  <a:pt x="19230" y="7247"/>
                  <a:pt x="19248" y="7417"/>
                </a:cubicBezTo>
                <a:cubicBezTo>
                  <a:pt x="19255" y="7486"/>
                  <a:pt x="19265" y="7607"/>
                  <a:pt x="19348" y="7640"/>
                </a:cubicBezTo>
                <a:cubicBezTo>
                  <a:pt x="19391" y="7657"/>
                  <a:pt x="19388" y="7619"/>
                  <a:pt x="19397" y="7615"/>
                </a:cubicBezTo>
              </a:path>
              <a:path w="8013" h="2110">
                <a:moveTo>
                  <a:pt x="19695" y="7119"/>
                </a:moveTo>
                <a:cubicBezTo>
                  <a:pt x="19695" y="7248"/>
                  <a:pt x="19690" y="7370"/>
                  <a:pt x="19720" y="7491"/>
                </a:cubicBezTo>
                <a:cubicBezTo>
                  <a:pt x="19731" y="7535"/>
                  <a:pt x="19702" y="7527"/>
                  <a:pt x="19745" y="7541"/>
                </a:cubicBezTo>
                <a:cubicBezTo>
                  <a:pt x="19757" y="7491"/>
                  <a:pt x="19769" y="7476"/>
                  <a:pt x="19769" y="7417"/>
                </a:cubicBezTo>
                <a:cubicBezTo>
                  <a:pt x="19769" y="7327"/>
                  <a:pt x="19737" y="7203"/>
                  <a:pt x="19745" y="7119"/>
                </a:cubicBezTo>
                <a:cubicBezTo>
                  <a:pt x="19749" y="7073"/>
                  <a:pt x="19781" y="6954"/>
                  <a:pt x="19819" y="6921"/>
                </a:cubicBezTo>
                <a:cubicBezTo>
                  <a:pt x="19857" y="6888"/>
                  <a:pt x="19881" y="6900"/>
                  <a:pt x="19918" y="6921"/>
                </a:cubicBezTo>
                <a:cubicBezTo>
                  <a:pt x="19995" y="6964"/>
                  <a:pt x="20011" y="7036"/>
                  <a:pt x="20042" y="7119"/>
                </a:cubicBezTo>
                <a:cubicBezTo>
                  <a:pt x="20072" y="7200"/>
                  <a:pt x="20101" y="7306"/>
                  <a:pt x="20117" y="7392"/>
                </a:cubicBezTo>
                <a:cubicBezTo>
                  <a:pt x="20130" y="7459"/>
                  <a:pt x="20126" y="7524"/>
                  <a:pt x="20141" y="7590"/>
                </a:cubicBezTo>
                <a:cubicBezTo>
                  <a:pt x="20141" y="7618"/>
                  <a:pt x="20143" y="7629"/>
                  <a:pt x="20166" y="7640"/>
                </a:cubicBezTo>
              </a:path>
              <a:path w="8013" h="2110">
                <a:moveTo>
                  <a:pt x="20290" y="7144"/>
                </a:moveTo>
                <a:cubicBezTo>
                  <a:pt x="20375" y="7127"/>
                  <a:pt x="20482" y="7142"/>
                  <a:pt x="20563" y="7119"/>
                </a:cubicBezTo>
                <a:cubicBezTo>
                  <a:pt x="20580" y="7111"/>
                  <a:pt x="20596" y="7102"/>
                  <a:pt x="20613" y="7094"/>
                </a:cubicBezTo>
              </a:path>
              <a:path w="8013" h="2110">
                <a:moveTo>
                  <a:pt x="20811" y="6995"/>
                </a:moveTo>
                <a:cubicBezTo>
                  <a:pt x="20801" y="7095"/>
                  <a:pt x="20758" y="7301"/>
                  <a:pt x="20786" y="7417"/>
                </a:cubicBezTo>
                <a:cubicBezTo>
                  <a:pt x="20798" y="7467"/>
                  <a:pt x="20811" y="7616"/>
                  <a:pt x="20811" y="7565"/>
                </a:cubicBezTo>
                <a:cubicBezTo>
                  <a:pt x="20811" y="7541"/>
                  <a:pt x="20811" y="7532"/>
                  <a:pt x="20811" y="7516"/>
                </a:cubicBezTo>
              </a:path>
              <a:path w="8013" h="2110">
                <a:moveTo>
                  <a:pt x="20737" y="5928"/>
                </a:moveTo>
                <a:cubicBezTo>
                  <a:pt x="20852" y="6013"/>
                  <a:pt x="20882" y="6083"/>
                  <a:pt x="20960" y="6201"/>
                </a:cubicBezTo>
                <a:cubicBezTo>
                  <a:pt x="21058" y="6350"/>
                  <a:pt x="21138" y="6507"/>
                  <a:pt x="21208" y="6672"/>
                </a:cubicBezTo>
                <a:cubicBezTo>
                  <a:pt x="21281" y="6844"/>
                  <a:pt x="21326" y="7032"/>
                  <a:pt x="21332" y="7218"/>
                </a:cubicBezTo>
                <a:cubicBezTo>
                  <a:pt x="21335" y="7292"/>
                  <a:pt x="21314" y="7435"/>
                  <a:pt x="21258" y="7491"/>
                </a:cubicBezTo>
                <a:cubicBezTo>
                  <a:pt x="21214" y="7535"/>
                  <a:pt x="21176" y="7565"/>
                  <a:pt x="21134" y="7615"/>
                </a:cubicBezTo>
                <a:cubicBezTo>
                  <a:pt x="21092" y="7657"/>
                  <a:pt x="21067" y="7665"/>
                  <a:pt x="21109" y="7689"/>
                </a:cubicBezTo>
              </a:path>
              <a:path w="8013" h="2110">
                <a:moveTo>
                  <a:pt x="21952" y="7268"/>
                </a:moveTo>
                <a:cubicBezTo>
                  <a:pt x="21977" y="7203"/>
                  <a:pt x="21992" y="7187"/>
                  <a:pt x="21977" y="7119"/>
                </a:cubicBezTo>
                <a:cubicBezTo>
                  <a:pt x="21964" y="7060"/>
                  <a:pt x="21952" y="6941"/>
                  <a:pt x="21903" y="6896"/>
                </a:cubicBezTo>
                <a:cubicBezTo>
                  <a:pt x="21840" y="6837"/>
                  <a:pt x="21800" y="6838"/>
                  <a:pt x="21729" y="6846"/>
                </a:cubicBezTo>
                <a:cubicBezTo>
                  <a:pt x="21627" y="6857"/>
                  <a:pt x="21617" y="6895"/>
                  <a:pt x="21555" y="6970"/>
                </a:cubicBezTo>
                <a:cubicBezTo>
                  <a:pt x="21484" y="7056"/>
                  <a:pt x="21461" y="7131"/>
                  <a:pt x="21456" y="7243"/>
                </a:cubicBezTo>
                <a:cubicBezTo>
                  <a:pt x="21452" y="7328"/>
                  <a:pt x="21494" y="7374"/>
                  <a:pt x="21530" y="7441"/>
                </a:cubicBezTo>
                <a:cubicBezTo>
                  <a:pt x="21576" y="7526"/>
                  <a:pt x="21637" y="7537"/>
                  <a:pt x="21729" y="7541"/>
                </a:cubicBezTo>
                <a:cubicBezTo>
                  <a:pt x="21811" y="7545"/>
                  <a:pt x="21853" y="7510"/>
                  <a:pt x="21903" y="7441"/>
                </a:cubicBezTo>
                <a:cubicBezTo>
                  <a:pt x="22043" y="7246"/>
                  <a:pt x="22030" y="7007"/>
                  <a:pt x="22051" y="6772"/>
                </a:cubicBezTo>
                <a:cubicBezTo>
                  <a:pt x="22061" y="6665"/>
                  <a:pt x="22046" y="6506"/>
                  <a:pt x="22027" y="6400"/>
                </a:cubicBezTo>
                <a:cubicBezTo>
                  <a:pt x="22014" y="6330"/>
                  <a:pt x="22002" y="6273"/>
                  <a:pt x="22002" y="6201"/>
                </a:cubicBezTo>
                <a:cubicBezTo>
                  <a:pt x="21981" y="6257"/>
                  <a:pt x="21955" y="6313"/>
                  <a:pt x="21952" y="6375"/>
                </a:cubicBezTo>
                <a:cubicBezTo>
                  <a:pt x="21947" y="6483"/>
                  <a:pt x="21910" y="6586"/>
                  <a:pt x="21927" y="6697"/>
                </a:cubicBezTo>
                <a:cubicBezTo>
                  <a:pt x="21945" y="6815"/>
                  <a:pt x="21967" y="6929"/>
                  <a:pt x="22002" y="7045"/>
                </a:cubicBezTo>
                <a:cubicBezTo>
                  <a:pt x="22042" y="7177"/>
                  <a:pt x="22132" y="7304"/>
                  <a:pt x="22225" y="7392"/>
                </a:cubicBezTo>
                <a:cubicBezTo>
                  <a:pt x="22303" y="7465"/>
                  <a:pt x="22363" y="7510"/>
                  <a:pt x="22448" y="7565"/>
                </a:cubicBezTo>
                <a:cubicBezTo>
                  <a:pt x="22497" y="7597"/>
                  <a:pt x="22649" y="7667"/>
                  <a:pt x="22597" y="7640"/>
                </a:cubicBezTo>
                <a:cubicBezTo>
                  <a:pt x="22571" y="7627"/>
                  <a:pt x="22527" y="7625"/>
                  <a:pt x="22498" y="761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4081320" y="1928880"/>
            <a:ext cx="749520" cy="4044960"/>
          </a:xfrm>
          <a:custGeom>
            <a:avLst/>
            <a:gdLst/>
            <a:ahLst/>
            <a:rect l="l" t="t" r="r" b="b"/>
            <a:pathLst>
              <a:path w="2084" h="11237">
                <a:moveTo>
                  <a:pt x="11509" y="5358"/>
                </a:moveTo>
                <a:cubicBezTo>
                  <a:pt x="11568" y="5360"/>
                  <a:pt x="11574" y="5385"/>
                  <a:pt x="11633" y="5383"/>
                </a:cubicBezTo>
                <a:cubicBezTo>
                  <a:pt x="11876" y="5375"/>
                  <a:pt x="12106" y="5380"/>
                  <a:pt x="12353" y="5407"/>
                </a:cubicBezTo>
                <a:cubicBezTo>
                  <a:pt x="12599" y="5434"/>
                  <a:pt x="12817" y="5466"/>
                  <a:pt x="13047" y="5556"/>
                </a:cubicBezTo>
                <a:cubicBezTo>
                  <a:pt x="13351" y="5675"/>
                  <a:pt x="13478" y="5855"/>
                  <a:pt x="13345" y="6152"/>
                </a:cubicBezTo>
                <a:cubicBezTo>
                  <a:pt x="13265" y="6331"/>
                  <a:pt x="13014" y="6515"/>
                  <a:pt x="12874" y="6648"/>
                </a:cubicBezTo>
                <a:cubicBezTo>
                  <a:pt x="12659" y="6852"/>
                  <a:pt x="12431" y="7052"/>
                  <a:pt x="12254" y="7293"/>
                </a:cubicBezTo>
                <a:cubicBezTo>
                  <a:pt x="12139" y="7449"/>
                  <a:pt x="12068" y="7604"/>
                  <a:pt x="12154" y="7789"/>
                </a:cubicBezTo>
                <a:cubicBezTo>
                  <a:pt x="12280" y="8061"/>
                  <a:pt x="12705" y="8122"/>
                  <a:pt x="12898" y="8334"/>
                </a:cubicBezTo>
                <a:cubicBezTo>
                  <a:pt x="13021" y="8468"/>
                  <a:pt x="13124" y="8666"/>
                  <a:pt x="13072" y="8855"/>
                </a:cubicBezTo>
                <a:cubicBezTo>
                  <a:pt x="13013" y="9069"/>
                  <a:pt x="12836" y="9281"/>
                  <a:pt x="12700" y="9451"/>
                </a:cubicBezTo>
                <a:cubicBezTo>
                  <a:pt x="12582" y="9599"/>
                  <a:pt x="12446" y="9742"/>
                  <a:pt x="12328" y="9897"/>
                </a:cubicBezTo>
                <a:cubicBezTo>
                  <a:pt x="12215" y="10045"/>
                  <a:pt x="12138" y="10171"/>
                  <a:pt x="12129" y="10368"/>
                </a:cubicBezTo>
                <a:cubicBezTo>
                  <a:pt x="12121" y="10538"/>
                  <a:pt x="12222" y="10638"/>
                  <a:pt x="12328" y="10765"/>
                </a:cubicBezTo>
                <a:cubicBezTo>
                  <a:pt x="12454" y="10917"/>
                  <a:pt x="12588" y="11027"/>
                  <a:pt x="12675" y="11212"/>
                </a:cubicBezTo>
                <a:cubicBezTo>
                  <a:pt x="12745" y="11362"/>
                  <a:pt x="12778" y="11527"/>
                  <a:pt x="12700" y="11683"/>
                </a:cubicBezTo>
                <a:cubicBezTo>
                  <a:pt x="12623" y="11839"/>
                  <a:pt x="12435" y="11975"/>
                  <a:pt x="12303" y="12080"/>
                </a:cubicBezTo>
                <a:cubicBezTo>
                  <a:pt x="12140" y="12210"/>
                  <a:pt x="11963" y="12307"/>
                  <a:pt x="11832" y="12477"/>
                </a:cubicBezTo>
                <a:cubicBezTo>
                  <a:pt x="11735" y="12603"/>
                  <a:pt x="11703" y="12737"/>
                  <a:pt x="11708" y="12898"/>
                </a:cubicBezTo>
                <a:cubicBezTo>
                  <a:pt x="11717" y="13158"/>
                  <a:pt x="11883" y="13326"/>
                  <a:pt x="12005" y="13543"/>
                </a:cubicBezTo>
                <a:cubicBezTo>
                  <a:pt x="12095" y="13703"/>
                  <a:pt x="12206" y="13877"/>
                  <a:pt x="12229" y="14064"/>
                </a:cubicBezTo>
                <a:cubicBezTo>
                  <a:pt x="12250" y="14234"/>
                  <a:pt x="12181" y="14301"/>
                  <a:pt x="12080" y="14412"/>
                </a:cubicBezTo>
                <a:cubicBezTo>
                  <a:pt x="11964" y="14539"/>
                  <a:pt x="11818" y="14585"/>
                  <a:pt x="11683" y="14684"/>
                </a:cubicBezTo>
                <a:cubicBezTo>
                  <a:pt x="11569" y="14768"/>
                  <a:pt x="11444" y="14854"/>
                  <a:pt x="11385" y="14982"/>
                </a:cubicBezTo>
                <a:cubicBezTo>
                  <a:pt x="11312" y="15141"/>
                  <a:pt x="11354" y="15292"/>
                  <a:pt x="11385" y="15453"/>
                </a:cubicBezTo>
                <a:cubicBezTo>
                  <a:pt x="11430" y="15685"/>
                  <a:pt x="11525" y="15897"/>
                  <a:pt x="11584" y="16123"/>
                </a:cubicBezTo>
                <a:cubicBezTo>
                  <a:pt x="11622" y="16269"/>
                  <a:pt x="11642" y="16487"/>
                  <a:pt x="11658" y="16594"/>
                </a:cubicBezTo>
                <a:cubicBezTo>
                  <a:pt x="11658" y="16586"/>
                  <a:pt x="11658" y="16578"/>
                  <a:pt x="11658" y="1657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224000" y="3027240"/>
            <a:ext cx="2268360" cy="866880"/>
          </a:xfrm>
          <a:custGeom>
            <a:avLst/>
            <a:gdLst/>
            <a:ahLst/>
            <a:rect l="l" t="t" r="r" b="b"/>
            <a:pathLst>
              <a:path w="6302" h="2407">
                <a:moveTo>
                  <a:pt x="3497" y="8434"/>
                </a:moveTo>
                <a:cubicBezTo>
                  <a:pt x="3497" y="8506"/>
                  <a:pt x="3481" y="8562"/>
                  <a:pt x="3473" y="8632"/>
                </a:cubicBezTo>
                <a:cubicBezTo>
                  <a:pt x="3450" y="8834"/>
                  <a:pt x="3432" y="9220"/>
                  <a:pt x="3497" y="9376"/>
                </a:cubicBezTo>
                <a:cubicBezTo>
                  <a:pt x="3497" y="9384"/>
                  <a:pt x="3497" y="9393"/>
                  <a:pt x="3497" y="9401"/>
                </a:cubicBezTo>
              </a:path>
              <a:path w="6302" h="2407">
                <a:moveTo>
                  <a:pt x="3870" y="8558"/>
                </a:moveTo>
                <a:cubicBezTo>
                  <a:pt x="4021" y="8558"/>
                  <a:pt x="4109" y="8552"/>
                  <a:pt x="4217" y="8508"/>
                </a:cubicBezTo>
                <a:cubicBezTo>
                  <a:pt x="4278" y="8483"/>
                  <a:pt x="4263" y="8522"/>
                  <a:pt x="4316" y="8483"/>
                </a:cubicBezTo>
              </a:path>
              <a:path w="6302" h="2407">
                <a:moveTo>
                  <a:pt x="3770" y="8582"/>
                </a:moveTo>
                <a:cubicBezTo>
                  <a:pt x="3754" y="8679"/>
                  <a:pt x="3728" y="8767"/>
                  <a:pt x="3721" y="8855"/>
                </a:cubicBezTo>
                <a:cubicBezTo>
                  <a:pt x="3721" y="8888"/>
                  <a:pt x="3721" y="8905"/>
                  <a:pt x="3721" y="8930"/>
                </a:cubicBezTo>
                <a:cubicBezTo>
                  <a:pt x="3803" y="8930"/>
                  <a:pt x="3735" y="8893"/>
                  <a:pt x="3795" y="8855"/>
                </a:cubicBezTo>
                <a:cubicBezTo>
                  <a:pt x="3829" y="8834"/>
                  <a:pt x="3815" y="8800"/>
                  <a:pt x="3870" y="8781"/>
                </a:cubicBezTo>
                <a:cubicBezTo>
                  <a:pt x="3942" y="8757"/>
                  <a:pt x="3915" y="8812"/>
                  <a:pt x="3969" y="8731"/>
                </a:cubicBezTo>
                <a:cubicBezTo>
                  <a:pt x="3998" y="8761"/>
                  <a:pt x="4077" y="8834"/>
                  <a:pt x="4118" y="8855"/>
                </a:cubicBezTo>
                <a:cubicBezTo>
                  <a:pt x="4191" y="8892"/>
                  <a:pt x="4223" y="8943"/>
                  <a:pt x="4266" y="9029"/>
                </a:cubicBezTo>
                <a:cubicBezTo>
                  <a:pt x="4290" y="9077"/>
                  <a:pt x="4325" y="9176"/>
                  <a:pt x="4316" y="9227"/>
                </a:cubicBezTo>
                <a:cubicBezTo>
                  <a:pt x="4304" y="9290"/>
                  <a:pt x="4259" y="9367"/>
                  <a:pt x="4192" y="9376"/>
                </a:cubicBezTo>
                <a:cubicBezTo>
                  <a:pt x="4115" y="9386"/>
                  <a:pt x="3948" y="9406"/>
                  <a:pt x="3919" y="9327"/>
                </a:cubicBezTo>
                <a:cubicBezTo>
                  <a:pt x="3919" y="9294"/>
                  <a:pt x="3919" y="9277"/>
                  <a:pt x="3919" y="9252"/>
                </a:cubicBezTo>
              </a:path>
              <a:path w="6302" h="2407">
                <a:moveTo>
                  <a:pt x="4564" y="8657"/>
                </a:moveTo>
                <a:cubicBezTo>
                  <a:pt x="4545" y="8725"/>
                  <a:pt x="4523" y="8821"/>
                  <a:pt x="4514" y="8880"/>
                </a:cubicBezTo>
                <a:cubicBezTo>
                  <a:pt x="4498" y="8990"/>
                  <a:pt x="4507" y="9122"/>
                  <a:pt x="4539" y="9227"/>
                </a:cubicBezTo>
                <a:cubicBezTo>
                  <a:pt x="4552" y="9270"/>
                  <a:pt x="4599" y="9368"/>
                  <a:pt x="4638" y="9376"/>
                </a:cubicBezTo>
                <a:cubicBezTo>
                  <a:pt x="4725" y="9395"/>
                  <a:pt x="4801" y="9383"/>
                  <a:pt x="4862" y="9327"/>
                </a:cubicBezTo>
                <a:cubicBezTo>
                  <a:pt x="4940" y="9256"/>
                  <a:pt x="4957" y="9178"/>
                  <a:pt x="4961" y="9079"/>
                </a:cubicBezTo>
                <a:cubicBezTo>
                  <a:pt x="4964" y="8986"/>
                  <a:pt x="4938" y="8928"/>
                  <a:pt x="4887" y="8855"/>
                </a:cubicBezTo>
                <a:cubicBezTo>
                  <a:pt x="4840" y="8788"/>
                  <a:pt x="4782" y="8705"/>
                  <a:pt x="4713" y="8657"/>
                </a:cubicBezTo>
                <a:cubicBezTo>
                  <a:pt x="4665" y="8623"/>
                  <a:pt x="4618" y="8632"/>
                  <a:pt x="4564" y="8632"/>
                </a:cubicBezTo>
                <a:cubicBezTo>
                  <a:pt x="4556" y="8632"/>
                  <a:pt x="4547" y="8632"/>
                  <a:pt x="4539" y="8632"/>
                </a:cubicBezTo>
              </a:path>
              <a:path w="6302" h="2407">
                <a:moveTo>
                  <a:pt x="3398" y="9525"/>
                </a:moveTo>
                <a:cubicBezTo>
                  <a:pt x="3497" y="9546"/>
                  <a:pt x="3571" y="9550"/>
                  <a:pt x="3671" y="9550"/>
                </a:cubicBezTo>
                <a:cubicBezTo>
                  <a:pt x="3809" y="9550"/>
                  <a:pt x="3910" y="9592"/>
                  <a:pt x="4043" y="9599"/>
                </a:cubicBezTo>
                <a:cubicBezTo>
                  <a:pt x="4191" y="9607"/>
                  <a:pt x="4332" y="9550"/>
                  <a:pt x="4490" y="9550"/>
                </a:cubicBezTo>
                <a:cubicBezTo>
                  <a:pt x="4612" y="9550"/>
                  <a:pt x="4720" y="9538"/>
                  <a:pt x="4837" y="9525"/>
                </a:cubicBezTo>
                <a:cubicBezTo>
                  <a:pt x="4838" y="9525"/>
                  <a:pt x="5035" y="9525"/>
                  <a:pt x="4961" y="9525"/>
                </a:cubicBezTo>
              </a:path>
              <a:path w="6302" h="2407">
                <a:moveTo>
                  <a:pt x="3919" y="9971"/>
                </a:moveTo>
                <a:cubicBezTo>
                  <a:pt x="3940" y="9953"/>
                  <a:pt x="3983" y="9909"/>
                  <a:pt x="4018" y="9897"/>
                </a:cubicBezTo>
                <a:cubicBezTo>
                  <a:pt x="4080" y="9876"/>
                  <a:pt x="4124" y="9840"/>
                  <a:pt x="4192" y="9823"/>
                </a:cubicBezTo>
                <a:cubicBezTo>
                  <a:pt x="4288" y="9798"/>
                  <a:pt x="4357" y="9822"/>
                  <a:pt x="4415" y="9897"/>
                </a:cubicBezTo>
                <a:cubicBezTo>
                  <a:pt x="4460" y="9954"/>
                  <a:pt x="4466" y="9980"/>
                  <a:pt x="4440" y="10071"/>
                </a:cubicBezTo>
                <a:cubicBezTo>
                  <a:pt x="4415" y="10158"/>
                  <a:pt x="4357" y="10281"/>
                  <a:pt x="4291" y="10344"/>
                </a:cubicBezTo>
                <a:cubicBezTo>
                  <a:pt x="4218" y="10413"/>
                  <a:pt x="4159" y="10486"/>
                  <a:pt x="4093" y="10567"/>
                </a:cubicBezTo>
                <a:cubicBezTo>
                  <a:pt x="4059" y="10610"/>
                  <a:pt x="4012" y="10686"/>
                  <a:pt x="3969" y="10716"/>
                </a:cubicBezTo>
                <a:cubicBezTo>
                  <a:pt x="3953" y="10727"/>
                  <a:pt x="3913" y="10731"/>
                  <a:pt x="3894" y="10740"/>
                </a:cubicBezTo>
                <a:cubicBezTo>
                  <a:pt x="3923" y="10712"/>
                  <a:pt x="3933" y="10659"/>
                  <a:pt x="3969" y="10641"/>
                </a:cubicBezTo>
                <a:cubicBezTo>
                  <a:pt x="4060" y="10595"/>
                  <a:pt x="4243" y="10655"/>
                  <a:pt x="4316" y="10691"/>
                </a:cubicBezTo>
                <a:cubicBezTo>
                  <a:pt x="4397" y="10731"/>
                  <a:pt x="4500" y="10796"/>
                  <a:pt x="4589" y="10815"/>
                </a:cubicBezTo>
                <a:cubicBezTo>
                  <a:pt x="4658" y="10830"/>
                  <a:pt x="4731" y="10804"/>
                  <a:pt x="4787" y="10765"/>
                </a:cubicBezTo>
                <a:cubicBezTo>
                  <a:pt x="4795" y="10757"/>
                  <a:pt x="4804" y="10748"/>
                  <a:pt x="4812" y="10740"/>
                </a:cubicBezTo>
              </a:path>
              <a:path w="6302" h="2407">
                <a:moveTo>
                  <a:pt x="5779" y="8409"/>
                </a:moveTo>
                <a:cubicBezTo>
                  <a:pt x="5765" y="8495"/>
                  <a:pt x="5762" y="8467"/>
                  <a:pt x="5730" y="8558"/>
                </a:cubicBezTo>
                <a:cubicBezTo>
                  <a:pt x="5681" y="8699"/>
                  <a:pt x="5576" y="8815"/>
                  <a:pt x="5531" y="8954"/>
                </a:cubicBezTo>
                <a:cubicBezTo>
                  <a:pt x="5480" y="9112"/>
                  <a:pt x="5413" y="9286"/>
                  <a:pt x="5383" y="9451"/>
                </a:cubicBezTo>
                <a:cubicBezTo>
                  <a:pt x="5354" y="9608"/>
                  <a:pt x="5371" y="9742"/>
                  <a:pt x="5383" y="9897"/>
                </a:cubicBezTo>
                <a:cubicBezTo>
                  <a:pt x="5395" y="10057"/>
                  <a:pt x="5415" y="10195"/>
                  <a:pt x="5482" y="10344"/>
                </a:cubicBezTo>
                <a:cubicBezTo>
                  <a:pt x="5532" y="10455"/>
                  <a:pt x="5600" y="10535"/>
                  <a:pt x="5655" y="10641"/>
                </a:cubicBezTo>
                <a:cubicBezTo>
                  <a:pt x="5684" y="10696"/>
                  <a:pt x="5719" y="10721"/>
                  <a:pt x="5755" y="10765"/>
                </a:cubicBezTo>
                <a:cubicBezTo>
                  <a:pt x="5779" y="10765"/>
                  <a:pt x="5787" y="10765"/>
                  <a:pt x="5779" y="10790"/>
                </a:cubicBezTo>
              </a:path>
              <a:path w="6302" h="2407">
                <a:moveTo>
                  <a:pt x="6152" y="9079"/>
                </a:moveTo>
                <a:cubicBezTo>
                  <a:pt x="6301" y="9079"/>
                  <a:pt x="6449" y="9079"/>
                  <a:pt x="6598" y="9079"/>
                </a:cubicBezTo>
              </a:path>
              <a:path w="6302" h="2407">
                <a:moveTo>
                  <a:pt x="6077" y="9103"/>
                </a:moveTo>
                <a:cubicBezTo>
                  <a:pt x="6046" y="9196"/>
                  <a:pt x="6056" y="9291"/>
                  <a:pt x="6028" y="9376"/>
                </a:cubicBezTo>
                <a:cubicBezTo>
                  <a:pt x="6009" y="9432"/>
                  <a:pt x="6003" y="9443"/>
                  <a:pt x="6028" y="9500"/>
                </a:cubicBezTo>
                <a:cubicBezTo>
                  <a:pt x="6052" y="9555"/>
                  <a:pt x="6061" y="9542"/>
                  <a:pt x="6077" y="9599"/>
                </a:cubicBezTo>
                <a:cubicBezTo>
                  <a:pt x="6109" y="9554"/>
                  <a:pt x="6145" y="9548"/>
                  <a:pt x="6176" y="9500"/>
                </a:cubicBezTo>
                <a:cubicBezTo>
                  <a:pt x="6193" y="9474"/>
                  <a:pt x="6245" y="9460"/>
                  <a:pt x="6251" y="9451"/>
                </a:cubicBezTo>
                <a:cubicBezTo>
                  <a:pt x="6266" y="9428"/>
                  <a:pt x="6301" y="9344"/>
                  <a:pt x="6375" y="9401"/>
                </a:cubicBezTo>
                <a:cubicBezTo>
                  <a:pt x="6393" y="9415"/>
                  <a:pt x="6482" y="9480"/>
                  <a:pt x="6499" y="9500"/>
                </a:cubicBezTo>
                <a:cubicBezTo>
                  <a:pt x="6551" y="9560"/>
                  <a:pt x="6581" y="9635"/>
                  <a:pt x="6623" y="9699"/>
                </a:cubicBezTo>
                <a:cubicBezTo>
                  <a:pt x="6684" y="9791"/>
                  <a:pt x="6715" y="9857"/>
                  <a:pt x="6697" y="9971"/>
                </a:cubicBezTo>
                <a:cubicBezTo>
                  <a:pt x="6690" y="10013"/>
                  <a:pt x="6634" y="10175"/>
                  <a:pt x="6598" y="10195"/>
                </a:cubicBezTo>
                <a:cubicBezTo>
                  <a:pt x="6519" y="10239"/>
                  <a:pt x="6455" y="10269"/>
                  <a:pt x="6350" y="10269"/>
                </a:cubicBezTo>
                <a:cubicBezTo>
                  <a:pt x="6240" y="10269"/>
                  <a:pt x="6185" y="10285"/>
                  <a:pt x="6102" y="10220"/>
                </a:cubicBezTo>
                <a:cubicBezTo>
                  <a:pt x="6035" y="10168"/>
                  <a:pt x="6074" y="10230"/>
                  <a:pt x="6052" y="10120"/>
                </a:cubicBezTo>
              </a:path>
              <a:path w="6302" h="2407">
                <a:moveTo>
                  <a:pt x="7466" y="9376"/>
                </a:moveTo>
                <a:cubicBezTo>
                  <a:pt x="7466" y="9489"/>
                  <a:pt x="7458" y="9590"/>
                  <a:pt x="7441" y="9699"/>
                </a:cubicBezTo>
                <a:cubicBezTo>
                  <a:pt x="7431" y="9764"/>
                  <a:pt x="7466" y="9829"/>
                  <a:pt x="7466" y="9897"/>
                </a:cubicBezTo>
                <a:cubicBezTo>
                  <a:pt x="7466" y="9972"/>
                  <a:pt x="7481" y="9979"/>
                  <a:pt x="7491" y="10046"/>
                </a:cubicBezTo>
              </a:path>
              <a:path w="6302" h="2407">
                <a:moveTo>
                  <a:pt x="7144" y="9624"/>
                </a:moveTo>
                <a:cubicBezTo>
                  <a:pt x="7375" y="9624"/>
                  <a:pt x="7607" y="9624"/>
                  <a:pt x="7838" y="9624"/>
                </a:cubicBezTo>
              </a:path>
              <a:path w="6302" h="2407">
                <a:moveTo>
                  <a:pt x="8012" y="9252"/>
                </a:moveTo>
                <a:cubicBezTo>
                  <a:pt x="8031" y="9419"/>
                  <a:pt x="8058" y="9581"/>
                  <a:pt x="8062" y="9748"/>
                </a:cubicBezTo>
                <a:cubicBezTo>
                  <a:pt x="8065" y="9881"/>
                  <a:pt x="8086" y="10012"/>
                  <a:pt x="8086" y="10145"/>
                </a:cubicBezTo>
                <a:cubicBezTo>
                  <a:pt x="8086" y="10230"/>
                  <a:pt x="8086" y="10230"/>
                  <a:pt x="8086" y="10145"/>
                </a:cubicBezTo>
                <a:cubicBezTo>
                  <a:pt x="8086" y="10137"/>
                  <a:pt x="8086" y="10128"/>
                  <a:pt x="8086" y="10120"/>
                </a:cubicBezTo>
              </a:path>
              <a:path w="6302" h="2407">
                <a:moveTo>
                  <a:pt x="8285" y="9302"/>
                </a:moveTo>
                <a:cubicBezTo>
                  <a:pt x="8273" y="9460"/>
                  <a:pt x="8215" y="9729"/>
                  <a:pt x="8235" y="9897"/>
                </a:cubicBezTo>
                <a:cubicBezTo>
                  <a:pt x="8242" y="9956"/>
                  <a:pt x="8286" y="10079"/>
                  <a:pt x="8334" y="10120"/>
                </a:cubicBezTo>
                <a:cubicBezTo>
                  <a:pt x="8402" y="10178"/>
                  <a:pt x="8445" y="10195"/>
                  <a:pt x="8533" y="10195"/>
                </a:cubicBezTo>
                <a:cubicBezTo>
                  <a:pt x="8613" y="10195"/>
                  <a:pt x="8649" y="10112"/>
                  <a:pt x="8682" y="10046"/>
                </a:cubicBezTo>
                <a:cubicBezTo>
                  <a:pt x="8711" y="9987"/>
                  <a:pt x="8722" y="9984"/>
                  <a:pt x="8731" y="9922"/>
                </a:cubicBezTo>
                <a:cubicBezTo>
                  <a:pt x="8695" y="9895"/>
                  <a:pt x="8649" y="9877"/>
                  <a:pt x="8607" y="9922"/>
                </a:cubicBezTo>
                <a:cubicBezTo>
                  <a:pt x="8550" y="9983"/>
                  <a:pt x="8535" y="10073"/>
                  <a:pt x="8508" y="10145"/>
                </a:cubicBezTo>
                <a:cubicBezTo>
                  <a:pt x="8479" y="10222"/>
                  <a:pt x="8506" y="10195"/>
                  <a:pt x="8582" y="10195"/>
                </a:cubicBezTo>
                <a:cubicBezTo>
                  <a:pt x="8590" y="10195"/>
                  <a:pt x="8599" y="10195"/>
                  <a:pt x="8607" y="10195"/>
                </a:cubicBezTo>
              </a:path>
              <a:path w="6302" h="2407">
                <a:moveTo>
                  <a:pt x="8731" y="9451"/>
                </a:moveTo>
                <a:cubicBezTo>
                  <a:pt x="8736" y="9587"/>
                  <a:pt x="8704" y="9689"/>
                  <a:pt x="8806" y="9748"/>
                </a:cubicBezTo>
                <a:cubicBezTo>
                  <a:pt x="8863" y="9781"/>
                  <a:pt x="8963" y="9788"/>
                  <a:pt x="9029" y="9773"/>
                </a:cubicBezTo>
                <a:cubicBezTo>
                  <a:pt x="9096" y="9750"/>
                  <a:pt x="9117" y="9749"/>
                  <a:pt x="9128" y="9699"/>
                </a:cubicBezTo>
              </a:path>
              <a:path w="6302" h="2407">
                <a:moveTo>
                  <a:pt x="9079" y="9376"/>
                </a:moveTo>
                <a:cubicBezTo>
                  <a:pt x="9067" y="9563"/>
                  <a:pt x="9024" y="9844"/>
                  <a:pt x="9054" y="10046"/>
                </a:cubicBezTo>
                <a:cubicBezTo>
                  <a:pt x="9069" y="10147"/>
                  <a:pt x="9079" y="10241"/>
                  <a:pt x="9079" y="10344"/>
                </a:cubicBezTo>
                <a:cubicBezTo>
                  <a:pt x="9079" y="10431"/>
                  <a:pt x="9087" y="10427"/>
                  <a:pt x="9103" y="10344"/>
                </a:cubicBezTo>
              </a:path>
              <a:path w="6302" h="2407">
                <a:moveTo>
                  <a:pt x="9351" y="9376"/>
                </a:moveTo>
                <a:cubicBezTo>
                  <a:pt x="9351" y="9446"/>
                  <a:pt x="9341" y="9532"/>
                  <a:pt x="9327" y="9599"/>
                </a:cubicBezTo>
                <a:cubicBezTo>
                  <a:pt x="9307" y="9694"/>
                  <a:pt x="9285" y="9761"/>
                  <a:pt x="9327" y="9847"/>
                </a:cubicBezTo>
                <a:cubicBezTo>
                  <a:pt x="9347" y="9888"/>
                  <a:pt x="9420" y="9937"/>
                  <a:pt x="9475" y="9922"/>
                </a:cubicBezTo>
                <a:cubicBezTo>
                  <a:pt x="9523" y="9898"/>
                  <a:pt x="9538" y="9890"/>
                  <a:pt x="9575" y="9897"/>
                </a:cubicBezTo>
              </a:path>
              <a:path w="6302" h="2407">
                <a:moveTo>
                  <a:pt x="9699" y="9178"/>
                </a:moveTo>
                <a:cubicBezTo>
                  <a:pt x="9671" y="9392"/>
                  <a:pt x="9653" y="9610"/>
                  <a:pt x="9624" y="9823"/>
                </a:cubicBezTo>
                <a:cubicBezTo>
                  <a:pt x="9602" y="9989"/>
                  <a:pt x="9575" y="10174"/>
                  <a:pt x="9599" y="10344"/>
                </a:cubicBezTo>
                <a:cubicBezTo>
                  <a:pt x="9607" y="10369"/>
                  <a:pt x="9616" y="10393"/>
                  <a:pt x="9624" y="1041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3732120" y="2919240"/>
            <a:ext cx="260280" cy="1081440"/>
          </a:xfrm>
          <a:custGeom>
            <a:avLst/>
            <a:gdLst/>
            <a:ahLst/>
            <a:rect l="l" t="t" r="r" b="b"/>
            <a:pathLst>
              <a:path w="721" h="3002">
                <a:moveTo>
                  <a:pt x="10368" y="8111"/>
                </a:moveTo>
                <a:cubicBezTo>
                  <a:pt x="10388" y="8147"/>
                  <a:pt x="10413" y="8198"/>
                  <a:pt x="10443" y="8235"/>
                </a:cubicBezTo>
                <a:cubicBezTo>
                  <a:pt x="10517" y="8327"/>
                  <a:pt x="10610" y="8401"/>
                  <a:pt x="10666" y="8508"/>
                </a:cubicBezTo>
                <a:cubicBezTo>
                  <a:pt x="10750" y="8668"/>
                  <a:pt x="10849" y="8837"/>
                  <a:pt x="10914" y="9004"/>
                </a:cubicBezTo>
                <a:cubicBezTo>
                  <a:pt x="10992" y="9204"/>
                  <a:pt x="11033" y="9413"/>
                  <a:pt x="11063" y="9624"/>
                </a:cubicBezTo>
                <a:cubicBezTo>
                  <a:pt x="11092" y="9829"/>
                  <a:pt x="11098" y="10017"/>
                  <a:pt x="11063" y="10220"/>
                </a:cubicBezTo>
                <a:cubicBezTo>
                  <a:pt x="11037" y="10374"/>
                  <a:pt x="10978" y="10552"/>
                  <a:pt x="10914" y="10691"/>
                </a:cubicBezTo>
                <a:cubicBezTo>
                  <a:pt x="10854" y="10821"/>
                  <a:pt x="10724" y="10950"/>
                  <a:pt x="10616" y="11038"/>
                </a:cubicBezTo>
                <a:cubicBezTo>
                  <a:pt x="10580" y="11068"/>
                  <a:pt x="10530" y="11086"/>
                  <a:pt x="10492" y="1111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106960" y="3106800"/>
            <a:ext cx="706320" cy="600120"/>
          </a:xfrm>
          <a:custGeom>
            <a:avLst/>
            <a:gdLst/>
            <a:ahLst/>
            <a:rect l="l" t="t" r="r" b="b"/>
            <a:pathLst>
              <a:path w="1961" h="1663">
                <a:moveTo>
                  <a:pt x="14709" y="9103"/>
                </a:moveTo>
                <a:cubicBezTo>
                  <a:pt x="14687" y="9168"/>
                  <a:pt x="14679" y="9183"/>
                  <a:pt x="14684" y="9227"/>
                </a:cubicBezTo>
                <a:cubicBezTo>
                  <a:pt x="14690" y="9211"/>
                  <a:pt x="14729" y="9125"/>
                  <a:pt x="14734" y="9079"/>
                </a:cubicBezTo>
                <a:cubicBezTo>
                  <a:pt x="14744" y="8989"/>
                  <a:pt x="14721" y="8939"/>
                  <a:pt x="14709" y="8855"/>
                </a:cubicBezTo>
                <a:cubicBezTo>
                  <a:pt x="14698" y="8776"/>
                  <a:pt x="14685" y="8727"/>
                  <a:pt x="14635" y="8657"/>
                </a:cubicBezTo>
                <a:cubicBezTo>
                  <a:pt x="14627" y="8649"/>
                  <a:pt x="14618" y="8640"/>
                  <a:pt x="14610" y="8632"/>
                </a:cubicBezTo>
                <a:cubicBezTo>
                  <a:pt x="14580" y="8651"/>
                  <a:pt x="14507" y="8683"/>
                  <a:pt x="14486" y="8706"/>
                </a:cubicBezTo>
                <a:cubicBezTo>
                  <a:pt x="14419" y="8780"/>
                  <a:pt x="14346" y="8912"/>
                  <a:pt x="14312" y="9004"/>
                </a:cubicBezTo>
                <a:cubicBezTo>
                  <a:pt x="14250" y="9169"/>
                  <a:pt x="14212" y="9378"/>
                  <a:pt x="14188" y="9550"/>
                </a:cubicBezTo>
                <a:cubicBezTo>
                  <a:pt x="14175" y="9645"/>
                  <a:pt x="14219" y="9700"/>
                  <a:pt x="14263" y="9773"/>
                </a:cubicBezTo>
                <a:cubicBezTo>
                  <a:pt x="14283" y="9806"/>
                  <a:pt x="14360" y="9861"/>
                  <a:pt x="14412" y="9823"/>
                </a:cubicBezTo>
                <a:cubicBezTo>
                  <a:pt x="14474" y="9778"/>
                  <a:pt x="14504" y="9676"/>
                  <a:pt x="14560" y="9624"/>
                </a:cubicBezTo>
                <a:cubicBezTo>
                  <a:pt x="14599" y="9587"/>
                  <a:pt x="14672" y="9512"/>
                  <a:pt x="14684" y="9451"/>
                </a:cubicBezTo>
                <a:cubicBezTo>
                  <a:pt x="14687" y="9433"/>
                  <a:pt x="14709" y="9255"/>
                  <a:pt x="14709" y="9376"/>
                </a:cubicBezTo>
                <a:cubicBezTo>
                  <a:pt x="14709" y="9505"/>
                  <a:pt x="14719" y="9627"/>
                  <a:pt x="14734" y="9748"/>
                </a:cubicBezTo>
                <a:cubicBezTo>
                  <a:pt x="14734" y="9810"/>
                  <a:pt x="14724" y="9825"/>
                  <a:pt x="14759" y="9847"/>
                </a:cubicBezTo>
              </a:path>
              <a:path w="1961" h="1663">
                <a:moveTo>
                  <a:pt x="14908" y="9823"/>
                </a:moveTo>
                <a:cubicBezTo>
                  <a:pt x="14899" y="9925"/>
                  <a:pt x="14883" y="10016"/>
                  <a:pt x="14883" y="10120"/>
                </a:cubicBezTo>
                <a:cubicBezTo>
                  <a:pt x="14883" y="10169"/>
                  <a:pt x="14877" y="10175"/>
                  <a:pt x="14908" y="10195"/>
                </a:cubicBezTo>
              </a:path>
              <a:path w="1961" h="1663">
                <a:moveTo>
                  <a:pt x="15156" y="9699"/>
                </a:moveTo>
                <a:cubicBezTo>
                  <a:pt x="15234" y="9699"/>
                  <a:pt x="15343" y="9720"/>
                  <a:pt x="15404" y="9674"/>
                </a:cubicBezTo>
              </a:path>
              <a:path w="1961" h="1663">
                <a:moveTo>
                  <a:pt x="15131" y="9748"/>
                </a:moveTo>
                <a:cubicBezTo>
                  <a:pt x="15061" y="9857"/>
                  <a:pt x="15056" y="9822"/>
                  <a:pt x="15056" y="9922"/>
                </a:cubicBezTo>
                <a:cubicBezTo>
                  <a:pt x="15095" y="9912"/>
                  <a:pt x="15111" y="9897"/>
                  <a:pt x="15156" y="9897"/>
                </a:cubicBezTo>
                <a:cubicBezTo>
                  <a:pt x="15193" y="9897"/>
                  <a:pt x="15315" y="9876"/>
                  <a:pt x="15329" y="9922"/>
                </a:cubicBezTo>
                <a:cubicBezTo>
                  <a:pt x="15354" y="10001"/>
                  <a:pt x="15313" y="10078"/>
                  <a:pt x="15280" y="10120"/>
                </a:cubicBezTo>
                <a:cubicBezTo>
                  <a:pt x="15224" y="10193"/>
                  <a:pt x="15218" y="10213"/>
                  <a:pt x="15131" y="10220"/>
                </a:cubicBezTo>
                <a:cubicBezTo>
                  <a:pt x="15074" y="10225"/>
                  <a:pt x="15060" y="10187"/>
                  <a:pt x="15056" y="10145"/>
                </a:cubicBezTo>
                <a:cubicBezTo>
                  <a:pt x="15056" y="10102"/>
                  <a:pt x="15062" y="10077"/>
                  <a:pt x="15081" y="10046"/>
                </a:cubicBezTo>
              </a:path>
              <a:path w="1961" h="1663">
                <a:moveTo>
                  <a:pt x="15453" y="9971"/>
                </a:moveTo>
                <a:cubicBezTo>
                  <a:pt x="15419" y="10075"/>
                  <a:pt x="15416" y="10102"/>
                  <a:pt x="15429" y="10195"/>
                </a:cubicBezTo>
                <a:cubicBezTo>
                  <a:pt x="15438" y="10263"/>
                  <a:pt x="15427" y="10286"/>
                  <a:pt x="15503" y="10294"/>
                </a:cubicBezTo>
                <a:cubicBezTo>
                  <a:pt x="15528" y="10297"/>
                  <a:pt x="15619" y="10290"/>
                  <a:pt x="15627" y="10269"/>
                </a:cubicBezTo>
                <a:cubicBezTo>
                  <a:pt x="15644" y="10222"/>
                  <a:pt x="15652" y="10173"/>
                  <a:pt x="15652" y="10120"/>
                </a:cubicBezTo>
                <a:cubicBezTo>
                  <a:pt x="15652" y="10040"/>
                  <a:pt x="15607" y="9988"/>
                  <a:pt x="15577" y="9897"/>
                </a:cubicBezTo>
              </a:path>
              <a:path w="1961" h="1663">
                <a:moveTo>
                  <a:pt x="15825" y="9376"/>
                </a:moveTo>
                <a:cubicBezTo>
                  <a:pt x="15920" y="9376"/>
                  <a:pt x="15985" y="9394"/>
                  <a:pt x="16073" y="9401"/>
                </a:cubicBezTo>
                <a:cubicBezTo>
                  <a:pt x="16106" y="9401"/>
                  <a:pt x="16123" y="9401"/>
                  <a:pt x="16148" y="9401"/>
                </a:cubicBezTo>
              </a:path>
              <a:path w="1961" h="1663">
                <a:moveTo>
                  <a:pt x="15825" y="9599"/>
                </a:moveTo>
                <a:cubicBezTo>
                  <a:pt x="15961" y="9629"/>
                  <a:pt x="15993" y="9647"/>
                  <a:pt x="16098" y="967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081840" y="3054240"/>
            <a:ext cx="2295360" cy="731880"/>
          </a:xfrm>
          <a:custGeom>
            <a:avLst/>
            <a:gdLst/>
            <a:ahLst/>
            <a:rect l="l" t="t" r="r" b="b"/>
            <a:pathLst>
              <a:path w="6376" h="2035">
                <a:moveTo>
                  <a:pt x="17066" y="8632"/>
                </a:moveTo>
                <a:cubicBezTo>
                  <a:pt x="17160" y="8685"/>
                  <a:pt x="17206" y="8706"/>
                  <a:pt x="17314" y="8706"/>
                </a:cubicBezTo>
                <a:cubicBezTo>
                  <a:pt x="17404" y="8706"/>
                  <a:pt x="17440" y="8727"/>
                  <a:pt x="17487" y="8657"/>
                </a:cubicBezTo>
              </a:path>
              <a:path w="6376" h="2035">
                <a:moveTo>
                  <a:pt x="16966" y="8632"/>
                </a:moveTo>
                <a:cubicBezTo>
                  <a:pt x="16940" y="8724"/>
                  <a:pt x="16903" y="8836"/>
                  <a:pt x="16892" y="8930"/>
                </a:cubicBezTo>
                <a:cubicBezTo>
                  <a:pt x="16882" y="9011"/>
                  <a:pt x="16913" y="9082"/>
                  <a:pt x="16942" y="9153"/>
                </a:cubicBezTo>
                <a:cubicBezTo>
                  <a:pt x="16963" y="9134"/>
                  <a:pt x="17004" y="9091"/>
                  <a:pt x="17041" y="9079"/>
                </a:cubicBezTo>
                <a:cubicBezTo>
                  <a:pt x="17086" y="9064"/>
                  <a:pt x="17121" y="9042"/>
                  <a:pt x="17165" y="9029"/>
                </a:cubicBezTo>
                <a:cubicBezTo>
                  <a:pt x="17188" y="9022"/>
                  <a:pt x="17276" y="9066"/>
                  <a:pt x="17289" y="9079"/>
                </a:cubicBezTo>
                <a:cubicBezTo>
                  <a:pt x="17375" y="9165"/>
                  <a:pt x="17387" y="9267"/>
                  <a:pt x="17413" y="9376"/>
                </a:cubicBezTo>
                <a:cubicBezTo>
                  <a:pt x="17437" y="9474"/>
                  <a:pt x="17439" y="9526"/>
                  <a:pt x="17413" y="9624"/>
                </a:cubicBezTo>
                <a:cubicBezTo>
                  <a:pt x="17379" y="9752"/>
                  <a:pt x="17330" y="9729"/>
                  <a:pt x="17239" y="9773"/>
                </a:cubicBezTo>
                <a:cubicBezTo>
                  <a:pt x="17186" y="9798"/>
                  <a:pt x="17058" y="9871"/>
                  <a:pt x="16991" y="9823"/>
                </a:cubicBezTo>
                <a:cubicBezTo>
                  <a:pt x="16979" y="9814"/>
                  <a:pt x="16933" y="9764"/>
                  <a:pt x="16917" y="9748"/>
                </a:cubicBezTo>
              </a:path>
              <a:path w="6376" h="2035">
                <a:moveTo>
                  <a:pt x="17959" y="9029"/>
                </a:moveTo>
                <a:cubicBezTo>
                  <a:pt x="17946" y="9186"/>
                  <a:pt x="17934" y="9322"/>
                  <a:pt x="17934" y="9475"/>
                </a:cubicBezTo>
                <a:cubicBezTo>
                  <a:pt x="17934" y="9558"/>
                  <a:pt x="17953" y="9601"/>
                  <a:pt x="17959" y="9674"/>
                </a:cubicBezTo>
                <a:cubicBezTo>
                  <a:pt x="17962" y="9707"/>
                  <a:pt x="17959" y="9657"/>
                  <a:pt x="17959" y="9624"/>
                </a:cubicBezTo>
              </a:path>
              <a:path w="6376" h="2035">
                <a:moveTo>
                  <a:pt x="17686" y="9252"/>
                </a:moveTo>
                <a:cubicBezTo>
                  <a:pt x="17849" y="9236"/>
                  <a:pt x="17995" y="9227"/>
                  <a:pt x="18157" y="9227"/>
                </a:cubicBezTo>
              </a:path>
              <a:path w="6376" h="2035">
                <a:moveTo>
                  <a:pt x="18728" y="8706"/>
                </a:moveTo>
                <a:cubicBezTo>
                  <a:pt x="18685" y="8740"/>
                  <a:pt x="18610" y="8863"/>
                  <a:pt x="18579" y="8930"/>
                </a:cubicBezTo>
                <a:cubicBezTo>
                  <a:pt x="18532" y="9033"/>
                  <a:pt x="18489" y="9191"/>
                  <a:pt x="18479" y="9302"/>
                </a:cubicBezTo>
                <a:cubicBezTo>
                  <a:pt x="18467" y="9429"/>
                  <a:pt x="18471" y="9576"/>
                  <a:pt x="18504" y="9699"/>
                </a:cubicBezTo>
                <a:cubicBezTo>
                  <a:pt x="18530" y="9794"/>
                  <a:pt x="18576" y="9906"/>
                  <a:pt x="18653" y="9971"/>
                </a:cubicBezTo>
                <a:cubicBezTo>
                  <a:pt x="18669" y="9984"/>
                  <a:pt x="18757" y="9971"/>
                  <a:pt x="18777" y="9971"/>
                </a:cubicBezTo>
              </a:path>
              <a:path w="6376" h="2035">
                <a:moveTo>
                  <a:pt x="18951" y="8954"/>
                </a:moveTo>
                <a:cubicBezTo>
                  <a:pt x="18965" y="9140"/>
                  <a:pt x="18976" y="9315"/>
                  <a:pt x="18976" y="9500"/>
                </a:cubicBezTo>
                <a:cubicBezTo>
                  <a:pt x="18976" y="9616"/>
                  <a:pt x="18976" y="9731"/>
                  <a:pt x="18976" y="9847"/>
                </a:cubicBezTo>
                <a:cubicBezTo>
                  <a:pt x="19013" y="9835"/>
                  <a:pt x="19016" y="9804"/>
                  <a:pt x="19050" y="9748"/>
                </a:cubicBezTo>
              </a:path>
              <a:path w="6376" h="2035">
                <a:moveTo>
                  <a:pt x="19273" y="8930"/>
                </a:moveTo>
                <a:cubicBezTo>
                  <a:pt x="19378" y="8941"/>
                  <a:pt x="19526" y="8985"/>
                  <a:pt x="19621" y="8930"/>
                </a:cubicBezTo>
              </a:path>
              <a:path w="6376" h="2035">
                <a:moveTo>
                  <a:pt x="19199" y="9004"/>
                </a:moveTo>
                <a:cubicBezTo>
                  <a:pt x="19175" y="9052"/>
                  <a:pt x="19096" y="9160"/>
                  <a:pt x="19124" y="9227"/>
                </a:cubicBezTo>
                <a:cubicBezTo>
                  <a:pt x="19146" y="9279"/>
                  <a:pt x="19139" y="9302"/>
                  <a:pt x="19199" y="9302"/>
                </a:cubicBezTo>
                <a:cubicBezTo>
                  <a:pt x="19271" y="9302"/>
                  <a:pt x="19252" y="9309"/>
                  <a:pt x="19298" y="9252"/>
                </a:cubicBezTo>
                <a:cubicBezTo>
                  <a:pt x="19334" y="9207"/>
                  <a:pt x="19423" y="9227"/>
                  <a:pt x="19472" y="9227"/>
                </a:cubicBezTo>
                <a:cubicBezTo>
                  <a:pt x="19557" y="9227"/>
                  <a:pt x="19578" y="9305"/>
                  <a:pt x="19596" y="9376"/>
                </a:cubicBezTo>
                <a:cubicBezTo>
                  <a:pt x="19619" y="9469"/>
                  <a:pt x="19642" y="9583"/>
                  <a:pt x="19596" y="9674"/>
                </a:cubicBezTo>
                <a:cubicBezTo>
                  <a:pt x="19560" y="9745"/>
                  <a:pt x="19530" y="9796"/>
                  <a:pt x="19472" y="9823"/>
                </a:cubicBezTo>
                <a:cubicBezTo>
                  <a:pt x="19414" y="9850"/>
                  <a:pt x="19323" y="9952"/>
                  <a:pt x="19248" y="9897"/>
                </a:cubicBezTo>
                <a:cubicBezTo>
                  <a:pt x="19204" y="9865"/>
                  <a:pt x="19153" y="9819"/>
                  <a:pt x="19149" y="9773"/>
                </a:cubicBezTo>
                <a:cubicBezTo>
                  <a:pt x="19149" y="9765"/>
                  <a:pt x="19149" y="9756"/>
                  <a:pt x="19149" y="9748"/>
                </a:cubicBezTo>
              </a:path>
              <a:path w="6376" h="2035">
                <a:moveTo>
                  <a:pt x="19819" y="9227"/>
                </a:moveTo>
                <a:cubicBezTo>
                  <a:pt x="19795" y="9350"/>
                  <a:pt x="19735" y="9565"/>
                  <a:pt x="19745" y="9699"/>
                </a:cubicBezTo>
                <a:cubicBezTo>
                  <a:pt x="19750" y="9766"/>
                  <a:pt x="19773" y="9916"/>
                  <a:pt x="19819" y="9971"/>
                </a:cubicBezTo>
                <a:cubicBezTo>
                  <a:pt x="19836" y="9991"/>
                  <a:pt x="19913" y="10006"/>
                  <a:pt x="19943" y="9996"/>
                </a:cubicBezTo>
                <a:cubicBezTo>
                  <a:pt x="20029" y="9967"/>
                  <a:pt x="20063" y="9940"/>
                  <a:pt x="20092" y="9847"/>
                </a:cubicBezTo>
                <a:cubicBezTo>
                  <a:pt x="20118" y="9765"/>
                  <a:pt x="20117" y="9686"/>
                  <a:pt x="20117" y="9599"/>
                </a:cubicBezTo>
                <a:cubicBezTo>
                  <a:pt x="20117" y="9483"/>
                  <a:pt x="20104" y="9412"/>
                  <a:pt x="20067" y="9302"/>
                </a:cubicBezTo>
                <a:cubicBezTo>
                  <a:pt x="20043" y="9230"/>
                  <a:pt x="19924" y="9168"/>
                  <a:pt x="19918" y="9153"/>
                </a:cubicBezTo>
                <a:cubicBezTo>
                  <a:pt x="19876" y="9049"/>
                  <a:pt x="19903" y="9144"/>
                  <a:pt x="19943" y="9153"/>
                </a:cubicBezTo>
                <a:cubicBezTo>
                  <a:pt x="19951" y="9153"/>
                  <a:pt x="19960" y="9153"/>
                  <a:pt x="19968" y="9153"/>
                </a:cubicBezTo>
              </a:path>
              <a:path w="6376" h="2035">
                <a:moveTo>
                  <a:pt x="20315" y="9451"/>
                </a:moveTo>
                <a:cubicBezTo>
                  <a:pt x="20428" y="9470"/>
                  <a:pt x="20485" y="9488"/>
                  <a:pt x="20588" y="9451"/>
                </a:cubicBezTo>
              </a:path>
              <a:path w="6376" h="2035">
                <a:moveTo>
                  <a:pt x="20836" y="9103"/>
                </a:moveTo>
                <a:cubicBezTo>
                  <a:pt x="20820" y="9226"/>
                  <a:pt x="20778" y="9403"/>
                  <a:pt x="20786" y="9525"/>
                </a:cubicBezTo>
                <a:cubicBezTo>
                  <a:pt x="20792" y="9619"/>
                  <a:pt x="20811" y="9757"/>
                  <a:pt x="20836" y="9847"/>
                </a:cubicBezTo>
                <a:cubicBezTo>
                  <a:pt x="20864" y="9950"/>
                  <a:pt x="20871" y="10069"/>
                  <a:pt x="20886" y="9847"/>
                </a:cubicBezTo>
              </a:path>
              <a:path w="6376" h="2035">
                <a:moveTo>
                  <a:pt x="20861" y="8508"/>
                </a:moveTo>
                <a:cubicBezTo>
                  <a:pt x="21012" y="8447"/>
                  <a:pt x="21146" y="8830"/>
                  <a:pt x="21208" y="8930"/>
                </a:cubicBezTo>
                <a:cubicBezTo>
                  <a:pt x="21301" y="9079"/>
                  <a:pt x="21328" y="9227"/>
                  <a:pt x="21332" y="9401"/>
                </a:cubicBezTo>
                <a:cubicBezTo>
                  <a:pt x="21335" y="9546"/>
                  <a:pt x="21338" y="9686"/>
                  <a:pt x="21282" y="9823"/>
                </a:cubicBezTo>
                <a:cubicBezTo>
                  <a:pt x="21235" y="9937"/>
                  <a:pt x="21195" y="9992"/>
                  <a:pt x="21109" y="10046"/>
                </a:cubicBezTo>
                <a:cubicBezTo>
                  <a:pt x="21107" y="10047"/>
                  <a:pt x="21017" y="10164"/>
                  <a:pt x="21010" y="10120"/>
                </a:cubicBezTo>
                <a:cubicBezTo>
                  <a:pt x="21018" y="10095"/>
                  <a:pt x="21026" y="10071"/>
                  <a:pt x="21034" y="10046"/>
                </a:cubicBezTo>
              </a:path>
              <a:path w="6376" h="2035">
                <a:moveTo>
                  <a:pt x="21704" y="8558"/>
                </a:moveTo>
                <a:cubicBezTo>
                  <a:pt x="21696" y="8716"/>
                  <a:pt x="21670" y="8850"/>
                  <a:pt x="21630" y="9004"/>
                </a:cubicBezTo>
                <a:cubicBezTo>
                  <a:pt x="21589" y="9163"/>
                  <a:pt x="21540" y="9334"/>
                  <a:pt x="21555" y="9500"/>
                </a:cubicBezTo>
                <a:cubicBezTo>
                  <a:pt x="21573" y="9700"/>
                  <a:pt x="21658" y="9864"/>
                  <a:pt x="21729" y="10046"/>
                </a:cubicBezTo>
                <a:cubicBezTo>
                  <a:pt x="21802" y="10233"/>
                  <a:pt x="21884" y="10343"/>
                  <a:pt x="22002" y="10517"/>
                </a:cubicBezTo>
              </a:path>
              <a:path w="6376" h="2035">
                <a:moveTo>
                  <a:pt x="22250" y="9103"/>
                </a:moveTo>
                <a:cubicBezTo>
                  <a:pt x="22250" y="9376"/>
                  <a:pt x="22199" y="9709"/>
                  <a:pt x="22275" y="9971"/>
                </a:cubicBezTo>
                <a:cubicBezTo>
                  <a:pt x="22295" y="10032"/>
                  <a:pt x="22292" y="10047"/>
                  <a:pt x="22324" y="10071"/>
                </a:cubicBezTo>
              </a:path>
              <a:path w="6376" h="2035">
                <a:moveTo>
                  <a:pt x="22671" y="9153"/>
                </a:moveTo>
                <a:cubicBezTo>
                  <a:pt x="22656" y="9316"/>
                  <a:pt x="22623" y="9508"/>
                  <a:pt x="22647" y="9674"/>
                </a:cubicBezTo>
                <a:cubicBezTo>
                  <a:pt x="22663" y="9786"/>
                  <a:pt x="22678" y="9945"/>
                  <a:pt x="22721" y="10046"/>
                </a:cubicBezTo>
                <a:cubicBezTo>
                  <a:pt x="22737" y="10083"/>
                  <a:pt x="22770" y="10136"/>
                  <a:pt x="22796" y="10145"/>
                </a:cubicBezTo>
              </a:path>
              <a:path w="6376" h="2035">
                <a:moveTo>
                  <a:pt x="22994" y="8706"/>
                </a:moveTo>
                <a:cubicBezTo>
                  <a:pt x="23091" y="8921"/>
                  <a:pt x="23208" y="9141"/>
                  <a:pt x="23242" y="9376"/>
                </a:cubicBezTo>
                <a:cubicBezTo>
                  <a:pt x="23266" y="9543"/>
                  <a:pt x="23287" y="9731"/>
                  <a:pt x="23242" y="9897"/>
                </a:cubicBezTo>
                <a:cubicBezTo>
                  <a:pt x="23196" y="10066"/>
                  <a:pt x="23142" y="10190"/>
                  <a:pt x="23068" y="1034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956120" y="3786120"/>
            <a:ext cx="608040" cy="500040"/>
          </a:xfrm>
          <a:custGeom>
            <a:avLst/>
            <a:gdLst/>
            <a:ahLst/>
            <a:rect l="l" t="t" r="r" b="b"/>
            <a:pathLst>
              <a:path w="1687" h="1390">
                <a:moveTo>
                  <a:pt x="14412" y="10914"/>
                </a:moveTo>
                <a:cubicBezTo>
                  <a:pt x="14426" y="10994"/>
                  <a:pt x="14431" y="11039"/>
                  <a:pt x="14436" y="11112"/>
                </a:cubicBezTo>
                <a:cubicBezTo>
                  <a:pt x="14436" y="11061"/>
                  <a:pt x="14420" y="11064"/>
                  <a:pt x="14412" y="11013"/>
                </a:cubicBezTo>
                <a:cubicBezTo>
                  <a:pt x="14397" y="10920"/>
                  <a:pt x="14359" y="10873"/>
                  <a:pt x="14312" y="10790"/>
                </a:cubicBezTo>
                <a:cubicBezTo>
                  <a:pt x="14248" y="10676"/>
                  <a:pt x="14219" y="10642"/>
                  <a:pt x="14139" y="10567"/>
                </a:cubicBezTo>
                <a:cubicBezTo>
                  <a:pt x="14115" y="10519"/>
                  <a:pt x="14109" y="10502"/>
                  <a:pt x="14064" y="10517"/>
                </a:cubicBezTo>
                <a:cubicBezTo>
                  <a:pt x="13970" y="10594"/>
                  <a:pt x="13918" y="10657"/>
                  <a:pt x="13866" y="10765"/>
                </a:cubicBezTo>
                <a:cubicBezTo>
                  <a:pt x="13798" y="10904"/>
                  <a:pt x="13771" y="11032"/>
                  <a:pt x="13767" y="11187"/>
                </a:cubicBezTo>
                <a:cubicBezTo>
                  <a:pt x="13764" y="11312"/>
                  <a:pt x="13789" y="11499"/>
                  <a:pt x="13891" y="11584"/>
                </a:cubicBezTo>
                <a:cubicBezTo>
                  <a:pt x="13923" y="11611"/>
                  <a:pt x="14050" y="11631"/>
                  <a:pt x="14089" y="11609"/>
                </a:cubicBezTo>
                <a:cubicBezTo>
                  <a:pt x="14161" y="11569"/>
                  <a:pt x="14251" y="11485"/>
                  <a:pt x="14288" y="11410"/>
                </a:cubicBezTo>
                <a:cubicBezTo>
                  <a:pt x="14327" y="11331"/>
                  <a:pt x="14357" y="11224"/>
                  <a:pt x="14362" y="11137"/>
                </a:cubicBezTo>
                <a:cubicBezTo>
                  <a:pt x="14362" y="11096"/>
                  <a:pt x="14362" y="11088"/>
                  <a:pt x="14362" y="11063"/>
                </a:cubicBezTo>
                <a:cubicBezTo>
                  <a:pt x="14347" y="11118"/>
                  <a:pt x="14321" y="11181"/>
                  <a:pt x="14312" y="11237"/>
                </a:cubicBezTo>
                <a:cubicBezTo>
                  <a:pt x="14299" y="11314"/>
                  <a:pt x="14322" y="11465"/>
                  <a:pt x="14362" y="11534"/>
                </a:cubicBezTo>
                <a:cubicBezTo>
                  <a:pt x="14380" y="11566"/>
                  <a:pt x="14421" y="11593"/>
                  <a:pt x="14436" y="11609"/>
                </a:cubicBezTo>
              </a:path>
              <a:path w="1687" h="1390">
                <a:moveTo>
                  <a:pt x="14709" y="11683"/>
                </a:moveTo>
                <a:cubicBezTo>
                  <a:pt x="14709" y="11752"/>
                  <a:pt x="14676" y="11903"/>
                  <a:pt x="14734" y="11807"/>
                </a:cubicBezTo>
              </a:path>
              <a:path w="1687" h="1390">
                <a:moveTo>
                  <a:pt x="14982" y="11410"/>
                </a:moveTo>
                <a:cubicBezTo>
                  <a:pt x="15076" y="11410"/>
                  <a:pt x="15097" y="11431"/>
                  <a:pt x="15131" y="11385"/>
                </a:cubicBezTo>
              </a:path>
              <a:path w="1687" h="1390">
                <a:moveTo>
                  <a:pt x="14883" y="11460"/>
                </a:moveTo>
                <a:cubicBezTo>
                  <a:pt x="14825" y="11518"/>
                  <a:pt x="14783" y="11526"/>
                  <a:pt x="14833" y="11559"/>
                </a:cubicBezTo>
                <a:cubicBezTo>
                  <a:pt x="14850" y="11584"/>
                  <a:pt x="14910" y="11608"/>
                  <a:pt x="14957" y="11633"/>
                </a:cubicBezTo>
                <a:cubicBezTo>
                  <a:pt x="15012" y="11662"/>
                  <a:pt x="15088" y="11691"/>
                  <a:pt x="15106" y="11757"/>
                </a:cubicBezTo>
                <a:cubicBezTo>
                  <a:pt x="15126" y="11832"/>
                  <a:pt x="15102" y="11843"/>
                  <a:pt x="15056" y="11881"/>
                </a:cubicBezTo>
                <a:cubicBezTo>
                  <a:pt x="15010" y="11919"/>
                  <a:pt x="14960" y="11915"/>
                  <a:pt x="14908" y="11881"/>
                </a:cubicBezTo>
                <a:cubicBezTo>
                  <a:pt x="14850" y="11843"/>
                  <a:pt x="14865" y="11824"/>
                  <a:pt x="14858" y="11757"/>
                </a:cubicBezTo>
              </a:path>
              <a:path w="1687" h="1390">
                <a:moveTo>
                  <a:pt x="15205" y="11683"/>
                </a:moveTo>
                <a:cubicBezTo>
                  <a:pt x="15197" y="11768"/>
                  <a:pt x="15137" y="11893"/>
                  <a:pt x="15255" y="11906"/>
                </a:cubicBezTo>
                <a:cubicBezTo>
                  <a:pt x="15318" y="11913"/>
                  <a:pt x="15357" y="11899"/>
                  <a:pt x="15404" y="11857"/>
                </a:cubicBezTo>
                <a:cubicBezTo>
                  <a:pt x="15486" y="11785"/>
                  <a:pt x="15446" y="11727"/>
                  <a:pt x="15404" y="11658"/>
                </a:cubicBezTo>
                <a:cubicBezTo>
                  <a:pt x="15339" y="11550"/>
                  <a:pt x="15218" y="11534"/>
                  <a:pt x="15106" y="1148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69000" y="3884760"/>
            <a:ext cx="1000080" cy="571320"/>
          </a:xfrm>
          <a:custGeom>
            <a:avLst/>
            <a:gdLst/>
            <a:ahLst/>
            <a:rect l="l" t="t" r="r" b="b"/>
            <a:pathLst>
              <a:path w="2779" h="1589">
                <a:moveTo>
                  <a:pt x="16073" y="11162"/>
                </a:moveTo>
                <a:cubicBezTo>
                  <a:pt x="16150" y="11172"/>
                  <a:pt x="16215" y="11187"/>
                  <a:pt x="16297" y="11187"/>
                </a:cubicBezTo>
                <a:cubicBezTo>
                  <a:pt x="16322" y="11187"/>
                  <a:pt x="16346" y="11187"/>
                  <a:pt x="16371" y="11187"/>
                </a:cubicBezTo>
              </a:path>
              <a:path w="2779" h="1589">
                <a:moveTo>
                  <a:pt x="16024" y="11385"/>
                </a:moveTo>
                <a:cubicBezTo>
                  <a:pt x="16104" y="11402"/>
                  <a:pt x="16214" y="11432"/>
                  <a:pt x="16297" y="11410"/>
                </a:cubicBezTo>
                <a:cubicBezTo>
                  <a:pt x="16313" y="11402"/>
                  <a:pt x="16330" y="11393"/>
                  <a:pt x="16346" y="11385"/>
                </a:cubicBezTo>
              </a:path>
              <a:path w="2779" h="1589">
                <a:moveTo>
                  <a:pt x="16818" y="10790"/>
                </a:moveTo>
                <a:cubicBezTo>
                  <a:pt x="16810" y="10938"/>
                  <a:pt x="16757" y="11067"/>
                  <a:pt x="16743" y="11212"/>
                </a:cubicBezTo>
                <a:cubicBezTo>
                  <a:pt x="16729" y="11352"/>
                  <a:pt x="16698" y="11492"/>
                  <a:pt x="16694" y="11633"/>
                </a:cubicBezTo>
                <a:cubicBezTo>
                  <a:pt x="16692" y="11710"/>
                  <a:pt x="16642" y="11830"/>
                  <a:pt x="16669" y="11906"/>
                </a:cubicBezTo>
                <a:cubicBezTo>
                  <a:pt x="16697" y="11983"/>
                  <a:pt x="16776" y="11873"/>
                  <a:pt x="16793" y="11857"/>
                </a:cubicBezTo>
              </a:path>
              <a:path w="2779" h="1589">
                <a:moveTo>
                  <a:pt x="17190" y="10840"/>
                </a:moveTo>
                <a:cubicBezTo>
                  <a:pt x="17190" y="10928"/>
                  <a:pt x="17198" y="11057"/>
                  <a:pt x="17165" y="11137"/>
                </a:cubicBezTo>
                <a:cubicBezTo>
                  <a:pt x="17116" y="11256"/>
                  <a:pt x="17083" y="11398"/>
                  <a:pt x="17066" y="11534"/>
                </a:cubicBezTo>
                <a:cubicBezTo>
                  <a:pt x="17052" y="11646"/>
                  <a:pt x="17090" y="11748"/>
                  <a:pt x="17140" y="11832"/>
                </a:cubicBezTo>
                <a:cubicBezTo>
                  <a:pt x="17171" y="11885"/>
                  <a:pt x="17206" y="11986"/>
                  <a:pt x="17289" y="11981"/>
                </a:cubicBezTo>
                <a:cubicBezTo>
                  <a:pt x="17338" y="11978"/>
                  <a:pt x="17417" y="11923"/>
                  <a:pt x="17438" y="11881"/>
                </a:cubicBezTo>
                <a:cubicBezTo>
                  <a:pt x="17480" y="11795"/>
                  <a:pt x="17498" y="11717"/>
                  <a:pt x="17462" y="11633"/>
                </a:cubicBezTo>
                <a:cubicBezTo>
                  <a:pt x="17397" y="11633"/>
                  <a:pt x="17357" y="11653"/>
                  <a:pt x="17314" y="11708"/>
                </a:cubicBezTo>
                <a:cubicBezTo>
                  <a:pt x="17285" y="11745"/>
                  <a:pt x="17243" y="11830"/>
                  <a:pt x="17264" y="11881"/>
                </a:cubicBezTo>
                <a:cubicBezTo>
                  <a:pt x="17287" y="11904"/>
                  <a:pt x="17291" y="11912"/>
                  <a:pt x="17314" y="11906"/>
                </a:cubicBezTo>
              </a:path>
              <a:path w="2779" h="1589">
                <a:moveTo>
                  <a:pt x="17661" y="11063"/>
                </a:moveTo>
                <a:cubicBezTo>
                  <a:pt x="17623" y="11137"/>
                  <a:pt x="17611" y="11178"/>
                  <a:pt x="17611" y="11261"/>
                </a:cubicBezTo>
                <a:cubicBezTo>
                  <a:pt x="17611" y="11323"/>
                  <a:pt x="17608" y="11390"/>
                  <a:pt x="17661" y="11435"/>
                </a:cubicBezTo>
                <a:cubicBezTo>
                  <a:pt x="17717" y="11483"/>
                  <a:pt x="17834" y="11563"/>
                  <a:pt x="17909" y="11559"/>
                </a:cubicBezTo>
                <a:cubicBezTo>
                  <a:pt x="17959" y="11534"/>
                  <a:pt x="17975" y="11526"/>
                  <a:pt x="18008" y="11509"/>
                </a:cubicBezTo>
              </a:path>
              <a:path w="2779" h="1589">
                <a:moveTo>
                  <a:pt x="18132" y="10790"/>
                </a:moveTo>
                <a:cubicBezTo>
                  <a:pt x="18066" y="10903"/>
                  <a:pt x="18040" y="11009"/>
                  <a:pt x="18008" y="11137"/>
                </a:cubicBezTo>
                <a:cubicBezTo>
                  <a:pt x="17960" y="11327"/>
                  <a:pt x="17959" y="11514"/>
                  <a:pt x="17959" y="11708"/>
                </a:cubicBezTo>
                <a:cubicBezTo>
                  <a:pt x="17959" y="11837"/>
                  <a:pt x="17939" y="11953"/>
                  <a:pt x="17934" y="12080"/>
                </a:cubicBezTo>
                <a:cubicBezTo>
                  <a:pt x="17930" y="12167"/>
                  <a:pt x="17951" y="12113"/>
                  <a:pt x="17983" y="12080"/>
                </a:cubicBezTo>
              </a:path>
              <a:path w="2779" h="1589">
                <a:moveTo>
                  <a:pt x="18380" y="11088"/>
                </a:moveTo>
                <a:cubicBezTo>
                  <a:pt x="18357" y="11146"/>
                  <a:pt x="18328" y="11187"/>
                  <a:pt x="18306" y="11237"/>
                </a:cubicBezTo>
                <a:cubicBezTo>
                  <a:pt x="18283" y="11289"/>
                  <a:pt x="18281" y="11307"/>
                  <a:pt x="18281" y="11361"/>
                </a:cubicBezTo>
                <a:cubicBezTo>
                  <a:pt x="18281" y="11410"/>
                  <a:pt x="18276" y="11441"/>
                  <a:pt x="18306" y="11485"/>
                </a:cubicBezTo>
                <a:cubicBezTo>
                  <a:pt x="18347" y="11546"/>
                  <a:pt x="18396" y="11539"/>
                  <a:pt x="18455" y="11559"/>
                </a:cubicBezTo>
                <a:cubicBezTo>
                  <a:pt x="18585" y="11603"/>
                  <a:pt x="18654" y="11498"/>
                  <a:pt x="18752" y="11410"/>
                </a:cubicBezTo>
              </a:path>
              <a:path w="2779" h="1589">
                <a:moveTo>
                  <a:pt x="18802" y="10840"/>
                </a:moveTo>
                <a:cubicBezTo>
                  <a:pt x="18741" y="11144"/>
                  <a:pt x="18657" y="11434"/>
                  <a:pt x="18579" y="11733"/>
                </a:cubicBezTo>
                <a:cubicBezTo>
                  <a:pt x="18514" y="12023"/>
                  <a:pt x="18482" y="12163"/>
                  <a:pt x="18430" y="1237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374840" y="4187880"/>
            <a:ext cx="1438200" cy="590400"/>
          </a:xfrm>
          <a:custGeom>
            <a:avLst/>
            <a:gdLst/>
            <a:ahLst/>
            <a:rect l="l" t="t" r="r" b="b"/>
            <a:pathLst>
              <a:path w="3994" h="1639">
                <a:moveTo>
                  <a:pt x="3820" y="11683"/>
                </a:moveTo>
                <a:cubicBezTo>
                  <a:pt x="3857" y="11655"/>
                  <a:pt x="3863" y="11644"/>
                  <a:pt x="3894" y="11633"/>
                </a:cubicBezTo>
                <a:cubicBezTo>
                  <a:pt x="3907" y="11683"/>
                  <a:pt x="3919" y="11697"/>
                  <a:pt x="3919" y="11757"/>
                </a:cubicBezTo>
                <a:cubicBezTo>
                  <a:pt x="3919" y="12045"/>
                  <a:pt x="3894" y="12346"/>
                  <a:pt x="3944" y="12626"/>
                </a:cubicBezTo>
                <a:cubicBezTo>
                  <a:pt x="3951" y="12665"/>
                  <a:pt x="3941" y="12742"/>
                  <a:pt x="3919" y="12675"/>
                </a:cubicBezTo>
              </a:path>
              <a:path w="3994" h="1639">
                <a:moveTo>
                  <a:pt x="4242" y="11857"/>
                </a:moveTo>
                <a:cubicBezTo>
                  <a:pt x="4354" y="11857"/>
                  <a:pt x="4461" y="11835"/>
                  <a:pt x="4539" y="11931"/>
                </a:cubicBezTo>
                <a:cubicBezTo>
                  <a:pt x="4625" y="12037"/>
                  <a:pt x="4659" y="12121"/>
                  <a:pt x="4663" y="12254"/>
                </a:cubicBezTo>
                <a:cubicBezTo>
                  <a:pt x="4667" y="12368"/>
                  <a:pt x="4650" y="12468"/>
                  <a:pt x="4638" y="12576"/>
                </a:cubicBezTo>
                <a:cubicBezTo>
                  <a:pt x="4628" y="12663"/>
                  <a:pt x="4626" y="12689"/>
                  <a:pt x="4564" y="12750"/>
                </a:cubicBezTo>
                <a:cubicBezTo>
                  <a:pt x="4518" y="12795"/>
                  <a:pt x="4503" y="12763"/>
                  <a:pt x="4465" y="12725"/>
                </a:cubicBezTo>
                <a:cubicBezTo>
                  <a:pt x="4452" y="12712"/>
                  <a:pt x="4412" y="12597"/>
                  <a:pt x="4415" y="12576"/>
                </a:cubicBezTo>
                <a:cubicBezTo>
                  <a:pt x="4419" y="12551"/>
                  <a:pt x="4457" y="12495"/>
                  <a:pt x="4490" y="12502"/>
                </a:cubicBezTo>
                <a:cubicBezTo>
                  <a:pt x="4570" y="12518"/>
                  <a:pt x="4574" y="12556"/>
                  <a:pt x="4638" y="12601"/>
                </a:cubicBezTo>
                <a:cubicBezTo>
                  <a:pt x="4703" y="12647"/>
                  <a:pt x="4765" y="12689"/>
                  <a:pt x="4837" y="12725"/>
                </a:cubicBezTo>
                <a:cubicBezTo>
                  <a:pt x="4896" y="12755"/>
                  <a:pt x="4920" y="12766"/>
                  <a:pt x="4936" y="12700"/>
                </a:cubicBezTo>
              </a:path>
              <a:path w="3994" h="1639">
                <a:moveTo>
                  <a:pt x="4911" y="11906"/>
                </a:moveTo>
                <a:cubicBezTo>
                  <a:pt x="5038" y="11869"/>
                  <a:pt x="5068" y="11854"/>
                  <a:pt x="5184" y="11906"/>
                </a:cubicBezTo>
                <a:cubicBezTo>
                  <a:pt x="5231" y="11927"/>
                  <a:pt x="5304" y="11966"/>
                  <a:pt x="5283" y="12030"/>
                </a:cubicBezTo>
                <a:cubicBezTo>
                  <a:pt x="5265" y="12085"/>
                  <a:pt x="5230" y="12095"/>
                  <a:pt x="5184" y="12129"/>
                </a:cubicBezTo>
                <a:cubicBezTo>
                  <a:pt x="5141" y="12161"/>
                  <a:pt x="5097" y="12158"/>
                  <a:pt x="5060" y="12179"/>
                </a:cubicBezTo>
                <a:cubicBezTo>
                  <a:pt x="4995" y="12215"/>
                  <a:pt x="5018" y="12204"/>
                  <a:pt x="5085" y="12204"/>
                </a:cubicBezTo>
                <a:cubicBezTo>
                  <a:pt x="5148" y="12204"/>
                  <a:pt x="5182" y="12201"/>
                  <a:pt x="5234" y="12229"/>
                </a:cubicBezTo>
                <a:cubicBezTo>
                  <a:pt x="5305" y="12267"/>
                  <a:pt x="5322" y="12331"/>
                  <a:pt x="5358" y="12402"/>
                </a:cubicBezTo>
                <a:cubicBezTo>
                  <a:pt x="5386" y="12457"/>
                  <a:pt x="5411" y="12573"/>
                  <a:pt x="5358" y="12626"/>
                </a:cubicBezTo>
                <a:cubicBezTo>
                  <a:pt x="5312" y="12672"/>
                  <a:pt x="5253" y="12729"/>
                  <a:pt x="5184" y="12750"/>
                </a:cubicBezTo>
                <a:cubicBezTo>
                  <a:pt x="5137" y="12764"/>
                  <a:pt x="5101" y="12777"/>
                  <a:pt x="5060" y="12750"/>
                </a:cubicBezTo>
                <a:cubicBezTo>
                  <a:pt x="5052" y="12742"/>
                  <a:pt x="5043" y="12733"/>
                  <a:pt x="5035" y="12725"/>
                </a:cubicBezTo>
              </a:path>
              <a:path w="3994" h="1639">
                <a:moveTo>
                  <a:pt x="5655" y="12750"/>
                </a:moveTo>
                <a:cubicBezTo>
                  <a:pt x="5643" y="12908"/>
                  <a:pt x="5562" y="13068"/>
                  <a:pt x="5606" y="13221"/>
                </a:cubicBezTo>
                <a:cubicBezTo>
                  <a:pt x="5629" y="13301"/>
                  <a:pt x="5632" y="13246"/>
                  <a:pt x="5655" y="13196"/>
                </a:cubicBezTo>
                <a:cubicBezTo>
                  <a:pt x="5663" y="13179"/>
                  <a:pt x="5672" y="13163"/>
                  <a:pt x="5680" y="13146"/>
                </a:cubicBezTo>
              </a:path>
              <a:path w="3994" h="1639">
                <a:moveTo>
                  <a:pt x="5978" y="11881"/>
                </a:moveTo>
                <a:cubicBezTo>
                  <a:pt x="5978" y="11991"/>
                  <a:pt x="5944" y="12052"/>
                  <a:pt x="5928" y="12154"/>
                </a:cubicBezTo>
                <a:cubicBezTo>
                  <a:pt x="5912" y="12254"/>
                  <a:pt x="5887" y="12374"/>
                  <a:pt x="5904" y="12477"/>
                </a:cubicBezTo>
                <a:cubicBezTo>
                  <a:pt x="5923" y="12591"/>
                  <a:pt x="5954" y="12654"/>
                  <a:pt x="6003" y="12750"/>
                </a:cubicBezTo>
                <a:cubicBezTo>
                  <a:pt x="6036" y="12815"/>
                  <a:pt x="6089" y="12904"/>
                  <a:pt x="6176" y="12923"/>
                </a:cubicBezTo>
                <a:cubicBezTo>
                  <a:pt x="6237" y="12936"/>
                  <a:pt x="6332" y="12924"/>
                  <a:pt x="6375" y="12874"/>
                </a:cubicBezTo>
                <a:cubicBezTo>
                  <a:pt x="6418" y="12824"/>
                  <a:pt x="6446" y="12737"/>
                  <a:pt x="6449" y="12675"/>
                </a:cubicBezTo>
                <a:cubicBezTo>
                  <a:pt x="6453" y="12596"/>
                  <a:pt x="6457" y="12536"/>
                  <a:pt x="6375" y="12502"/>
                </a:cubicBezTo>
                <a:cubicBezTo>
                  <a:pt x="6335" y="12486"/>
                  <a:pt x="6296" y="12520"/>
                  <a:pt x="6276" y="12551"/>
                </a:cubicBezTo>
                <a:cubicBezTo>
                  <a:pt x="6249" y="12593"/>
                  <a:pt x="6234" y="12676"/>
                  <a:pt x="6251" y="12725"/>
                </a:cubicBezTo>
                <a:cubicBezTo>
                  <a:pt x="6266" y="12768"/>
                  <a:pt x="6296" y="12814"/>
                  <a:pt x="6325" y="12824"/>
                </a:cubicBezTo>
              </a:path>
              <a:path w="3994" h="1639">
                <a:moveTo>
                  <a:pt x="6499" y="11931"/>
                </a:moveTo>
                <a:cubicBezTo>
                  <a:pt x="6617" y="11931"/>
                  <a:pt x="6710" y="11951"/>
                  <a:pt x="6821" y="11956"/>
                </a:cubicBezTo>
                <a:cubicBezTo>
                  <a:pt x="6903" y="11960"/>
                  <a:pt x="6987" y="11956"/>
                  <a:pt x="7069" y="11956"/>
                </a:cubicBezTo>
                <a:cubicBezTo>
                  <a:pt x="7059" y="11997"/>
                  <a:pt x="7028" y="12042"/>
                  <a:pt x="7020" y="12080"/>
                </a:cubicBezTo>
                <a:cubicBezTo>
                  <a:pt x="7003" y="12163"/>
                  <a:pt x="6995" y="12241"/>
                  <a:pt x="6995" y="12328"/>
                </a:cubicBezTo>
                <a:cubicBezTo>
                  <a:pt x="6995" y="12466"/>
                  <a:pt x="7002" y="12592"/>
                  <a:pt x="7020" y="12725"/>
                </a:cubicBezTo>
                <a:cubicBezTo>
                  <a:pt x="7026" y="12768"/>
                  <a:pt x="7009" y="12868"/>
                  <a:pt x="7045" y="12898"/>
                </a:cubicBezTo>
                <a:cubicBezTo>
                  <a:pt x="7073" y="12898"/>
                  <a:pt x="7083" y="12896"/>
                  <a:pt x="7094" y="12874"/>
                </a:cubicBezTo>
              </a:path>
              <a:path w="3994" h="1639">
                <a:moveTo>
                  <a:pt x="7342" y="12030"/>
                </a:moveTo>
                <a:cubicBezTo>
                  <a:pt x="7453" y="12014"/>
                  <a:pt x="7488" y="12019"/>
                  <a:pt x="7590" y="12055"/>
                </a:cubicBezTo>
                <a:cubicBezTo>
                  <a:pt x="7671" y="12083"/>
                  <a:pt x="7744" y="12098"/>
                  <a:pt x="7813" y="12055"/>
                </a:cubicBezTo>
              </a:path>
              <a:path w="3994" h="1639">
                <a:moveTo>
                  <a:pt x="7466" y="11931"/>
                </a:moveTo>
                <a:cubicBezTo>
                  <a:pt x="7360" y="12063"/>
                  <a:pt x="7324" y="12067"/>
                  <a:pt x="7317" y="12204"/>
                </a:cubicBezTo>
                <a:cubicBezTo>
                  <a:pt x="7314" y="12257"/>
                  <a:pt x="7330" y="12266"/>
                  <a:pt x="7367" y="12303"/>
                </a:cubicBezTo>
                <a:cubicBezTo>
                  <a:pt x="7393" y="12329"/>
                  <a:pt x="7387" y="12325"/>
                  <a:pt x="7441" y="12328"/>
                </a:cubicBezTo>
                <a:cubicBezTo>
                  <a:pt x="7483" y="12330"/>
                  <a:pt x="7560" y="12300"/>
                  <a:pt x="7590" y="12303"/>
                </a:cubicBezTo>
                <a:cubicBezTo>
                  <a:pt x="7638" y="12308"/>
                  <a:pt x="7710" y="12332"/>
                  <a:pt x="7739" y="12378"/>
                </a:cubicBezTo>
                <a:cubicBezTo>
                  <a:pt x="7793" y="12465"/>
                  <a:pt x="7810" y="12576"/>
                  <a:pt x="7813" y="12675"/>
                </a:cubicBezTo>
                <a:cubicBezTo>
                  <a:pt x="7816" y="12784"/>
                  <a:pt x="7806" y="12872"/>
                  <a:pt x="7764" y="12973"/>
                </a:cubicBezTo>
                <a:cubicBezTo>
                  <a:pt x="7732" y="13051"/>
                  <a:pt x="7666" y="13093"/>
                  <a:pt x="7590" y="13122"/>
                </a:cubicBezTo>
                <a:cubicBezTo>
                  <a:pt x="7497" y="13158"/>
                  <a:pt x="7403" y="13150"/>
                  <a:pt x="7317" y="13097"/>
                </a:cubicBezTo>
                <a:cubicBezTo>
                  <a:pt x="7227" y="13029"/>
                  <a:pt x="7204" y="13011"/>
                  <a:pt x="7144" y="1297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152360" y="4037040"/>
            <a:ext cx="2062440" cy="1106640"/>
          </a:xfrm>
          <a:custGeom>
            <a:avLst/>
            <a:gdLst/>
            <a:ahLst/>
            <a:rect l="l" t="t" r="r" b="b"/>
            <a:pathLst>
              <a:path w="5731" h="3077">
                <a:moveTo>
                  <a:pt x="3200" y="11485"/>
                </a:moveTo>
                <a:cubicBezTo>
                  <a:pt x="3217" y="11752"/>
                  <a:pt x="3267" y="12009"/>
                  <a:pt x="3299" y="12278"/>
                </a:cubicBezTo>
                <a:cubicBezTo>
                  <a:pt x="3316" y="12420"/>
                  <a:pt x="3340" y="12558"/>
                  <a:pt x="3349" y="12700"/>
                </a:cubicBezTo>
                <a:cubicBezTo>
                  <a:pt x="3353" y="12766"/>
                  <a:pt x="3347" y="12832"/>
                  <a:pt x="3349" y="12898"/>
                </a:cubicBezTo>
                <a:cubicBezTo>
                  <a:pt x="3341" y="12844"/>
                  <a:pt x="3333" y="12788"/>
                  <a:pt x="3324" y="12725"/>
                </a:cubicBezTo>
                <a:cubicBezTo>
                  <a:pt x="3305" y="12601"/>
                  <a:pt x="3281" y="12481"/>
                  <a:pt x="3274" y="12353"/>
                </a:cubicBezTo>
                <a:cubicBezTo>
                  <a:pt x="3266" y="12210"/>
                  <a:pt x="3264" y="12072"/>
                  <a:pt x="3249" y="11931"/>
                </a:cubicBezTo>
                <a:cubicBezTo>
                  <a:pt x="3234" y="11790"/>
                  <a:pt x="3204" y="11628"/>
                  <a:pt x="3225" y="11485"/>
                </a:cubicBezTo>
                <a:cubicBezTo>
                  <a:pt x="3237" y="11404"/>
                  <a:pt x="3237" y="11348"/>
                  <a:pt x="3299" y="11286"/>
                </a:cubicBezTo>
                <a:cubicBezTo>
                  <a:pt x="3364" y="11221"/>
                  <a:pt x="3407" y="11244"/>
                  <a:pt x="3497" y="11237"/>
                </a:cubicBezTo>
                <a:cubicBezTo>
                  <a:pt x="4115" y="11187"/>
                  <a:pt x="4765" y="11212"/>
                  <a:pt x="5383" y="11212"/>
                </a:cubicBezTo>
                <a:cubicBezTo>
                  <a:pt x="5699" y="11212"/>
                  <a:pt x="6011" y="11226"/>
                  <a:pt x="6325" y="11237"/>
                </a:cubicBezTo>
                <a:cubicBezTo>
                  <a:pt x="6622" y="11247"/>
                  <a:pt x="6923" y="11260"/>
                  <a:pt x="7218" y="11311"/>
                </a:cubicBezTo>
                <a:cubicBezTo>
                  <a:pt x="7468" y="11355"/>
                  <a:pt x="7711" y="11419"/>
                  <a:pt x="7962" y="11460"/>
                </a:cubicBezTo>
                <a:cubicBezTo>
                  <a:pt x="8123" y="11486"/>
                  <a:pt x="8302" y="11499"/>
                  <a:pt x="8458" y="11534"/>
                </a:cubicBezTo>
                <a:cubicBezTo>
                  <a:pt x="8527" y="11549"/>
                  <a:pt x="8702" y="11587"/>
                  <a:pt x="8756" y="11633"/>
                </a:cubicBezTo>
                <a:cubicBezTo>
                  <a:pt x="8797" y="11667"/>
                  <a:pt x="8817" y="11706"/>
                  <a:pt x="8830" y="11757"/>
                </a:cubicBezTo>
                <a:cubicBezTo>
                  <a:pt x="8891" y="11992"/>
                  <a:pt x="8788" y="12304"/>
                  <a:pt x="8806" y="12551"/>
                </a:cubicBezTo>
                <a:cubicBezTo>
                  <a:pt x="8821" y="12767"/>
                  <a:pt x="8854" y="12980"/>
                  <a:pt x="8880" y="13196"/>
                </a:cubicBezTo>
                <a:cubicBezTo>
                  <a:pt x="8900" y="13361"/>
                  <a:pt x="8892" y="13526"/>
                  <a:pt x="8905" y="13692"/>
                </a:cubicBezTo>
                <a:cubicBezTo>
                  <a:pt x="8914" y="13808"/>
                  <a:pt x="8926" y="13921"/>
                  <a:pt x="8930" y="14039"/>
                </a:cubicBezTo>
                <a:cubicBezTo>
                  <a:pt x="8893" y="14037"/>
                  <a:pt x="8892" y="14039"/>
                  <a:pt x="8855" y="14039"/>
                </a:cubicBezTo>
                <a:cubicBezTo>
                  <a:pt x="8801" y="14039"/>
                  <a:pt x="8818" y="14019"/>
                  <a:pt x="8756" y="14039"/>
                </a:cubicBezTo>
                <a:cubicBezTo>
                  <a:pt x="8707" y="14055"/>
                  <a:pt x="8660" y="14092"/>
                  <a:pt x="8607" y="14114"/>
                </a:cubicBezTo>
                <a:cubicBezTo>
                  <a:pt x="8501" y="14158"/>
                  <a:pt x="8393" y="14200"/>
                  <a:pt x="8285" y="14238"/>
                </a:cubicBezTo>
                <a:cubicBezTo>
                  <a:pt x="8118" y="14297"/>
                  <a:pt x="8035" y="14269"/>
                  <a:pt x="7863" y="14213"/>
                </a:cubicBezTo>
                <a:cubicBezTo>
                  <a:pt x="7482" y="14090"/>
                  <a:pt x="7119" y="13914"/>
                  <a:pt x="6747" y="13767"/>
                </a:cubicBezTo>
                <a:cubicBezTo>
                  <a:pt x="6224" y="13560"/>
                  <a:pt x="5672" y="13382"/>
                  <a:pt x="5110" y="13320"/>
                </a:cubicBezTo>
                <a:cubicBezTo>
                  <a:pt x="4547" y="13294"/>
                  <a:pt x="4348" y="13287"/>
                  <a:pt x="3969" y="1334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2498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 auditorium has 20 rows of seats. There are 20 seats in the first row, 21 seats in the second row, 22 seats in the third row, and so on.  How many seats are there in all 20 rows?</a:t>
            </a:r>
            <a:endParaRPr b="0" lang="en-US" sz="4000" spc="-1" strike="noStrike">
              <a:solidFill>
                <a:srgbClr val="ffffff"/>
              </a:solidFill>
              <a:latin typeface="Times New Roman"/>
            </a:endParaRPr>
          </a:p>
        </p:txBody>
      </p:sp>
      <p:sp>
        <p:nvSpPr>
          <p:cNvPr id="115" name=""/>
          <p:cNvSpPr/>
          <p:nvPr/>
        </p:nvSpPr>
        <p:spPr>
          <a:xfrm>
            <a:off x="4714920" y="3054240"/>
            <a:ext cx="635040" cy="438120"/>
          </a:xfrm>
          <a:custGeom>
            <a:avLst/>
            <a:gdLst/>
            <a:ahLst/>
            <a:rect l="l" t="t" r="r" b="b"/>
            <a:pathLst>
              <a:path w="1762" h="1217">
                <a:moveTo>
                  <a:pt x="13866" y="8806"/>
                </a:moveTo>
                <a:cubicBezTo>
                  <a:pt x="13860" y="8860"/>
                  <a:pt x="13848" y="8902"/>
                  <a:pt x="13841" y="8954"/>
                </a:cubicBezTo>
                <a:cubicBezTo>
                  <a:pt x="13841" y="8996"/>
                  <a:pt x="13849" y="9012"/>
                  <a:pt x="13816" y="9004"/>
                </a:cubicBezTo>
                <a:cubicBezTo>
                  <a:pt x="13816" y="8884"/>
                  <a:pt x="13822" y="8769"/>
                  <a:pt x="13791" y="8657"/>
                </a:cubicBezTo>
                <a:cubicBezTo>
                  <a:pt x="13773" y="8592"/>
                  <a:pt x="13775" y="8502"/>
                  <a:pt x="13692" y="8483"/>
                </a:cubicBezTo>
                <a:cubicBezTo>
                  <a:pt x="13632" y="8469"/>
                  <a:pt x="13519" y="8472"/>
                  <a:pt x="13469" y="8508"/>
                </a:cubicBezTo>
                <a:cubicBezTo>
                  <a:pt x="13395" y="8562"/>
                  <a:pt x="13313" y="8621"/>
                  <a:pt x="13271" y="8706"/>
                </a:cubicBezTo>
                <a:cubicBezTo>
                  <a:pt x="13230" y="8788"/>
                  <a:pt x="13147" y="8858"/>
                  <a:pt x="13122" y="8954"/>
                </a:cubicBezTo>
                <a:cubicBezTo>
                  <a:pt x="13097" y="9051"/>
                  <a:pt x="13090" y="9167"/>
                  <a:pt x="13122" y="9252"/>
                </a:cubicBezTo>
                <a:cubicBezTo>
                  <a:pt x="13143" y="9309"/>
                  <a:pt x="13172" y="9409"/>
                  <a:pt x="13221" y="9451"/>
                </a:cubicBezTo>
                <a:cubicBezTo>
                  <a:pt x="13256" y="9481"/>
                  <a:pt x="13350" y="9487"/>
                  <a:pt x="13395" y="9475"/>
                </a:cubicBezTo>
                <a:cubicBezTo>
                  <a:pt x="13468" y="9456"/>
                  <a:pt x="13548" y="9362"/>
                  <a:pt x="13593" y="9302"/>
                </a:cubicBezTo>
                <a:cubicBezTo>
                  <a:pt x="13637" y="9243"/>
                  <a:pt x="13702" y="9152"/>
                  <a:pt x="13717" y="9079"/>
                </a:cubicBezTo>
                <a:cubicBezTo>
                  <a:pt x="13742" y="8955"/>
                  <a:pt x="13693" y="9131"/>
                  <a:pt x="13692" y="9153"/>
                </a:cubicBezTo>
                <a:cubicBezTo>
                  <a:pt x="13688" y="9236"/>
                  <a:pt x="13692" y="9297"/>
                  <a:pt x="13717" y="9376"/>
                </a:cubicBezTo>
                <a:cubicBezTo>
                  <a:pt x="13743" y="9459"/>
                  <a:pt x="13741" y="9437"/>
                  <a:pt x="13767" y="9475"/>
                </a:cubicBezTo>
              </a:path>
              <a:path w="1762" h="1217">
                <a:moveTo>
                  <a:pt x="13866" y="9302"/>
                </a:moveTo>
                <a:cubicBezTo>
                  <a:pt x="13890" y="9278"/>
                  <a:pt x="13941" y="9200"/>
                  <a:pt x="13990" y="9227"/>
                </a:cubicBezTo>
                <a:cubicBezTo>
                  <a:pt x="14016" y="9241"/>
                  <a:pt x="14034" y="9350"/>
                  <a:pt x="14015" y="9376"/>
                </a:cubicBezTo>
                <a:cubicBezTo>
                  <a:pt x="13994" y="9404"/>
                  <a:pt x="13928" y="9491"/>
                  <a:pt x="13915" y="9550"/>
                </a:cubicBezTo>
                <a:cubicBezTo>
                  <a:pt x="13905" y="9592"/>
                  <a:pt x="13934" y="9632"/>
                  <a:pt x="13940" y="9674"/>
                </a:cubicBezTo>
                <a:cubicBezTo>
                  <a:pt x="14035" y="9674"/>
                  <a:pt x="14063" y="9681"/>
                  <a:pt x="14139" y="9624"/>
                </a:cubicBezTo>
              </a:path>
              <a:path w="1762" h="1217">
                <a:moveTo>
                  <a:pt x="14288" y="9401"/>
                </a:moveTo>
                <a:cubicBezTo>
                  <a:pt x="14254" y="9446"/>
                  <a:pt x="14192" y="9531"/>
                  <a:pt x="14213" y="9599"/>
                </a:cubicBezTo>
                <a:cubicBezTo>
                  <a:pt x="14241" y="9627"/>
                  <a:pt x="14250" y="9641"/>
                  <a:pt x="14238" y="9674"/>
                </a:cubicBezTo>
                <a:cubicBezTo>
                  <a:pt x="14286" y="9674"/>
                  <a:pt x="14316" y="9715"/>
                  <a:pt x="14362" y="9699"/>
                </a:cubicBezTo>
                <a:cubicBezTo>
                  <a:pt x="14413" y="9682"/>
                  <a:pt x="14447" y="9566"/>
                  <a:pt x="14436" y="9525"/>
                </a:cubicBezTo>
                <a:cubicBezTo>
                  <a:pt x="14425" y="9483"/>
                  <a:pt x="14352" y="9469"/>
                  <a:pt x="14337" y="9451"/>
                </a:cubicBezTo>
                <a:cubicBezTo>
                  <a:pt x="14315" y="9407"/>
                  <a:pt x="14312" y="9396"/>
                  <a:pt x="14288" y="9376"/>
                </a:cubicBezTo>
              </a:path>
              <a:path w="1762" h="1217">
                <a:moveTo>
                  <a:pt x="14536" y="8954"/>
                </a:moveTo>
                <a:cubicBezTo>
                  <a:pt x="14635" y="8997"/>
                  <a:pt x="14660" y="9004"/>
                  <a:pt x="14759" y="9004"/>
                </a:cubicBezTo>
                <a:cubicBezTo>
                  <a:pt x="14779" y="9004"/>
                  <a:pt x="14896" y="9004"/>
                  <a:pt x="14833" y="9004"/>
                </a:cubicBezTo>
              </a:path>
              <a:path w="1762" h="1217">
                <a:moveTo>
                  <a:pt x="14585" y="9103"/>
                </a:moveTo>
                <a:cubicBezTo>
                  <a:pt x="14675" y="9119"/>
                  <a:pt x="14712" y="9153"/>
                  <a:pt x="14808" y="9153"/>
                </a:cubicBezTo>
                <a:cubicBezTo>
                  <a:pt x="14816" y="9153"/>
                  <a:pt x="14825" y="9153"/>
                  <a:pt x="14833" y="915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510160" y="2982960"/>
            <a:ext cx="2651040" cy="500040"/>
          </a:xfrm>
          <a:custGeom>
            <a:avLst/>
            <a:gdLst/>
            <a:ahLst/>
            <a:rect l="l" t="t" r="r" b="b"/>
            <a:pathLst>
              <a:path w="7368" h="1390">
                <a:moveTo>
                  <a:pt x="15453" y="8508"/>
                </a:moveTo>
                <a:cubicBezTo>
                  <a:pt x="15453" y="8429"/>
                  <a:pt x="15471" y="8448"/>
                  <a:pt x="15503" y="8409"/>
                </a:cubicBezTo>
                <a:cubicBezTo>
                  <a:pt x="15550" y="8352"/>
                  <a:pt x="15529" y="8339"/>
                  <a:pt x="15602" y="8334"/>
                </a:cubicBezTo>
                <a:cubicBezTo>
                  <a:pt x="15653" y="8331"/>
                  <a:pt x="15769" y="8312"/>
                  <a:pt x="15801" y="8359"/>
                </a:cubicBezTo>
                <a:cubicBezTo>
                  <a:pt x="15840" y="8416"/>
                  <a:pt x="15869" y="8409"/>
                  <a:pt x="15875" y="8483"/>
                </a:cubicBezTo>
                <a:cubicBezTo>
                  <a:pt x="15880" y="8540"/>
                  <a:pt x="15870" y="8605"/>
                  <a:pt x="15850" y="8657"/>
                </a:cubicBezTo>
                <a:cubicBezTo>
                  <a:pt x="15817" y="8743"/>
                  <a:pt x="15754" y="8787"/>
                  <a:pt x="15701" y="8855"/>
                </a:cubicBezTo>
                <a:cubicBezTo>
                  <a:pt x="15643" y="8930"/>
                  <a:pt x="15586" y="9005"/>
                  <a:pt x="15528" y="9079"/>
                </a:cubicBezTo>
                <a:cubicBezTo>
                  <a:pt x="15478" y="9143"/>
                  <a:pt x="15420" y="9184"/>
                  <a:pt x="15379" y="9252"/>
                </a:cubicBezTo>
                <a:cubicBezTo>
                  <a:pt x="15340" y="9316"/>
                  <a:pt x="15314" y="9316"/>
                  <a:pt x="15304" y="9376"/>
                </a:cubicBezTo>
                <a:cubicBezTo>
                  <a:pt x="15401" y="9376"/>
                  <a:pt x="15486" y="9380"/>
                  <a:pt x="15577" y="9401"/>
                </a:cubicBezTo>
                <a:cubicBezTo>
                  <a:pt x="15668" y="9422"/>
                  <a:pt x="15767" y="9397"/>
                  <a:pt x="15850" y="9376"/>
                </a:cubicBezTo>
                <a:cubicBezTo>
                  <a:pt x="15858" y="9376"/>
                  <a:pt x="15867" y="9376"/>
                  <a:pt x="15875" y="9376"/>
                </a:cubicBezTo>
              </a:path>
              <a:path w="7368" h="1390">
                <a:moveTo>
                  <a:pt x="16098" y="8706"/>
                </a:moveTo>
                <a:cubicBezTo>
                  <a:pt x="16082" y="8804"/>
                  <a:pt x="16071" y="8910"/>
                  <a:pt x="16049" y="9004"/>
                </a:cubicBezTo>
                <a:cubicBezTo>
                  <a:pt x="16030" y="9086"/>
                  <a:pt x="16010" y="9166"/>
                  <a:pt x="16024" y="9252"/>
                </a:cubicBezTo>
                <a:cubicBezTo>
                  <a:pt x="16037" y="9331"/>
                  <a:pt x="16051" y="9438"/>
                  <a:pt x="16148" y="9451"/>
                </a:cubicBezTo>
                <a:cubicBezTo>
                  <a:pt x="16278" y="9469"/>
                  <a:pt x="16270" y="9421"/>
                  <a:pt x="16346" y="9376"/>
                </a:cubicBezTo>
                <a:cubicBezTo>
                  <a:pt x="16416" y="9334"/>
                  <a:pt x="16434" y="9276"/>
                  <a:pt x="16470" y="9178"/>
                </a:cubicBezTo>
                <a:cubicBezTo>
                  <a:pt x="16505" y="9085"/>
                  <a:pt x="16513" y="8973"/>
                  <a:pt x="16470" y="8880"/>
                </a:cubicBezTo>
                <a:cubicBezTo>
                  <a:pt x="16436" y="8807"/>
                  <a:pt x="16411" y="8711"/>
                  <a:pt x="16346" y="8657"/>
                </a:cubicBezTo>
                <a:cubicBezTo>
                  <a:pt x="16298" y="8617"/>
                  <a:pt x="16231" y="8632"/>
                  <a:pt x="16173" y="8632"/>
                </a:cubicBezTo>
                <a:cubicBezTo>
                  <a:pt x="16095" y="8632"/>
                  <a:pt x="16063" y="8624"/>
                  <a:pt x="16049" y="8706"/>
                </a:cubicBezTo>
                <a:cubicBezTo>
                  <a:pt x="16049" y="8714"/>
                  <a:pt x="16049" y="8723"/>
                  <a:pt x="16049" y="8731"/>
                </a:cubicBezTo>
              </a:path>
              <a:path w="7368" h="1390">
                <a:moveTo>
                  <a:pt x="16842" y="8657"/>
                </a:moveTo>
                <a:cubicBezTo>
                  <a:pt x="16854" y="8776"/>
                  <a:pt x="16843" y="8955"/>
                  <a:pt x="16867" y="9079"/>
                </a:cubicBezTo>
                <a:cubicBezTo>
                  <a:pt x="16882" y="9158"/>
                  <a:pt x="16892" y="9221"/>
                  <a:pt x="16892" y="9302"/>
                </a:cubicBezTo>
                <a:cubicBezTo>
                  <a:pt x="16892" y="9335"/>
                  <a:pt x="16892" y="9351"/>
                  <a:pt x="16892" y="9376"/>
                </a:cubicBezTo>
                <a:cubicBezTo>
                  <a:pt x="16865" y="9358"/>
                  <a:pt x="16844" y="9299"/>
                  <a:pt x="16818" y="9252"/>
                </a:cubicBezTo>
              </a:path>
              <a:path w="7368" h="1390">
                <a:moveTo>
                  <a:pt x="16570" y="8930"/>
                </a:moveTo>
                <a:cubicBezTo>
                  <a:pt x="16735" y="8930"/>
                  <a:pt x="16901" y="8930"/>
                  <a:pt x="17066" y="8930"/>
                </a:cubicBezTo>
              </a:path>
              <a:path w="7368" h="1390">
                <a:moveTo>
                  <a:pt x="17636" y="8483"/>
                </a:moveTo>
                <a:cubicBezTo>
                  <a:pt x="17595" y="8534"/>
                  <a:pt x="17538" y="8612"/>
                  <a:pt x="17512" y="8657"/>
                </a:cubicBezTo>
                <a:cubicBezTo>
                  <a:pt x="17448" y="8768"/>
                  <a:pt x="17392" y="8900"/>
                  <a:pt x="17388" y="9029"/>
                </a:cubicBezTo>
                <a:cubicBezTo>
                  <a:pt x="17385" y="9136"/>
                  <a:pt x="17396" y="9236"/>
                  <a:pt x="17413" y="9327"/>
                </a:cubicBezTo>
                <a:cubicBezTo>
                  <a:pt x="17426" y="9395"/>
                  <a:pt x="17404" y="9451"/>
                  <a:pt x="17487" y="9451"/>
                </a:cubicBezTo>
                <a:cubicBezTo>
                  <a:pt x="17512" y="9451"/>
                  <a:pt x="17520" y="9451"/>
                  <a:pt x="17537" y="9451"/>
                </a:cubicBezTo>
              </a:path>
              <a:path w="7368" h="1390">
                <a:moveTo>
                  <a:pt x="17686" y="8706"/>
                </a:moveTo>
                <a:cubicBezTo>
                  <a:pt x="17786" y="8653"/>
                  <a:pt x="17861" y="8606"/>
                  <a:pt x="17959" y="8582"/>
                </a:cubicBezTo>
                <a:cubicBezTo>
                  <a:pt x="18024" y="8662"/>
                  <a:pt x="18023" y="8611"/>
                  <a:pt x="18083" y="8706"/>
                </a:cubicBezTo>
                <a:cubicBezTo>
                  <a:pt x="18127" y="8776"/>
                  <a:pt x="18107" y="8850"/>
                  <a:pt x="18083" y="8930"/>
                </a:cubicBezTo>
                <a:cubicBezTo>
                  <a:pt x="18053" y="9032"/>
                  <a:pt x="18002" y="9102"/>
                  <a:pt x="17959" y="9178"/>
                </a:cubicBezTo>
                <a:cubicBezTo>
                  <a:pt x="17912" y="9261"/>
                  <a:pt x="17907" y="9318"/>
                  <a:pt x="17835" y="9376"/>
                </a:cubicBezTo>
                <a:cubicBezTo>
                  <a:pt x="17802" y="9409"/>
                  <a:pt x="17785" y="9426"/>
                  <a:pt x="17760" y="9451"/>
                </a:cubicBezTo>
                <a:cubicBezTo>
                  <a:pt x="17768" y="9402"/>
                  <a:pt x="17774" y="9380"/>
                  <a:pt x="17835" y="9376"/>
                </a:cubicBezTo>
                <a:cubicBezTo>
                  <a:pt x="17982" y="9365"/>
                  <a:pt x="18134" y="9376"/>
                  <a:pt x="18281" y="9376"/>
                </a:cubicBezTo>
              </a:path>
              <a:path w="7368" h="1390">
                <a:moveTo>
                  <a:pt x="18405" y="8731"/>
                </a:moveTo>
                <a:cubicBezTo>
                  <a:pt x="18377" y="8855"/>
                  <a:pt x="18355" y="8953"/>
                  <a:pt x="18355" y="9079"/>
                </a:cubicBezTo>
                <a:cubicBezTo>
                  <a:pt x="18355" y="9144"/>
                  <a:pt x="18353" y="9244"/>
                  <a:pt x="18380" y="9302"/>
                </a:cubicBezTo>
                <a:cubicBezTo>
                  <a:pt x="18412" y="9371"/>
                  <a:pt x="18465" y="9440"/>
                  <a:pt x="18529" y="9451"/>
                </a:cubicBezTo>
                <a:cubicBezTo>
                  <a:pt x="18615" y="9465"/>
                  <a:pt x="18668" y="9457"/>
                  <a:pt x="18728" y="9401"/>
                </a:cubicBezTo>
                <a:cubicBezTo>
                  <a:pt x="18791" y="9343"/>
                  <a:pt x="18786" y="9232"/>
                  <a:pt x="18777" y="9153"/>
                </a:cubicBezTo>
                <a:cubicBezTo>
                  <a:pt x="18756" y="8982"/>
                  <a:pt x="18705" y="8984"/>
                  <a:pt x="18628" y="8855"/>
                </a:cubicBezTo>
                <a:cubicBezTo>
                  <a:pt x="18591" y="8793"/>
                  <a:pt x="18535" y="8686"/>
                  <a:pt x="18479" y="8731"/>
                </a:cubicBezTo>
                <a:cubicBezTo>
                  <a:pt x="18479" y="8748"/>
                  <a:pt x="18479" y="8764"/>
                  <a:pt x="18479" y="8781"/>
                </a:cubicBezTo>
              </a:path>
              <a:path w="7368" h="1390">
                <a:moveTo>
                  <a:pt x="19050" y="9103"/>
                </a:moveTo>
                <a:cubicBezTo>
                  <a:pt x="19180" y="9096"/>
                  <a:pt x="19205" y="9113"/>
                  <a:pt x="19273" y="9029"/>
                </a:cubicBezTo>
                <a:cubicBezTo>
                  <a:pt x="19281" y="9021"/>
                  <a:pt x="19290" y="9012"/>
                  <a:pt x="19298" y="9004"/>
                </a:cubicBezTo>
              </a:path>
              <a:path w="7368" h="1390">
                <a:moveTo>
                  <a:pt x="19372" y="8657"/>
                </a:moveTo>
                <a:cubicBezTo>
                  <a:pt x="19372" y="8779"/>
                  <a:pt x="19352" y="8886"/>
                  <a:pt x="19348" y="9004"/>
                </a:cubicBezTo>
                <a:cubicBezTo>
                  <a:pt x="19344" y="9109"/>
                  <a:pt x="19363" y="9202"/>
                  <a:pt x="19372" y="9302"/>
                </a:cubicBezTo>
                <a:cubicBezTo>
                  <a:pt x="19378" y="9373"/>
                  <a:pt x="19397" y="9432"/>
                  <a:pt x="19397" y="9500"/>
                </a:cubicBezTo>
              </a:path>
              <a:path w="7368" h="1390">
                <a:moveTo>
                  <a:pt x="19348" y="8285"/>
                </a:moveTo>
                <a:cubicBezTo>
                  <a:pt x="19560" y="8426"/>
                  <a:pt x="19628" y="8487"/>
                  <a:pt x="19745" y="8706"/>
                </a:cubicBezTo>
                <a:cubicBezTo>
                  <a:pt x="19811" y="8829"/>
                  <a:pt x="19841" y="8965"/>
                  <a:pt x="19844" y="9103"/>
                </a:cubicBezTo>
                <a:cubicBezTo>
                  <a:pt x="19848" y="9252"/>
                  <a:pt x="19820" y="9300"/>
                  <a:pt x="19745" y="9401"/>
                </a:cubicBezTo>
                <a:cubicBezTo>
                  <a:pt x="19716" y="9440"/>
                  <a:pt x="19671" y="9478"/>
                  <a:pt x="19621" y="9500"/>
                </a:cubicBezTo>
                <a:cubicBezTo>
                  <a:pt x="19613" y="9500"/>
                  <a:pt x="19604" y="9500"/>
                  <a:pt x="19596" y="9500"/>
                </a:cubicBezTo>
              </a:path>
              <a:path w="7368" h="1390">
                <a:moveTo>
                  <a:pt x="20141" y="8434"/>
                </a:moveTo>
                <a:cubicBezTo>
                  <a:pt x="20117" y="8599"/>
                  <a:pt x="20105" y="8769"/>
                  <a:pt x="20067" y="8930"/>
                </a:cubicBezTo>
                <a:cubicBezTo>
                  <a:pt x="20042" y="9034"/>
                  <a:pt x="20028" y="9143"/>
                  <a:pt x="20042" y="9252"/>
                </a:cubicBezTo>
                <a:cubicBezTo>
                  <a:pt x="20060" y="9388"/>
                  <a:pt x="20096" y="9446"/>
                  <a:pt x="20166" y="9550"/>
                </a:cubicBezTo>
                <a:cubicBezTo>
                  <a:pt x="20250" y="9675"/>
                  <a:pt x="20272" y="9658"/>
                  <a:pt x="20414" y="9624"/>
                </a:cubicBezTo>
              </a:path>
              <a:path w="7368" h="1390">
                <a:moveTo>
                  <a:pt x="20489" y="8706"/>
                </a:moveTo>
                <a:cubicBezTo>
                  <a:pt x="20489" y="8884"/>
                  <a:pt x="20489" y="9049"/>
                  <a:pt x="20513" y="9227"/>
                </a:cubicBezTo>
                <a:cubicBezTo>
                  <a:pt x="20526" y="9323"/>
                  <a:pt x="20543" y="9417"/>
                  <a:pt x="20563" y="9475"/>
                </a:cubicBezTo>
              </a:path>
              <a:path w="7368" h="1390">
                <a:moveTo>
                  <a:pt x="20687" y="8334"/>
                </a:moveTo>
                <a:cubicBezTo>
                  <a:pt x="20817" y="8526"/>
                  <a:pt x="20967" y="8690"/>
                  <a:pt x="20985" y="8930"/>
                </a:cubicBezTo>
                <a:cubicBezTo>
                  <a:pt x="20998" y="9101"/>
                  <a:pt x="20969" y="9216"/>
                  <a:pt x="20935" y="9376"/>
                </a:cubicBezTo>
              </a:path>
              <a:path w="7368" h="1390">
                <a:moveTo>
                  <a:pt x="21307" y="8880"/>
                </a:moveTo>
                <a:cubicBezTo>
                  <a:pt x="21357" y="8880"/>
                  <a:pt x="21406" y="8880"/>
                  <a:pt x="21456" y="8880"/>
                </a:cubicBezTo>
              </a:path>
              <a:path w="7368" h="1390">
                <a:moveTo>
                  <a:pt x="21382" y="9153"/>
                </a:moveTo>
                <a:cubicBezTo>
                  <a:pt x="21431" y="9153"/>
                  <a:pt x="21481" y="9153"/>
                  <a:pt x="21530" y="9153"/>
                </a:cubicBezTo>
              </a:path>
              <a:path w="7368" h="1390">
                <a:moveTo>
                  <a:pt x="21729" y="8582"/>
                </a:moveTo>
                <a:cubicBezTo>
                  <a:pt x="21772" y="8567"/>
                  <a:pt x="21925" y="8468"/>
                  <a:pt x="21977" y="8508"/>
                </a:cubicBezTo>
                <a:cubicBezTo>
                  <a:pt x="22053" y="8567"/>
                  <a:pt x="22063" y="8662"/>
                  <a:pt x="22002" y="8731"/>
                </a:cubicBezTo>
                <a:cubicBezTo>
                  <a:pt x="21945" y="8797"/>
                  <a:pt x="21849" y="8837"/>
                  <a:pt x="21803" y="8880"/>
                </a:cubicBezTo>
                <a:cubicBezTo>
                  <a:pt x="21761" y="8920"/>
                  <a:pt x="21736" y="8930"/>
                  <a:pt x="21754" y="8930"/>
                </a:cubicBezTo>
                <a:cubicBezTo>
                  <a:pt x="21817" y="8930"/>
                  <a:pt x="21905" y="8910"/>
                  <a:pt x="21952" y="8954"/>
                </a:cubicBezTo>
                <a:cubicBezTo>
                  <a:pt x="22016" y="9013"/>
                  <a:pt x="22023" y="9096"/>
                  <a:pt x="22027" y="9178"/>
                </a:cubicBezTo>
                <a:cubicBezTo>
                  <a:pt x="22031" y="9260"/>
                  <a:pt x="22027" y="9310"/>
                  <a:pt x="21977" y="9376"/>
                </a:cubicBezTo>
                <a:cubicBezTo>
                  <a:pt x="21928" y="9440"/>
                  <a:pt x="21903" y="9451"/>
                  <a:pt x="21828" y="9451"/>
                </a:cubicBezTo>
                <a:cubicBezTo>
                  <a:pt x="21722" y="9451"/>
                  <a:pt x="21740" y="9452"/>
                  <a:pt x="21679" y="9376"/>
                </a:cubicBezTo>
              </a:path>
              <a:path w="7368" h="1390">
                <a:moveTo>
                  <a:pt x="22523" y="8855"/>
                </a:moveTo>
                <a:cubicBezTo>
                  <a:pt x="22547" y="8802"/>
                  <a:pt x="22640" y="8642"/>
                  <a:pt x="22597" y="8558"/>
                </a:cubicBezTo>
                <a:cubicBezTo>
                  <a:pt x="22552" y="8469"/>
                  <a:pt x="22438" y="8531"/>
                  <a:pt x="22374" y="8558"/>
                </a:cubicBezTo>
                <a:cubicBezTo>
                  <a:pt x="22315" y="8583"/>
                  <a:pt x="22215" y="8668"/>
                  <a:pt x="22200" y="8731"/>
                </a:cubicBezTo>
                <a:cubicBezTo>
                  <a:pt x="22183" y="8800"/>
                  <a:pt x="22198" y="8901"/>
                  <a:pt x="22250" y="8930"/>
                </a:cubicBezTo>
                <a:cubicBezTo>
                  <a:pt x="22333" y="8977"/>
                  <a:pt x="22319" y="9004"/>
                  <a:pt x="22423" y="9004"/>
                </a:cubicBezTo>
                <a:cubicBezTo>
                  <a:pt x="22491" y="9004"/>
                  <a:pt x="22492" y="8957"/>
                  <a:pt x="22547" y="8930"/>
                </a:cubicBezTo>
                <a:cubicBezTo>
                  <a:pt x="22604" y="8902"/>
                  <a:pt x="22597" y="8845"/>
                  <a:pt x="22597" y="8781"/>
                </a:cubicBezTo>
                <a:cubicBezTo>
                  <a:pt x="22602" y="8788"/>
                  <a:pt x="22607" y="8905"/>
                  <a:pt x="22597" y="8954"/>
                </a:cubicBezTo>
                <a:cubicBezTo>
                  <a:pt x="22570" y="9090"/>
                  <a:pt x="22603" y="9166"/>
                  <a:pt x="22622" y="9302"/>
                </a:cubicBezTo>
                <a:cubicBezTo>
                  <a:pt x="22632" y="9376"/>
                  <a:pt x="22652" y="9411"/>
                  <a:pt x="22671" y="9475"/>
                </a:cubicBezTo>
                <a:cubicBezTo>
                  <a:pt x="22671" y="9500"/>
                  <a:pt x="22671" y="9508"/>
                  <a:pt x="22671" y="952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58880" y="3348000"/>
            <a:ext cx="330120" cy="608040"/>
          </a:xfrm>
          <a:custGeom>
            <a:avLst/>
            <a:gdLst/>
            <a:ahLst/>
            <a:rect l="l" t="t" r="r" b="b"/>
            <a:pathLst>
              <a:path w="919" h="1687">
                <a:moveTo>
                  <a:pt x="3026" y="9525"/>
                </a:moveTo>
                <a:cubicBezTo>
                  <a:pt x="2975" y="9469"/>
                  <a:pt x="2902" y="9355"/>
                  <a:pt x="2828" y="9327"/>
                </a:cubicBezTo>
                <a:cubicBezTo>
                  <a:pt x="2769" y="9304"/>
                  <a:pt x="2694" y="9302"/>
                  <a:pt x="2629" y="9302"/>
                </a:cubicBezTo>
                <a:cubicBezTo>
                  <a:pt x="2503" y="9302"/>
                  <a:pt x="2508" y="9337"/>
                  <a:pt x="2406" y="9376"/>
                </a:cubicBezTo>
                <a:cubicBezTo>
                  <a:pt x="2324" y="9408"/>
                  <a:pt x="2269" y="9415"/>
                  <a:pt x="2208" y="9500"/>
                </a:cubicBezTo>
                <a:cubicBezTo>
                  <a:pt x="2181" y="9537"/>
                  <a:pt x="2117" y="9629"/>
                  <a:pt x="2108" y="9674"/>
                </a:cubicBezTo>
                <a:cubicBezTo>
                  <a:pt x="2095" y="9737"/>
                  <a:pt x="2139" y="9860"/>
                  <a:pt x="2183" y="9897"/>
                </a:cubicBezTo>
                <a:cubicBezTo>
                  <a:pt x="2222" y="9930"/>
                  <a:pt x="2309" y="9957"/>
                  <a:pt x="2356" y="9996"/>
                </a:cubicBezTo>
                <a:cubicBezTo>
                  <a:pt x="2452" y="10076"/>
                  <a:pt x="2557" y="10201"/>
                  <a:pt x="2654" y="10269"/>
                </a:cubicBezTo>
                <a:cubicBezTo>
                  <a:pt x="2758" y="10342"/>
                  <a:pt x="2841" y="10390"/>
                  <a:pt x="2902" y="10517"/>
                </a:cubicBezTo>
                <a:cubicBezTo>
                  <a:pt x="2951" y="10620"/>
                  <a:pt x="2986" y="10728"/>
                  <a:pt x="3001" y="10840"/>
                </a:cubicBezTo>
                <a:cubicBezTo>
                  <a:pt x="3007" y="10882"/>
                  <a:pt x="2979" y="10977"/>
                  <a:pt x="2927" y="10988"/>
                </a:cubicBezTo>
                <a:cubicBezTo>
                  <a:pt x="2822" y="11011"/>
                  <a:pt x="2748" y="10972"/>
                  <a:pt x="2654" y="10939"/>
                </a:cubicBezTo>
                <a:cubicBezTo>
                  <a:pt x="2570" y="10910"/>
                  <a:pt x="2486" y="10878"/>
                  <a:pt x="2406" y="10840"/>
                </a:cubicBezTo>
                <a:cubicBezTo>
                  <a:pt x="2344" y="10811"/>
                  <a:pt x="2286" y="10780"/>
                  <a:pt x="2232" y="10740"/>
                </a:cubicBezTo>
                <a:cubicBezTo>
                  <a:pt x="2186" y="10706"/>
                  <a:pt x="2226" y="10743"/>
                  <a:pt x="2232" y="1071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697040" y="3402000"/>
            <a:ext cx="2089080" cy="777960"/>
          </a:xfrm>
          <a:custGeom>
            <a:avLst/>
            <a:gdLst/>
            <a:ahLst/>
            <a:rect l="l" t="t" r="r" b="b"/>
            <a:pathLst>
              <a:path w="5805" h="2159">
                <a:moveTo>
                  <a:pt x="4713" y="10195"/>
                </a:moveTo>
                <a:cubicBezTo>
                  <a:pt x="4738" y="10234"/>
                  <a:pt x="4800" y="10220"/>
                  <a:pt x="4862" y="10220"/>
                </a:cubicBezTo>
                <a:cubicBezTo>
                  <a:pt x="4979" y="10220"/>
                  <a:pt x="5089" y="10195"/>
                  <a:pt x="5209" y="10195"/>
                </a:cubicBezTo>
                <a:cubicBezTo>
                  <a:pt x="5385" y="10195"/>
                  <a:pt x="5575" y="10216"/>
                  <a:pt x="5705" y="10145"/>
                </a:cubicBezTo>
                <a:cubicBezTo>
                  <a:pt x="5730" y="10145"/>
                  <a:pt x="5738" y="10145"/>
                  <a:pt x="5705" y="10145"/>
                </a:cubicBezTo>
              </a:path>
              <a:path w="5805" h="2159">
                <a:moveTo>
                  <a:pt x="5110" y="10567"/>
                </a:moveTo>
                <a:cubicBezTo>
                  <a:pt x="5181" y="10567"/>
                  <a:pt x="5166" y="10520"/>
                  <a:pt x="5234" y="10492"/>
                </a:cubicBezTo>
                <a:cubicBezTo>
                  <a:pt x="5283" y="10472"/>
                  <a:pt x="5315" y="10434"/>
                  <a:pt x="5358" y="10418"/>
                </a:cubicBezTo>
                <a:cubicBezTo>
                  <a:pt x="5433" y="10391"/>
                  <a:pt x="5469" y="10446"/>
                  <a:pt x="5507" y="10492"/>
                </a:cubicBezTo>
                <a:cubicBezTo>
                  <a:pt x="5549" y="10543"/>
                  <a:pt x="5526" y="10631"/>
                  <a:pt x="5507" y="10691"/>
                </a:cubicBezTo>
                <a:cubicBezTo>
                  <a:pt x="5479" y="10779"/>
                  <a:pt x="5439" y="10843"/>
                  <a:pt x="5383" y="10914"/>
                </a:cubicBezTo>
                <a:cubicBezTo>
                  <a:pt x="5333" y="10977"/>
                  <a:pt x="5260" y="11081"/>
                  <a:pt x="5184" y="11112"/>
                </a:cubicBezTo>
                <a:cubicBezTo>
                  <a:pt x="5158" y="11122"/>
                  <a:pt x="5137" y="11130"/>
                  <a:pt x="5110" y="11137"/>
                </a:cubicBezTo>
                <a:cubicBezTo>
                  <a:pt x="5123" y="11097"/>
                  <a:pt x="5149" y="11112"/>
                  <a:pt x="5184" y="11088"/>
                </a:cubicBezTo>
                <a:cubicBezTo>
                  <a:pt x="5247" y="11046"/>
                  <a:pt x="5249" y="11084"/>
                  <a:pt x="5308" y="11088"/>
                </a:cubicBezTo>
                <a:cubicBezTo>
                  <a:pt x="5373" y="11093"/>
                  <a:pt x="5429" y="11109"/>
                  <a:pt x="5482" y="11137"/>
                </a:cubicBezTo>
                <a:cubicBezTo>
                  <a:pt x="5547" y="11172"/>
                  <a:pt x="5583" y="11187"/>
                  <a:pt x="5655" y="11187"/>
                </a:cubicBezTo>
                <a:cubicBezTo>
                  <a:pt x="5693" y="11187"/>
                  <a:pt x="5704" y="11163"/>
                  <a:pt x="5730" y="11137"/>
                </a:cubicBezTo>
              </a:path>
              <a:path w="5805" h="2159">
                <a:moveTo>
                  <a:pt x="6276" y="9525"/>
                </a:moveTo>
                <a:cubicBezTo>
                  <a:pt x="6232" y="9579"/>
                  <a:pt x="6194" y="9630"/>
                  <a:pt x="6176" y="9699"/>
                </a:cubicBezTo>
                <a:cubicBezTo>
                  <a:pt x="6132" y="9872"/>
                  <a:pt x="6086" y="10026"/>
                  <a:pt x="6052" y="10195"/>
                </a:cubicBezTo>
                <a:cubicBezTo>
                  <a:pt x="6017" y="10367"/>
                  <a:pt x="5984" y="10507"/>
                  <a:pt x="6003" y="10691"/>
                </a:cubicBezTo>
                <a:cubicBezTo>
                  <a:pt x="6012" y="10782"/>
                  <a:pt x="6026" y="10933"/>
                  <a:pt x="6077" y="11013"/>
                </a:cubicBezTo>
                <a:cubicBezTo>
                  <a:pt x="6106" y="11059"/>
                  <a:pt x="6164" y="11121"/>
                  <a:pt x="6201" y="11162"/>
                </a:cubicBezTo>
                <a:cubicBezTo>
                  <a:pt x="6220" y="11183"/>
                  <a:pt x="6265" y="11187"/>
                  <a:pt x="6176" y="11187"/>
                </a:cubicBezTo>
              </a:path>
              <a:path w="5805" h="2159">
                <a:moveTo>
                  <a:pt x="6474" y="10220"/>
                </a:moveTo>
                <a:cubicBezTo>
                  <a:pt x="6512" y="10193"/>
                  <a:pt x="6543" y="10170"/>
                  <a:pt x="6573" y="10120"/>
                </a:cubicBezTo>
                <a:cubicBezTo>
                  <a:pt x="6608" y="10062"/>
                  <a:pt x="6633" y="10043"/>
                  <a:pt x="6672" y="9996"/>
                </a:cubicBezTo>
                <a:cubicBezTo>
                  <a:pt x="6702" y="9959"/>
                  <a:pt x="6729" y="9973"/>
                  <a:pt x="6772" y="9971"/>
                </a:cubicBezTo>
                <a:cubicBezTo>
                  <a:pt x="6842" y="9967"/>
                  <a:pt x="6853" y="9958"/>
                  <a:pt x="6871" y="10046"/>
                </a:cubicBezTo>
                <a:cubicBezTo>
                  <a:pt x="6891" y="10139"/>
                  <a:pt x="6872" y="10256"/>
                  <a:pt x="6846" y="10344"/>
                </a:cubicBezTo>
                <a:cubicBezTo>
                  <a:pt x="6822" y="10425"/>
                  <a:pt x="6782" y="10513"/>
                  <a:pt x="6747" y="10592"/>
                </a:cubicBezTo>
                <a:cubicBezTo>
                  <a:pt x="6705" y="10688"/>
                  <a:pt x="6647" y="10772"/>
                  <a:pt x="6598" y="10864"/>
                </a:cubicBezTo>
                <a:cubicBezTo>
                  <a:pt x="6575" y="10908"/>
                  <a:pt x="6540" y="10946"/>
                  <a:pt x="6524" y="10988"/>
                </a:cubicBezTo>
                <a:cubicBezTo>
                  <a:pt x="6524" y="10996"/>
                  <a:pt x="6524" y="11005"/>
                  <a:pt x="6524" y="11013"/>
                </a:cubicBezTo>
                <a:cubicBezTo>
                  <a:pt x="6534" y="11003"/>
                  <a:pt x="6586" y="10978"/>
                  <a:pt x="6598" y="10964"/>
                </a:cubicBezTo>
                <a:cubicBezTo>
                  <a:pt x="6621" y="10937"/>
                  <a:pt x="6642" y="10912"/>
                  <a:pt x="6672" y="10889"/>
                </a:cubicBezTo>
                <a:cubicBezTo>
                  <a:pt x="6732" y="10843"/>
                  <a:pt x="6726" y="10877"/>
                  <a:pt x="6796" y="10889"/>
                </a:cubicBezTo>
                <a:cubicBezTo>
                  <a:pt x="6858" y="10899"/>
                  <a:pt x="6906" y="10928"/>
                  <a:pt x="6970" y="10939"/>
                </a:cubicBezTo>
                <a:cubicBezTo>
                  <a:pt x="7029" y="10949"/>
                  <a:pt x="7093" y="10943"/>
                  <a:pt x="7144" y="10914"/>
                </a:cubicBezTo>
                <a:cubicBezTo>
                  <a:pt x="7169" y="10889"/>
                  <a:pt x="7177" y="10881"/>
                  <a:pt x="7193" y="10864"/>
                </a:cubicBezTo>
              </a:path>
              <a:path w="5805" h="2159">
                <a:moveTo>
                  <a:pt x="7293" y="10046"/>
                </a:moveTo>
                <a:cubicBezTo>
                  <a:pt x="7254" y="10152"/>
                  <a:pt x="7202" y="10256"/>
                  <a:pt x="7193" y="10368"/>
                </a:cubicBezTo>
                <a:cubicBezTo>
                  <a:pt x="7183" y="10487"/>
                  <a:pt x="7167" y="10600"/>
                  <a:pt x="7193" y="10716"/>
                </a:cubicBezTo>
                <a:cubicBezTo>
                  <a:pt x="7214" y="10808"/>
                  <a:pt x="7258" y="10894"/>
                  <a:pt x="7317" y="10964"/>
                </a:cubicBezTo>
                <a:cubicBezTo>
                  <a:pt x="7391" y="11053"/>
                  <a:pt x="7459" y="11048"/>
                  <a:pt x="7565" y="11013"/>
                </a:cubicBezTo>
                <a:cubicBezTo>
                  <a:pt x="7651" y="10984"/>
                  <a:pt x="7729" y="10856"/>
                  <a:pt x="7739" y="10765"/>
                </a:cubicBezTo>
                <a:cubicBezTo>
                  <a:pt x="7751" y="10654"/>
                  <a:pt x="7720" y="10524"/>
                  <a:pt x="7689" y="10418"/>
                </a:cubicBezTo>
                <a:cubicBezTo>
                  <a:pt x="7659" y="10314"/>
                  <a:pt x="7585" y="10204"/>
                  <a:pt x="7516" y="10120"/>
                </a:cubicBezTo>
                <a:cubicBezTo>
                  <a:pt x="7474" y="10069"/>
                  <a:pt x="7362" y="9996"/>
                  <a:pt x="7293" y="10046"/>
                </a:cubicBezTo>
                <a:cubicBezTo>
                  <a:pt x="7293" y="10054"/>
                  <a:pt x="7293" y="10063"/>
                  <a:pt x="7293" y="10071"/>
                </a:cubicBezTo>
                <a:cubicBezTo>
                  <a:pt x="7300" y="10111"/>
                  <a:pt x="7336" y="10172"/>
                  <a:pt x="7392" y="10195"/>
                </a:cubicBezTo>
                <a:cubicBezTo>
                  <a:pt x="7408" y="10195"/>
                  <a:pt x="7425" y="10195"/>
                  <a:pt x="7441" y="10195"/>
                </a:cubicBezTo>
              </a:path>
              <a:path w="5805" h="2159">
                <a:moveTo>
                  <a:pt x="8310" y="10294"/>
                </a:moveTo>
                <a:cubicBezTo>
                  <a:pt x="8310" y="10439"/>
                  <a:pt x="8342" y="10511"/>
                  <a:pt x="8359" y="10641"/>
                </a:cubicBezTo>
                <a:cubicBezTo>
                  <a:pt x="8373" y="10746"/>
                  <a:pt x="8412" y="10816"/>
                  <a:pt x="8434" y="10914"/>
                </a:cubicBezTo>
                <a:cubicBezTo>
                  <a:pt x="8443" y="10956"/>
                  <a:pt x="8476" y="11006"/>
                  <a:pt x="8434" y="10964"/>
                </a:cubicBezTo>
              </a:path>
              <a:path w="5805" h="2159">
                <a:moveTo>
                  <a:pt x="8161" y="10567"/>
                </a:moveTo>
                <a:cubicBezTo>
                  <a:pt x="8265" y="10552"/>
                  <a:pt x="8329" y="10537"/>
                  <a:pt x="8434" y="10517"/>
                </a:cubicBezTo>
                <a:cubicBezTo>
                  <a:pt x="8459" y="10509"/>
                  <a:pt x="8483" y="10500"/>
                  <a:pt x="8508" y="10492"/>
                </a:cubicBezTo>
              </a:path>
              <a:path w="5805" h="2159">
                <a:moveTo>
                  <a:pt x="8830" y="10120"/>
                </a:moveTo>
                <a:cubicBezTo>
                  <a:pt x="8971" y="10037"/>
                  <a:pt x="8904" y="10093"/>
                  <a:pt x="9029" y="10120"/>
                </a:cubicBezTo>
                <a:cubicBezTo>
                  <a:pt x="9122" y="10140"/>
                  <a:pt x="9197" y="10156"/>
                  <a:pt x="9178" y="10269"/>
                </a:cubicBezTo>
                <a:cubicBezTo>
                  <a:pt x="9165" y="10347"/>
                  <a:pt x="9084" y="10392"/>
                  <a:pt x="9029" y="10418"/>
                </a:cubicBezTo>
                <a:cubicBezTo>
                  <a:pt x="8965" y="10448"/>
                  <a:pt x="8974" y="10492"/>
                  <a:pt x="8905" y="10492"/>
                </a:cubicBezTo>
                <a:cubicBezTo>
                  <a:pt x="8897" y="10492"/>
                  <a:pt x="8888" y="10492"/>
                  <a:pt x="8880" y="10492"/>
                </a:cubicBezTo>
                <a:cubicBezTo>
                  <a:pt x="8955" y="10492"/>
                  <a:pt x="9124" y="10459"/>
                  <a:pt x="9178" y="10517"/>
                </a:cubicBezTo>
                <a:cubicBezTo>
                  <a:pt x="9212" y="10554"/>
                  <a:pt x="9255" y="10588"/>
                  <a:pt x="9277" y="10641"/>
                </a:cubicBezTo>
                <a:cubicBezTo>
                  <a:pt x="9301" y="10699"/>
                  <a:pt x="9320" y="10800"/>
                  <a:pt x="9302" y="10864"/>
                </a:cubicBezTo>
                <a:cubicBezTo>
                  <a:pt x="9288" y="10916"/>
                  <a:pt x="9226" y="10971"/>
                  <a:pt x="9178" y="10988"/>
                </a:cubicBezTo>
                <a:cubicBezTo>
                  <a:pt x="9088" y="11020"/>
                  <a:pt x="9014" y="11001"/>
                  <a:pt x="8930" y="10964"/>
                </a:cubicBezTo>
                <a:cubicBezTo>
                  <a:pt x="8860" y="10933"/>
                  <a:pt x="8840" y="10882"/>
                  <a:pt x="8830" y="10815"/>
                </a:cubicBezTo>
              </a:path>
              <a:path w="5805" h="2159">
                <a:moveTo>
                  <a:pt x="9823" y="10046"/>
                </a:moveTo>
                <a:cubicBezTo>
                  <a:pt x="9779" y="9968"/>
                  <a:pt x="9754" y="9948"/>
                  <a:pt x="9649" y="9971"/>
                </a:cubicBezTo>
                <a:cubicBezTo>
                  <a:pt x="9574" y="9987"/>
                  <a:pt x="9482" y="10051"/>
                  <a:pt x="9451" y="10120"/>
                </a:cubicBezTo>
                <a:cubicBezTo>
                  <a:pt x="9409" y="10214"/>
                  <a:pt x="9393" y="10245"/>
                  <a:pt x="9426" y="10344"/>
                </a:cubicBezTo>
                <a:cubicBezTo>
                  <a:pt x="9442" y="10392"/>
                  <a:pt x="9493" y="10469"/>
                  <a:pt x="9550" y="10492"/>
                </a:cubicBezTo>
                <a:cubicBezTo>
                  <a:pt x="9627" y="10524"/>
                  <a:pt x="9745" y="10491"/>
                  <a:pt x="9798" y="10443"/>
                </a:cubicBezTo>
                <a:cubicBezTo>
                  <a:pt x="9850" y="10396"/>
                  <a:pt x="9847" y="10334"/>
                  <a:pt x="9847" y="10269"/>
                </a:cubicBezTo>
                <a:cubicBezTo>
                  <a:pt x="9847" y="10200"/>
                  <a:pt x="9854" y="10173"/>
                  <a:pt x="9823" y="10120"/>
                </a:cubicBezTo>
                <a:cubicBezTo>
                  <a:pt x="9823" y="10249"/>
                  <a:pt x="9833" y="10367"/>
                  <a:pt x="9847" y="10492"/>
                </a:cubicBezTo>
                <a:cubicBezTo>
                  <a:pt x="9859" y="10601"/>
                  <a:pt x="9866" y="10709"/>
                  <a:pt x="9897" y="10815"/>
                </a:cubicBezTo>
                <a:cubicBezTo>
                  <a:pt x="9917" y="10883"/>
                  <a:pt x="9954" y="10953"/>
                  <a:pt x="9971" y="11013"/>
                </a:cubicBezTo>
                <a:cubicBezTo>
                  <a:pt x="9971" y="11038"/>
                  <a:pt x="9971" y="11046"/>
                  <a:pt x="9971" y="11013"/>
                </a:cubicBezTo>
              </a:path>
              <a:path w="5805" h="2159">
                <a:moveTo>
                  <a:pt x="10021" y="9451"/>
                </a:moveTo>
                <a:cubicBezTo>
                  <a:pt x="10182" y="9635"/>
                  <a:pt x="10299" y="9815"/>
                  <a:pt x="10393" y="10046"/>
                </a:cubicBezTo>
                <a:cubicBezTo>
                  <a:pt x="10502" y="10314"/>
                  <a:pt x="10542" y="10601"/>
                  <a:pt x="10517" y="10889"/>
                </a:cubicBezTo>
                <a:cubicBezTo>
                  <a:pt x="10501" y="11074"/>
                  <a:pt x="10425" y="11249"/>
                  <a:pt x="10344" y="11410"/>
                </a:cubicBezTo>
                <a:cubicBezTo>
                  <a:pt x="10294" y="11509"/>
                  <a:pt x="10277" y="11543"/>
                  <a:pt x="10244" y="1160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108080" y="3938760"/>
            <a:ext cx="241200" cy="177480"/>
          </a:xfrm>
          <a:custGeom>
            <a:avLst/>
            <a:gdLst/>
            <a:ahLst/>
            <a:rect l="l" t="t" r="r" b="b"/>
            <a:pathLst>
              <a:path w="671" h="497">
                <a:moveTo>
                  <a:pt x="3150" y="10964"/>
                </a:moveTo>
                <a:cubicBezTo>
                  <a:pt x="3209" y="10964"/>
                  <a:pt x="3279" y="10949"/>
                  <a:pt x="3324" y="10988"/>
                </a:cubicBezTo>
                <a:cubicBezTo>
                  <a:pt x="3375" y="11032"/>
                  <a:pt x="3339" y="11045"/>
                  <a:pt x="3324" y="11088"/>
                </a:cubicBezTo>
                <a:cubicBezTo>
                  <a:pt x="3310" y="11130"/>
                  <a:pt x="3283" y="11152"/>
                  <a:pt x="3249" y="11187"/>
                </a:cubicBezTo>
                <a:cubicBezTo>
                  <a:pt x="3214" y="11223"/>
                  <a:pt x="3119" y="11285"/>
                  <a:pt x="3101" y="11311"/>
                </a:cubicBezTo>
                <a:cubicBezTo>
                  <a:pt x="3084" y="11335"/>
                  <a:pt x="3086" y="11332"/>
                  <a:pt x="3076" y="11361"/>
                </a:cubicBezTo>
                <a:cubicBezTo>
                  <a:pt x="3122" y="11376"/>
                  <a:pt x="3100" y="11385"/>
                  <a:pt x="3175" y="11385"/>
                </a:cubicBezTo>
                <a:cubicBezTo>
                  <a:pt x="3240" y="11385"/>
                  <a:pt x="3265" y="11397"/>
                  <a:pt x="3324" y="11385"/>
                </a:cubicBezTo>
                <a:cubicBezTo>
                  <a:pt x="3388" y="11372"/>
                  <a:pt x="3373" y="11397"/>
                  <a:pt x="3423" y="11361"/>
                </a:cubicBezTo>
              </a:path>
              <a:path w="671" h="497">
                <a:moveTo>
                  <a:pt x="3547" y="11063"/>
                </a:moveTo>
                <a:cubicBezTo>
                  <a:pt x="3547" y="11129"/>
                  <a:pt x="3527" y="11173"/>
                  <a:pt x="3522" y="11237"/>
                </a:cubicBezTo>
                <a:cubicBezTo>
                  <a:pt x="3518" y="11291"/>
                  <a:pt x="3516" y="11339"/>
                  <a:pt x="3547" y="11385"/>
                </a:cubicBezTo>
                <a:cubicBezTo>
                  <a:pt x="3558" y="11402"/>
                  <a:pt x="3626" y="11444"/>
                  <a:pt x="3646" y="11435"/>
                </a:cubicBezTo>
                <a:cubicBezTo>
                  <a:pt x="3668" y="11425"/>
                  <a:pt x="3738" y="11389"/>
                  <a:pt x="3746" y="11361"/>
                </a:cubicBezTo>
                <a:cubicBezTo>
                  <a:pt x="3764" y="11300"/>
                  <a:pt x="3746" y="11209"/>
                  <a:pt x="3721" y="11162"/>
                </a:cubicBezTo>
                <a:cubicBezTo>
                  <a:pt x="3688" y="11100"/>
                  <a:pt x="3626" y="11091"/>
                  <a:pt x="3597" y="11038"/>
                </a:cubicBezTo>
                <a:cubicBezTo>
                  <a:pt x="3565" y="10980"/>
                  <a:pt x="3578" y="11000"/>
                  <a:pt x="3621" y="1093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1419120" y="3751200"/>
            <a:ext cx="135000" cy="98640"/>
          </a:xfrm>
          <a:custGeom>
            <a:avLst/>
            <a:gdLst/>
            <a:ahLst/>
            <a:rect l="l" t="t" r="r" b="b"/>
            <a:pathLst>
              <a:path w="373" h="274">
                <a:moveTo>
                  <a:pt x="3944" y="10418"/>
                </a:moveTo>
                <a:cubicBezTo>
                  <a:pt x="4018" y="10434"/>
                  <a:pt x="4069" y="10443"/>
                  <a:pt x="4142" y="10443"/>
                </a:cubicBezTo>
              </a:path>
              <a:path w="373" h="274">
                <a:moveTo>
                  <a:pt x="4043" y="10691"/>
                </a:moveTo>
                <a:cubicBezTo>
                  <a:pt x="4183" y="10691"/>
                  <a:pt x="4203" y="10669"/>
                  <a:pt x="4316" y="1064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704960" y="3348000"/>
            <a:ext cx="393840" cy="241200"/>
          </a:xfrm>
          <a:custGeom>
            <a:avLst/>
            <a:gdLst/>
            <a:ahLst/>
            <a:rect l="l" t="t" r="r" b="b"/>
            <a:pathLst>
              <a:path w="1092" h="670">
                <a:moveTo>
                  <a:pt x="4738" y="9451"/>
                </a:moveTo>
                <a:cubicBezTo>
                  <a:pt x="4745" y="9385"/>
                  <a:pt x="4755" y="9364"/>
                  <a:pt x="4812" y="9327"/>
                </a:cubicBezTo>
                <a:cubicBezTo>
                  <a:pt x="4875" y="9286"/>
                  <a:pt x="4923" y="9312"/>
                  <a:pt x="4986" y="9327"/>
                </a:cubicBezTo>
                <a:cubicBezTo>
                  <a:pt x="5005" y="9331"/>
                  <a:pt x="5102" y="9375"/>
                  <a:pt x="5110" y="9401"/>
                </a:cubicBezTo>
                <a:cubicBezTo>
                  <a:pt x="5135" y="9483"/>
                  <a:pt x="5126" y="9542"/>
                  <a:pt x="5085" y="9624"/>
                </a:cubicBezTo>
                <a:cubicBezTo>
                  <a:pt x="5035" y="9723"/>
                  <a:pt x="4965" y="9737"/>
                  <a:pt x="4911" y="9823"/>
                </a:cubicBezTo>
                <a:cubicBezTo>
                  <a:pt x="4866" y="9895"/>
                  <a:pt x="4833" y="9877"/>
                  <a:pt x="4812" y="9922"/>
                </a:cubicBezTo>
                <a:cubicBezTo>
                  <a:pt x="4804" y="9938"/>
                  <a:pt x="4795" y="9955"/>
                  <a:pt x="4787" y="9971"/>
                </a:cubicBezTo>
                <a:cubicBezTo>
                  <a:pt x="4866" y="9971"/>
                  <a:pt x="4856" y="9955"/>
                  <a:pt x="4911" y="9922"/>
                </a:cubicBezTo>
                <a:cubicBezTo>
                  <a:pt x="4983" y="9879"/>
                  <a:pt x="5074" y="9950"/>
                  <a:pt x="5110" y="9971"/>
                </a:cubicBezTo>
                <a:cubicBezTo>
                  <a:pt x="5167" y="10005"/>
                  <a:pt x="5337" y="9979"/>
                  <a:pt x="5358" y="9922"/>
                </a:cubicBezTo>
                <a:cubicBezTo>
                  <a:pt x="5358" y="9914"/>
                  <a:pt x="5358" y="9905"/>
                  <a:pt x="5358" y="9897"/>
                </a:cubicBezTo>
              </a:path>
              <a:path w="1092" h="670">
                <a:moveTo>
                  <a:pt x="5407" y="9401"/>
                </a:moveTo>
                <a:cubicBezTo>
                  <a:pt x="5369" y="9462"/>
                  <a:pt x="5300" y="9558"/>
                  <a:pt x="5283" y="9624"/>
                </a:cubicBezTo>
                <a:cubicBezTo>
                  <a:pt x="5259" y="9718"/>
                  <a:pt x="5329" y="9789"/>
                  <a:pt x="5383" y="9847"/>
                </a:cubicBezTo>
                <a:cubicBezTo>
                  <a:pt x="5429" y="9896"/>
                  <a:pt x="5523" y="9952"/>
                  <a:pt x="5581" y="9971"/>
                </a:cubicBezTo>
                <a:cubicBezTo>
                  <a:pt x="5596" y="9976"/>
                  <a:pt x="5772" y="9905"/>
                  <a:pt x="5779" y="9897"/>
                </a:cubicBezTo>
                <a:cubicBezTo>
                  <a:pt x="5817" y="9850"/>
                  <a:pt x="5841" y="9735"/>
                  <a:pt x="5829" y="9674"/>
                </a:cubicBezTo>
                <a:cubicBezTo>
                  <a:pt x="5812" y="9591"/>
                  <a:pt x="5775" y="9516"/>
                  <a:pt x="5705" y="9475"/>
                </a:cubicBezTo>
                <a:cubicBezTo>
                  <a:pt x="5658" y="9448"/>
                  <a:pt x="5553" y="9407"/>
                  <a:pt x="5507" y="9401"/>
                </a:cubicBezTo>
                <a:cubicBezTo>
                  <a:pt x="5433" y="9392"/>
                  <a:pt x="5444" y="9395"/>
                  <a:pt x="5407" y="945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85880" y="4321080"/>
            <a:ext cx="1563480" cy="627120"/>
          </a:xfrm>
          <a:custGeom>
            <a:avLst/>
            <a:gdLst/>
            <a:ahLst/>
            <a:rect l="l" t="t" r="r" b="b"/>
            <a:pathLst>
              <a:path w="4342" h="1738">
                <a:moveTo>
                  <a:pt x="2753" y="12229"/>
                </a:moveTo>
                <a:cubicBezTo>
                  <a:pt x="2773" y="12269"/>
                  <a:pt x="2772" y="12285"/>
                  <a:pt x="2803" y="12278"/>
                </a:cubicBezTo>
                <a:cubicBezTo>
                  <a:pt x="2798" y="12236"/>
                  <a:pt x="2796" y="12191"/>
                  <a:pt x="2778" y="12154"/>
                </a:cubicBezTo>
                <a:cubicBezTo>
                  <a:pt x="2750" y="12099"/>
                  <a:pt x="2674" y="12064"/>
                  <a:pt x="2629" y="12030"/>
                </a:cubicBezTo>
                <a:cubicBezTo>
                  <a:pt x="2579" y="11992"/>
                  <a:pt x="2520" y="12005"/>
                  <a:pt x="2456" y="12005"/>
                </a:cubicBezTo>
                <a:cubicBezTo>
                  <a:pt x="2381" y="12005"/>
                  <a:pt x="2340" y="12002"/>
                  <a:pt x="2282" y="12055"/>
                </a:cubicBezTo>
                <a:cubicBezTo>
                  <a:pt x="2232" y="12100"/>
                  <a:pt x="2199" y="12107"/>
                  <a:pt x="2183" y="12179"/>
                </a:cubicBezTo>
                <a:cubicBezTo>
                  <a:pt x="2173" y="12225"/>
                  <a:pt x="2194" y="12288"/>
                  <a:pt x="2208" y="12328"/>
                </a:cubicBezTo>
                <a:cubicBezTo>
                  <a:pt x="2235" y="12408"/>
                  <a:pt x="2323" y="12468"/>
                  <a:pt x="2381" y="12526"/>
                </a:cubicBezTo>
                <a:cubicBezTo>
                  <a:pt x="2491" y="12636"/>
                  <a:pt x="2656" y="12763"/>
                  <a:pt x="2729" y="12898"/>
                </a:cubicBezTo>
                <a:cubicBezTo>
                  <a:pt x="2772" y="12978"/>
                  <a:pt x="2824" y="13103"/>
                  <a:pt x="2828" y="13196"/>
                </a:cubicBezTo>
                <a:cubicBezTo>
                  <a:pt x="2832" y="13300"/>
                  <a:pt x="2787" y="13340"/>
                  <a:pt x="2704" y="13395"/>
                </a:cubicBezTo>
                <a:cubicBezTo>
                  <a:pt x="2653" y="13429"/>
                  <a:pt x="2538" y="13432"/>
                  <a:pt x="2480" y="13419"/>
                </a:cubicBezTo>
                <a:cubicBezTo>
                  <a:pt x="2402" y="13401"/>
                  <a:pt x="2355" y="13356"/>
                  <a:pt x="2307" y="13320"/>
                </a:cubicBezTo>
                <a:cubicBezTo>
                  <a:pt x="2244" y="13273"/>
                  <a:pt x="2265" y="13268"/>
                  <a:pt x="2232" y="13196"/>
                </a:cubicBezTo>
              </a:path>
              <a:path w="4342" h="1738">
                <a:moveTo>
                  <a:pt x="2877" y="13271"/>
                </a:moveTo>
                <a:cubicBezTo>
                  <a:pt x="2899" y="13254"/>
                  <a:pt x="2944" y="13227"/>
                  <a:pt x="2977" y="13246"/>
                </a:cubicBezTo>
                <a:cubicBezTo>
                  <a:pt x="3012" y="13266"/>
                  <a:pt x="3046" y="13277"/>
                  <a:pt x="3051" y="13320"/>
                </a:cubicBezTo>
                <a:cubicBezTo>
                  <a:pt x="3056" y="13369"/>
                  <a:pt x="3034" y="13382"/>
                  <a:pt x="3026" y="13419"/>
                </a:cubicBezTo>
                <a:cubicBezTo>
                  <a:pt x="3016" y="13467"/>
                  <a:pt x="2980" y="13499"/>
                  <a:pt x="2977" y="13543"/>
                </a:cubicBezTo>
                <a:cubicBezTo>
                  <a:pt x="2974" y="13591"/>
                  <a:pt x="2973" y="13644"/>
                  <a:pt x="3026" y="13667"/>
                </a:cubicBezTo>
                <a:cubicBezTo>
                  <a:pt x="3079" y="13690"/>
                  <a:pt x="3133" y="13661"/>
                  <a:pt x="3175" y="13643"/>
                </a:cubicBezTo>
              </a:path>
              <a:path w="4342" h="1738">
                <a:moveTo>
                  <a:pt x="3274" y="13345"/>
                </a:moveTo>
                <a:cubicBezTo>
                  <a:pt x="3235" y="13430"/>
                  <a:pt x="3196" y="13481"/>
                  <a:pt x="3249" y="13568"/>
                </a:cubicBezTo>
                <a:cubicBezTo>
                  <a:pt x="3289" y="13634"/>
                  <a:pt x="3323" y="13650"/>
                  <a:pt x="3398" y="13667"/>
                </a:cubicBezTo>
                <a:cubicBezTo>
                  <a:pt x="3439" y="13676"/>
                  <a:pt x="3471" y="13626"/>
                  <a:pt x="3473" y="13593"/>
                </a:cubicBezTo>
                <a:cubicBezTo>
                  <a:pt x="3478" y="13524"/>
                  <a:pt x="3453" y="13397"/>
                  <a:pt x="3398" y="13345"/>
                </a:cubicBezTo>
                <a:cubicBezTo>
                  <a:pt x="3347" y="13297"/>
                  <a:pt x="3307" y="13304"/>
                  <a:pt x="3299" y="13221"/>
                </a:cubicBezTo>
                <a:cubicBezTo>
                  <a:pt x="3299" y="13213"/>
                  <a:pt x="3299" y="13204"/>
                  <a:pt x="3299" y="13196"/>
                </a:cubicBezTo>
              </a:path>
              <a:path w="4342" h="1738">
                <a:moveTo>
                  <a:pt x="3646" y="12700"/>
                </a:moveTo>
                <a:cubicBezTo>
                  <a:pt x="3762" y="12700"/>
                  <a:pt x="3878" y="12700"/>
                  <a:pt x="3994" y="12700"/>
                </a:cubicBezTo>
              </a:path>
              <a:path w="4342" h="1738">
                <a:moveTo>
                  <a:pt x="3820" y="12948"/>
                </a:moveTo>
                <a:cubicBezTo>
                  <a:pt x="3962" y="12968"/>
                  <a:pt x="3989" y="12987"/>
                  <a:pt x="4068" y="12948"/>
                </a:cubicBezTo>
              </a:path>
              <a:path w="4342" h="1738">
                <a:moveTo>
                  <a:pt x="4514" y="12328"/>
                </a:moveTo>
                <a:cubicBezTo>
                  <a:pt x="4639" y="12317"/>
                  <a:pt x="4814" y="12324"/>
                  <a:pt x="4936" y="12278"/>
                </a:cubicBezTo>
              </a:path>
              <a:path w="4342" h="1738">
                <a:moveTo>
                  <a:pt x="4490" y="12378"/>
                </a:moveTo>
                <a:cubicBezTo>
                  <a:pt x="4465" y="12413"/>
                  <a:pt x="4356" y="12548"/>
                  <a:pt x="4366" y="12601"/>
                </a:cubicBezTo>
                <a:cubicBezTo>
                  <a:pt x="4375" y="12645"/>
                  <a:pt x="4402" y="12650"/>
                  <a:pt x="4440" y="12650"/>
                </a:cubicBezTo>
                <a:cubicBezTo>
                  <a:pt x="4499" y="12650"/>
                  <a:pt x="4494" y="12656"/>
                  <a:pt x="4564" y="12650"/>
                </a:cubicBezTo>
                <a:cubicBezTo>
                  <a:pt x="4625" y="12645"/>
                  <a:pt x="4683" y="12643"/>
                  <a:pt x="4738" y="12675"/>
                </a:cubicBezTo>
                <a:cubicBezTo>
                  <a:pt x="4790" y="12705"/>
                  <a:pt x="4834" y="12774"/>
                  <a:pt x="4862" y="12824"/>
                </a:cubicBezTo>
                <a:cubicBezTo>
                  <a:pt x="4913" y="12916"/>
                  <a:pt x="4911" y="12995"/>
                  <a:pt x="4911" y="13097"/>
                </a:cubicBezTo>
                <a:cubicBezTo>
                  <a:pt x="4911" y="13164"/>
                  <a:pt x="4899" y="13251"/>
                  <a:pt x="4837" y="13295"/>
                </a:cubicBezTo>
                <a:cubicBezTo>
                  <a:pt x="4746" y="13359"/>
                  <a:pt x="4712" y="13334"/>
                  <a:pt x="4614" y="13320"/>
                </a:cubicBezTo>
                <a:cubicBezTo>
                  <a:pt x="4560" y="13312"/>
                  <a:pt x="4492" y="13279"/>
                  <a:pt x="4465" y="13221"/>
                </a:cubicBezTo>
                <a:cubicBezTo>
                  <a:pt x="4443" y="13154"/>
                  <a:pt x="4431" y="13136"/>
                  <a:pt x="4465" y="13097"/>
                </a:cubicBezTo>
              </a:path>
              <a:path w="4342" h="1738">
                <a:moveTo>
                  <a:pt x="5581" y="12526"/>
                </a:moveTo>
                <a:cubicBezTo>
                  <a:pt x="5553" y="12429"/>
                  <a:pt x="5560" y="12374"/>
                  <a:pt x="5457" y="12353"/>
                </a:cubicBezTo>
                <a:cubicBezTo>
                  <a:pt x="5347" y="12331"/>
                  <a:pt x="5315" y="12373"/>
                  <a:pt x="5234" y="12427"/>
                </a:cubicBezTo>
                <a:cubicBezTo>
                  <a:pt x="5178" y="12464"/>
                  <a:pt x="5144" y="12546"/>
                  <a:pt x="5159" y="12626"/>
                </a:cubicBezTo>
                <a:cubicBezTo>
                  <a:pt x="5171" y="12687"/>
                  <a:pt x="5233" y="12766"/>
                  <a:pt x="5283" y="12799"/>
                </a:cubicBezTo>
                <a:cubicBezTo>
                  <a:pt x="5331" y="12831"/>
                  <a:pt x="5397" y="12864"/>
                  <a:pt x="5457" y="12849"/>
                </a:cubicBezTo>
                <a:cubicBezTo>
                  <a:pt x="5500" y="12838"/>
                  <a:pt x="5570" y="12771"/>
                  <a:pt x="5581" y="12725"/>
                </a:cubicBezTo>
                <a:cubicBezTo>
                  <a:pt x="5595" y="12667"/>
                  <a:pt x="5619" y="12609"/>
                  <a:pt x="5631" y="12551"/>
                </a:cubicBezTo>
                <a:cubicBezTo>
                  <a:pt x="5631" y="12526"/>
                  <a:pt x="5631" y="12518"/>
                  <a:pt x="5631" y="12502"/>
                </a:cubicBezTo>
                <a:cubicBezTo>
                  <a:pt x="5623" y="12564"/>
                  <a:pt x="5609" y="12610"/>
                  <a:pt x="5606" y="12675"/>
                </a:cubicBezTo>
                <a:cubicBezTo>
                  <a:pt x="5598" y="12843"/>
                  <a:pt x="5597" y="13006"/>
                  <a:pt x="5581" y="13171"/>
                </a:cubicBezTo>
                <a:cubicBezTo>
                  <a:pt x="5572" y="13269"/>
                  <a:pt x="5601" y="13350"/>
                  <a:pt x="5606" y="13444"/>
                </a:cubicBezTo>
                <a:cubicBezTo>
                  <a:pt x="5606" y="13486"/>
                  <a:pt x="5606" y="13494"/>
                  <a:pt x="5606" y="13519"/>
                </a:cubicBezTo>
                <a:cubicBezTo>
                  <a:pt x="5624" y="13496"/>
                  <a:pt x="5656" y="13443"/>
                  <a:pt x="5680" y="13395"/>
                </a:cubicBezTo>
                <a:cubicBezTo>
                  <a:pt x="5688" y="13378"/>
                  <a:pt x="5697" y="13362"/>
                  <a:pt x="5705" y="13345"/>
                </a:cubicBezTo>
              </a:path>
              <a:path w="4342" h="1738">
                <a:moveTo>
                  <a:pt x="5978" y="12576"/>
                </a:moveTo>
                <a:cubicBezTo>
                  <a:pt x="5961" y="12637"/>
                  <a:pt x="5935" y="12710"/>
                  <a:pt x="5928" y="12774"/>
                </a:cubicBezTo>
                <a:cubicBezTo>
                  <a:pt x="5911" y="12917"/>
                  <a:pt x="5917" y="13028"/>
                  <a:pt x="5928" y="13171"/>
                </a:cubicBezTo>
                <a:cubicBezTo>
                  <a:pt x="5937" y="13286"/>
                  <a:pt x="5981" y="13443"/>
                  <a:pt x="6052" y="13543"/>
                </a:cubicBezTo>
                <a:cubicBezTo>
                  <a:pt x="6102" y="13613"/>
                  <a:pt x="6214" y="13719"/>
                  <a:pt x="6300" y="13742"/>
                </a:cubicBezTo>
                <a:cubicBezTo>
                  <a:pt x="6409" y="13771"/>
                  <a:pt x="6468" y="13666"/>
                  <a:pt x="6499" y="13568"/>
                </a:cubicBezTo>
                <a:cubicBezTo>
                  <a:pt x="6534" y="13457"/>
                  <a:pt x="6518" y="13309"/>
                  <a:pt x="6499" y="13196"/>
                </a:cubicBezTo>
                <a:cubicBezTo>
                  <a:pt x="6480" y="13085"/>
                  <a:pt x="6402" y="12908"/>
                  <a:pt x="6325" y="12824"/>
                </a:cubicBezTo>
                <a:cubicBezTo>
                  <a:pt x="6246" y="12737"/>
                  <a:pt x="6135" y="12670"/>
                  <a:pt x="6028" y="1262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2117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mall business sells $10,000 worth of products during its first year.  The owner of the business has set a goal of increasing annual sales by $7500 each year for 19 years.  Assuming that this goal is met, find the total sales during the first 20 years this business is in operation.</a:t>
            </a:r>
            <a:endParaRPr b="0" lang="en-US" sz="2800" spc="-1" strike="noStrike">
              <a:solidFill>
                <a:srgbClr val="ffffff"/>
              </a:solidFill>
              <a:latin typeface="Times New Roman"/>
            </a:endParaRPr>
          </a:p>
        </p:txBody>
      </p:sp>
      <p:sp>
        <p:nvSpPr>
          <p:cNvPr id="124" name=""/>
          <p:cNvSpPr/>
          <p:nvPr/>
        </p:nvSpPr>
        <p:spPr>
          <a:xfrm>
            <a:off x="1071720" y="2813040"/>
            <a:ext cx="4036680" cy="1187640"/>
          </a:xfrm>
          <a:custGeom>
            <a:avLst/>
            <a:gdLst/>
            <a:ahLst/>
            <a:rect l="l" t="t" r="r" b="b"/>
            <a:pathLst>
              <a:path w="11212" h="3300">
                <a:moveTo>
                  <a:pt x="3200" y="8310"/>
                </a:moveTo>
                <a:cubicBezTo>
                  <a:pt x="3192" y="8318"/>
                  <a:pt x="3183" y="8326"/>
                  <a:pt x="3175" y="8334"/>
                </a:cubicBezTo>
                <a:cubicBezTo>
                  <a:pt x="3175" y="8389"/>
                  <a:pt x="3198" y="8304"/>
                  <a:pt x="3200" y="8285"/>
                </a:cubicBezTo>
                <a:cubicBezTo>
                  <a:pt x="3208" y="8214"/>
                  <a:pt x="3213" y="8217"/>
                  <a:pt x="3249" y="8161"/>
                </a:cubicBezTo>
                <a:cubicBezTo>
                  <a:pt x="3284" y="8106"/>
                  <a:pt x="3305" y="8060"/>
                  <a:pt x="3373" y="8037"/>
                </a:cubicBezTo>
                <a:cubicBezTo>
                  <a:pt x="3438" y="8015"/>
                  <a:pt x="3493" y="8033"/>
                  <a:pt x="3522" y="8086"/>
                </a:cubicBezTo>
                <a:cubicBezTo>
                  <a:pt x="3568" y="8171"/>
                  <a:pt x="3628" y="8310"/>
                  <a:pt x="3621" y="8409"/>
                </a:cubicBezTo>
                <a:cubicBezTo>
                  <a:pt x="3613" y="8514"/>
                  <a:pt x="3588" y="8631"/>
                  <a:pt x="3547" y="8731"/>
                </a:cubicBezTo>
                <a:cubicBezTo>
                  <a:pt x="3524" y="8787"/>
                  <a:pt x="3461" y="8904"/>
                  <a:pt x="3398" y="8930"/>
                </a:cubicBezTo>
                <a:cubicBezTo>
                  <a:pt x="3336" y="8956"/>
                  <a:pt x="3303" y="8941"/>
                  <a:pt x="3249" y="8930"/>
                </a:cubicBezTo>
                <a:cubicBezTo>
                  <a:pt x="3199" y="8920"/>
                  <a:pt x="3172" y="8872"/>
                  <a:pt x="3150" y="8806"/>
                </a:cubicBezTo>
                <a:cubicBezTo>
                  <a:pt x="3134" y="8758"/>
                  <a:pt x="3152" y="8613"/>
                  <a:pt x="3200" y="8582"/>
                </a:cubicBezTo>
                <a:cubicBezTo>
                  <a:pt x="3246" y="8552"/>
                  <a:pt x="3326" y="8615"/>
                  <a:pt x="3349" y="8632"/>
                </a:cubicBezTo>
                <a:cubicBezTo>
                  <a:pt x="3396" y="8666"/>
                  <a:pt x="3443" y="8758"/>
                  <a:pt x="3473" y="8806"/>
                </a:cubicBezTo>
                <a:cubicBezTo>
                  <a:pt x="3515" y="8874"/>
                  <a:pt x="3515" y="8957"/>
                  <a:pt x="3547" y="9004"/>
                </a:cubicBezTo>
                <a:cubicBezTo>
                  <a:pt x="3572" y="9004"/>
                  <a:pt x="3580" y="9004"/>
                  <a:pt x="3597" y="9004"/>
                </a:cubicBezTo>
              </a:path>
              <a:path w="11212" h="3300">
                <a:moveTo>
                  <a:pt x="3994" y="8186"/>
                </a:moveTo>
                <a:cubicBezTo>
                  <a:pt x="3968" y="8319"/>
                  <a:pt x="3945" y="8453"/>
                  <a:pt x="3919" y="8582"/>
                </a:cubicBezTo>
                <a:cubicBezTo>
                  <a:pt x="3902" y="8669"/>
                  <a:pt x="3896" y="8772"/>
                  <a:pt x="3944" y="8855"/>
                </a:cubicBezTo>
                <a:cubicBezTo>
                  <a:pt x="3981" y="8919"/>
                  <a:pt x="3996" y="8930"/>
                  <a:pt x="4068" y="8930"/>
                </a:cubicBezTo>
                <a:cubicBezTo>
                  <a:pt x="4187" y="8930"/>
                  <a:pt x="4167" y="8894"/>
                  <a:pt x="4242" y="8806"/>
                </a:cubicBezTo>
                <a:cubicBezTo>
                  <a:pt x="4290" y="8749"/>
                  <a:pt x="4333" y="8635"/>
                  <a:pt x="4316" y="8558"/>
                </a:cubicBezTo>
                <a:cubicBezTo>
                  <a:pt x="4281" y="8395"/>
                  <a:pt x="4224" y="8358"/>
                  <a:pt x="4118" y="8260"/>
                </a:cubicBezTo>
                <a:cubicBezTo>
                  <a:pt x="4070" y="8216"/>
                  <a:pt x="4004" y="8191"/>
                  <a:pt x="3944" y="8186"/>
                </a:cubicBezTo>
                <a:cubicBezTo>
                  <a:pt x="3901" y="8183"/>
                  <a:pt x="3902" y="8203"/>
                  <a:pt x="3894" y="8235"/>
                </a:cubicBezTo>
              </a:path>
              <a:path w="11212" h="3300">
                <a:moveTo>
                  <a:pt x="2977" y="9227"/>
                </a:moveTo>
                <a:cubicBezTo>
                  <a:pt x="3333" y="9227"/>
                  <a:pt x="4026" y="9349"/>
                  <a:pt x="4316" y="9178"/>
                </a:cubicBezTo>
                <a:cubicBezTo>
                  <a:pt x="4324" y="9178"/>
                  <a:pt x="4333" y="9178"/>
                  <a:pt x="4341" y="9178"/>
                </a:cubicBezTo>
                <a:cubicBezTo>
                  <a:pt x="4279" y="9208"/>
                  <a:pt x="4280" y="9227"/>
                  <a:pt x="4192" y="9227"/>
                </a:cubicBezTo>
              </a:path>
              <a:path w="11212" h="3300">
                <a:moveTo>
                  <a:pt x="3473" y="9599"/>
                </a:moveTo>
                <a:cubicBezTo>
                  <a:pt x="3456" y="9607"/>
                  <a:pt x="3440" y="9616"/>
                  <a:pt x="3423" y="9624"/>
                </a:cubicBezTo>
                <a:cubicBezTo>
                  <a:pt x="3452" y="9576"/>
                  <a:pt x="3453" y="9544"/>
                  <a:pt x="3497" y="9500"/>
                </a:cubicBezTo>
                <a:cubicBezTo>
                  <a:pt x="3522" y="9475"/>
                  <a:pt x="3563" y="9453"/>
                  <a:pt x="3597" y="9451"/>
                </a:cubicBezTo>
                <a:cubicBezTo>
                  <a:pt x="3652" y="9447"/>
                  <a:pt x="3711" y="9450"/>
                  <a:pt x="3746" y="9500"/>
                </a:cubicBezTo>
                <a:cubicBezTo>
                  <a:pt x="3807" y="9587"/>
                  <a:pt x="3841" y="9638"/>
                  <a:pt x="3845" y="9748"/>
                </a:cubicBezTo>
                <a:cubicBezTo>
                  <a:pt x="3849" y="9851"/>
                  <a:pt x="3844" y="9952"/>
                  <a:pt x="3795" y="10046"/>
                </a:cubicBezTo>
                <a:cubicBezTo>
                  <a:pt x="3757" y="10120"/>
                  <a:pt x="3678" y="10238"/>
                  <a:pt x="3597" y="10269"/>
                </a:cubicBezTo>
                <a:cubicBezTo>
                  <a:pt x="3533" y="10294"/>
                  <a:pt x="3444" y="10294"/>
                  <a:pt x="3373" y="10294"/>
                </a:cubicBezTo>
                <a:cubicBezTo>
                  <a:pt x="3267" y="10294"/>
                  <a:pt x="3270" y="10251"/>
                  <a:pt x="3249" y="10145"/>
                </a:cubicBezTo>
                <a:cubicBezTo>
                  <a:pt x="3227" y="10038"/>
                  <a:pt x="3281" y="10086"/>
                  <a:pt x="3324" y="10046"/>
                </a:cubicBezTo>
                <a:cubicBezTo>
                  <a:pt x="3414" y="9964"/>
                  <a:pt x="3462" y="9985"/>
                  <a:pt x="3597" y="10071"/>
                </a:cubicBezTo>
                <a:cubicBezTo>
                  <a:pt x="3665" y="10114"/>
                  <a:pt x="3702" y="10195"/>
                  <a:pt x="3721" y="10269"/>
                </a:cubicBezTo>
                <a:cubicBezTo>
                  <a:pt x="3736" y="10329"/>
                  <a:pt x="3746" y="10377"/>
                  <a:pt x="3746" y="10443"/>
                </a:cubicBezTo>
                <a:cubicBezTo>
                  <a:pt x="3746" y="10435"/>
                  <a:pt x="3746" y="10426"/>
                  <a:pt x="3746" y="10418"/>
                </a:cubicBezTo>
              </a:path>
              <a:path w="11212" h="3300">
                <a:moveTo>
                  <a:pt x="5035" y="8012"/>
                </a:moveTo>
                <a:cubicBezTo>
                  <a:pt x="5003" y="8091"/>
                  <a:pt x="4954" y="8158"/>
                  <a:pt x="4911" y="8235"/>
                </a:cubicBezTo>
                <a:cubicBezTo>
                  <a:pt x="4827" y="8385"/>
                  <a:pt x="4768" y="8544"/>
                  <a:pt x="4713" y="8706"/>
                </a:cubicBezTo>
                <a:cubicBezTo>
                  <a:pt x="4649" y="8893"/>
                  <a:pt x="4604" y="9104"/>
                  <a:pt x="4589" y="9302"/>
                </a:cubicBezTo>
                <a:cubicBezTo>
                  <a:pt x="4574" y="9502"/>
                  <a:pt x="4602" y="9734"/>
                  <a:pt x="4663" y="9922"/>
                </a:cubicBezTo>
                <a:cubicBezTo>
                  <a:pt x="4717" y="10088"/>
                  <a:pt x="4770" y="10271"/>
                  <a:pt x="4862" y="10418"/>
                </a:cubicBezTo>
                <a:cubicBezTo>
                  <a:pt x="4895" y="10468"/>
                  <a:pt x="4928" y="10517"/>
                  <a:pt x="4961" y="10567"/>
                </a:cubicBezTo>
              </a:path>
              <a:path w="11212" h="3300">
                <a:moveTo>
                  <a:pt x="5234" y="9004"/>
                </a:moveTo>
                <a:cubicBezTo>
                  <a:pt x="5257" y="9174"/>
                  <a:pt x="5249" y="9285"/>
                  <a:pt x="5234" y="9451"/>
                </a:cubicBezTo>
                <a:cubicBezTo>
                  <a:pt x="5224" y="9555"/>
                  <a:pt x="5259" y="9665"/>
                  <a:pt x="5259" y="9773"/>
                </a:cubicBezTo>
                <a:cubicBezTo>
                  <a:pt x="5259" y="9845"/>
                  <a:pt x="5269" y="9933"/>
                  <a:pt x="5283" y="9971"/>
                </a:cubicBezTo>
                <a:cubicBezTo>
                  <a:pt x="5283" y="10022"/>
                  <a:pt x="5289" y="10005"/>
                  <a:pt x="5308" y="9897"/>
                </a:cubicBezTo>
              </a:path>
              <a:path w="11212" h="3300">
                <a:moveTo>
                  <a:pt x="5531" y="9153"/>
                </a:moveTo>
                <a:cubicBezTo>
                  <a:pt x="5531" y="9369"/>
                  <a:pt x="5495" y="9618"/>
                  <a:pt x="5556" y="9823"/>
                </a:cubicBezTo>
                <a:cubicBezTo>
                  <a:pt x="5594" y="9951"/>
                  <a:pt x="5632" y="9988"/>
                  <a:pt x="5730" y="10071"/>
                </a:cubicBezTo>
                <a:cubicBezTo>
                  <a:pt x="5806" y="10135"/>
                  <a:pt x="5842" y="10125"/>
                  <a:pt x="5904" y="10046"/>
                </a:cubicBezTo>
                <a:cubicBezTo>
                  <a:pt x="5950" y="9988"/>
                  <a:pt x="5992" y="9896"/>
                  <a:pt x="6003" y="9823"/>
                </a:cubicBezTo>
                <a:cubicBezTo>
                  <a:pt x="6016" y="9733"/>
                  <a:pt x="6015" y="9534"/>
                  <a:pt x="5978" y="9451"/>
                </a:cubicBezTo>
                <a:cubicBezTo>
                  <a:pt x="5942" y="9370"/>
                  <a:pt x="5864" y="9294"/>
                  <a:pt x="5804" y="9227"/>
                </a:cubicBezTo>
                <a:cubicBezTo>
                  <a:pt x="5765" y="9183"/>
                  <a:pt x="5709" y="9159"/>
                  <a:pt x="5655" y="9153"/>
                </a:cubicBezTo>
                <a:cubicBezTo>
                  <a:pt x="5589" y="9146"/>
                  <a:pt x="5601" y="9207"/>
                  <a:pt x="5631" y="9227"/>
                </a:cubicBezTo>
              </a:path>
              <a:path w="11212" h="3300">
                <a:moveTo>
                  <a:pt x="6152" y="9897"/>
                </a:moveTo>
                <a:cubicBezTo>
                  <a:pt x="6146" y="10015"/>
                  <a:pt x="6109" y="10108"/>
                  <a:pt x="6102" y="10220"/>
                </a:cubicBezTo>
                <a:cubicBezTo>
                  <a:pt x="6099" y="10270"/>
                  <a:pt x="6030" y="10379"/>
                  <a:pt x="6077" y="10294"/>
                </a:cubicBezTo>
                <a:cubicBezTo>
                  <a:pt x="6085" y="10286"/>
                  <a:pt x="6094" y="10277"/>
                  <a:pt x="6102" y="10269"/>
                </a:cubicBezTo>
              </a:path>
              <a:path w="11212" h="3300">
                <a:moveTo>
                  <a:pt x="6499" y="9227"/>
                </a:moveTo>
                <a:cubicBezTo>
                  <a:pt x="6452" y="9351"/>
                  <a:pt x="6395" y="9490"/>
                  <a:pt x="6375" y="9624"/>
                </a:cubicBezTo>
                <a:cubicBezTo>
                  <a:pt x="6364" y="9701"/>
                  <a:pt x="6377" y="9834"/>
                  <a:pt x="6424" y="9897"/>
                </a:cubicBezTo>
                <a:cubicBezTo>
                  <a:pt x="6470" y="9958"/>
                  <a:pt x="6479" y="9971"/>
                  <a:pt x="6573" y="9971"/>
                </a:cubicBezTo>
                <a:cubicBezTo>
                  <a:pt x="6639" y="9971"/>
                  <a:pt x="6702" y="9949"/>
                  <a:pt x="6747" y="9897"/>
                </a:cubicBezTo>
                <a:cubicBezTo>
                  <a:pt x="6830" y="9801"/>
                  <a:pt x="6803" y="9656"/>
                  <a:pt x="6796" y="9550"/>
                </a:cubicBezTo>
                <a:cubicBezTo>
                  <a:pt x="6790" y="9453"/>
                  <a:pt x="6743" y="9284"/>
                  <a:pt x="6648" y="9227"/>
                </a:cubicBezTo>
                <a:cubicBezTo>
                  <a:pt x="6552" y="9170"/>
                  <a:pt x="6505" y="9187"/>
                  <a:pt x="6424" y="9227"/>
                </a:cubicBezTo>
                <a:cubicBezTo>
                  <a:pt x="6378" y="9250"/>
                  <a:pt x="6411" y="9287"/>
                  <a:pt x="6449" y="9327"/>
                </a:cubicBezTo>
                <a:cubicBezTo>
                  <a:pt x="6466" y="9343"/>
                  <a:pt x="6482" y="9360"/>
                  <a:pt x="6499" y="9376"/>
                </a:cubicBezTo>
              </a:path>
              <a:path w="11212" h="3300">
                <a:moveTo>
                  <a:pt x="7094" y="9302"/>
                </a:moveTo>
                <a:cubicBezTo>
                  <a:pt x="7007" y="9429"/>
                  <a:pt x="6950" y="9477"/>
                  <a:pt x="6945" y="9624"/>
                </a:cubicBezTo>
                <a:cubicBezTo>
                  <a:pt x="6942" y="9713"/>
                  <a:pt x="6987" y="9847"/>
                  <a:pt x="7069" y="9897"/>
                </a:cubicBezTo>
                <a:cubicBezTo>
                  <a:pt x="7099" y="9915"/>
                  <a:pt x="7263" y="9984"/>
                  <a:pt x="7293" y="9971"/>
                </a:cubicBezTo>
                <a:cubicBezTo>
                  <a:pt x="7324" y="9958"/>
                  <a:pt x="7457" y="9857"/>
                  <a:pt x="7466" y="9823"/>
                </a:cubicBezTo>
                <a:cubicBezTo>
                  <a:pt x="7489" y="9731"/>
                  <a:pt x="7483" y="9563"/>
                  <a:pt x="7441" y="9475"/>
                </a:cubicBezTo>
                <a:cubicBezTo>
                  <a:pt x="7398" y="9385"/>
                  <a:pt x="7304" y="9346"/>
                  <a:pt x="7243" y="9302"/>
                </a:cubicBezTo>
                <a:cubicBezTo>
                  <a:pt x="7216" y="9282"/>
                  <a:pt x="7004" y="9204"/>
                  <a:pt x="7069" y="9302"/>
                </a:cubicBezTo>
                <a:cubicBezTo>
                  <a:pt x="7094" y="9302"/>
                  <a:pt x="7102" y="9302"/>
                  <a:pt x="7119" y="9302"/>
                </a:cubicBezTo>
              </a:path>
              <a:path w="11212" h="3300">
                <a:moveTo>
                  <a:pt x="7689" y="9376"/>
                </a:moveTo>
                <a:cubicBezTo>
                  <a:pt x="7632" y="9462"/>
                  <a:pt x="7547" y="9561"/>
                  <a:pt x="7565" y="9674"/>
                </a:cubicBezTo>
                <a:cubicBezTo>
                  <a:pt x="7592" y="9845"/>
                  <a:pt x="7683" y="9830"/>
                  <a:pt x="7813" y="9922"/>
                </a:cubicBezTo>
                <a:cubicBezTo>
                  <a:pt x="7908" y="9990"/>
                  <a:pt x="7945" y="9984"/>
                  <a:pt x="8037" y="9897"/>
                </a:cubicBezTo>
                <a:cubicBezTo>
                  <a:pt x="8129" y="9809"/>
                  <a:pt x="8137" y="9750"/>
                  <a:pt x="8111" y="9624"/>
                </a:cubicBezTo>
                <a:cubicBezTo>
                  <a:pt x="8084" y="9494"/>
                  <a:pt x="8047" y="9410"/>
                  <a:pt x="7938" y="9327"/>
                </a:cubicBezTo>
                <a:cubicBezTo>
                  <a:pt x="7872" y="9277"/>
                  <a:pt x="7795" y="9233"/>
                  <a:pt x="7714" y="9227"/>
                </a:cubicBezTo>
                <a:cubicBezTo>
                  <a:pt x="7661" y="9223"/>
                  <a:pt x="7660" y="9227"/>
                  <a:pt x="7714" y="9227"/>
                </a:cubicBezTo>
                <a:cubicBezTo>
                  <a:pt x="7731" y="9227"/>
                  <a:pt x="7747" y="9227"/>
                  <a:pt x="7764" y="9227"/>
                </a:cubicBezTo>
              </a:path>
              <a:path w="11212" h="3300">
                <a:moveTo>
                  <a:pt x="8806" y="9302"/>
                </a:moveTo>
                <a:cubicBezTo>
                  <a:pt x="8806" y="9448"/>
                  <a:pt x="8810" y="9538"/>
                  <a:pt x="8855" y="9674"/>
                </a:cubicBezTo>
                <a:cubicBezTo>
                  <a:pt x="8887" y="9769"/>
                  <a:pt x="8919" y="9817"/>
                  <a:pt x="8954" y="9897"/>
                </a:cubicBezTo>
              </a:path>
              <a:path w="11212" h="3300">
                <a:moveTo>
                  <a:pt x="8533" y="9550"/>
                </a:moveTo>
                <a:cubicBezTo>
                  <a:pt x="8707" y="9550"/>
                  <a:pt x="8880" y="9550"/>
                  <a:pt x="9054" y="9550"/>
                </a:cubicBezTo>
              </a:path>
              <a:path w="11212" h="3300">
                <a:moveTo>
                  <a:pt x="13469" y="7863"/>
                </a:moveTo>
                <a:cubicBezTo>
                  <a:pt x="13498" y="7870"/>
                  <a:pt x="13553" y="7880"/>
                  <a:pt x="13643" y="7987"/>
                </a:cubicBezTo>
                <a:cubicBezTo>
                  <a:pt x="13819" y="8196"/>
                  <a:pt x="13969" y="8453"/>
                  <a:pt x="14064" y="8706"/>
                </a:cubicBezTo>
                <a:cubicBezTo>
                  <a:pt x="14165" y="8975"/>
                  <a:pt x="14184" y="9240"/>
                  <a:pt x="14188" y="9525"/>
                </a:cubicBezTo>
                <a:cubicBezTo>
                  <a:pt x="14192" y="9836"/>
                  <a:pt x="14127" y="10138"/>
                  <a:pt x="13990" y="10418"/>
                </a:cubicBezTo>
                <a:cubicBezTo>
                  <a:pt x="13863" y="10679"/>
                  <a:pt x="13739" y="10887"/>
                  <a:pt x="13568" y="11112"/>
                </a:cubicBezTo>
              </a:path>
              <a:path w="11212" h="3300">
                <a:moveTo>
                  <a:pt x="9599" y="8954"/>
                </a:moveTo>
                <a:cubicBezTo>
                  <a:pt x="9599" y="9074"/>
                  <a:pt x="9569" y="9212"/>
                  <a:pt x="9575" y="9327"/>
                </a:cubicBezTo>
                <a:cubicBezTo>
                  <a:pt x="9579" y="9412"/>
                  <a:pt x="9577" y="9593"/>
                  <a:pt x="9599" y="9674"/>
                </a:cubicBezTo>
                <a:cubicBezTo>
                  <a:pt x="9613" y="9723"/>
                  <a:pt x="9640" y="9799"/>
                  <a:pt x="9649" y="9847"/>
                </a:cubicBezTo>
                <a:cubicBezTo>
                  <a:pt x="9667" y="9943"/>
                  <a:pt x="9664" y="9870"/>
                  <a:pt x="9674" y="9823"/>
                </a:cubicBezTo>
              </a:path>
              <a:path w="11212" h="3300">
                <a:moveTo>
                  <a:pt x="10021" y="9178"/>
                </a:moveTo>
                <a:cubicBezTo>
                  <a:pt x="10109" y="9154"/>
                  <a:pt x="10177" y="9153"/>
                  <a:pt x="10269" y="9153"/>
                </a:cubicBezTo>
                <a:cubicBezTo>
                  <a:pt x="10361" y="9153"/>
                  <a:pt x="10398" y="9176"/>
                  <a:pt x="10418" y="9079"/>
                </a:cubicBezTo>
              </a:path>
              <a:path w="11212" h="3300">
                <a:moveTo>
                  <a:pt x="9947" y="9227"/>
                </a:moveTo>
                <a:cubicBezTo>
                  <a:pt x="9922" y="9342"/>
                  <a:pt x="9933" y="9354"/>
                  <a:pt x="9947" y="9451"/>
                </a:cubicBezTo>
                <a:cubicBezTo>
                  <a:pt x="10041" y="9451"/>
                  <a:pt x="10031" y="9445"/>
                  <a:pt x="10096" y="9401"/>
                </a:cubicBezTo>
                <a:cubicBezTo>
                  <a:pt x="10136" y="9374"/>
                  <a:pt x="10219" y="9437"/>
                  <a:pt x="10244" y="9451"/>
                </a:cubicBezTo>
                <a:cubicBezTo>
                  <a:pt x="10303" y="9485"/>
                  <a:pt x="10330" y="9615"/>
                  <a:pt x="10344" y="9674"/>
                </a:cubicBezTo>
                <a:cubicBezTo>
                  <a:pt x="10363" y="9754"/>
                  <a:pt x="10330" y="9788"/>
                  <a:pt x="10294" y="9847"/>
                </a:cubicBezTo>
                <a:cubicBezTo>
                  <a:pt x="10262" y="9900"/>
                  <a:pt x="10238" y="9915"/>
                  <a:pt x="10170" y="9922"/>
                </a:cubicBezTo>
                <a:cubicBezTo>
                  <a:pt x="10115" y="9928"/>
                  <a:pt x="10063" y="9894"/>
                  <a:pt x="10046" y="9847"/>
                </a:cubicBezTo>
                <a:cubicBezTo>
                  <a:pt x="10046" y="9839"/>
                  <a:pt x="10046" y="9831"/>
                  <a:pt x="10046" y="9823"/>
                </a:cubicBezTo>
              </a:path>
              <a:path w="11212" h="3300">
                <a:moveTo>
                  <a:pt x="10567" y="9302"/>
                </a:moveTo>
                <a:cubicBezTo>
                  <a:pt x="10613" y="9284"/>
                  <a:pt x="10779" y="9205"/>
                  <a:pt x="10840" y="9252"/>
                </a:cubicBezTo>
                <a:cubicBezTo>
                  <a:pt x="10871" y="9276"/>
                  <a:pt x="10922" y="9330"/>
                  <a:pt x="10914" y="9376"/>
                </a:cubicBezTo>
                <a:cubicBezTo>
                  <a:pt x="10900" y="9454"/>
                  <a:pt x="10794" y="9538"/>
                  <a:pt x="10740" y="9599"/>
                </a:cubicBezTo>
                <a:cubicBezTo>
                  <a:pt x="10662" y="9687"/>
                  <a:pt x="10601" y="9705"/>
                  <a:pt x="10567" y="9823"/>
                </a:cubicBezTo>
                <a:cubicBezTo>
                  <a:pt x="10549" y="9886"/>
                  <a:pt x="10580" y="9911"/>
                  <a:pt x="10641" y="9922"/>
                </a:cubicBezTo>
                <a:cubicBezTo>
                  <a:pt x="10702" y="9933"/>
                  <a:pt x="10773" y="9897"/>
                  <a:pt x="10840" y="9897"/>
                </a:cubicBezTo>
              </a:path>
              <a:path w="11212" h="3300">
                <a:moveTo>
                  <a:pt x="11013" y="9823"/>
                </a:moveTo>
                <a:cubicBezTo>
                  <a:pt x="10980" y="9895"/>
                  <a:pt x="10919" y="9990"/>
                  <a:pt x="10914" y="10071"/>
                </a:cubicBezTo>
                <a:cubicBezTo>
                  <a:pt x="10914" y="10112"/>
                  <a:pt x="10906" y="10128"/>
                  <a:pt x="10939" y="10120"/>
                </a:cubicBezTo>
              </a:path>
              <a:path w="11212" h="3300">
                <a:moveTo>
                  <a:pt x="11311" y="9327"/>
                </a:moveTo>
                <a:cubicBezTo>
                  <a:pt x="11423" y="9305"/>
                  <a:pt x="11519" y="9302"/>
                  <a:pt x="11633" y="9302"/>
                </a:cubicBezTo>
                <a:cubicBezTo>
                  <a:pt x="11718" y="9302"/>
                  <a:pt x="11707" y="9313"/>
                  <a:pt x="11757" y="9252"/>
                </a:cubicBezTo>
              </a:path>
              <a:path w="11212" h="3300">
                <a:moveTo>
                  <a:pt x="11261" y="9475"/>
                </a:moveTo>
                <a:cubicBezTo>
                  <a:pt x="11219" y="9538"/>
                  <a:pt x="11184" y="9547"/>
                  <a:pt x="11237" y="9599"/>
                </a:cubicBezTo>
                <a:cubicBezTo>
                  <a:pt x="11286" y="9599"/>
                  <a:pt x="11324" y="9572"/>
                  <a:pt x="11361" y="9550"/>
                </a:cubicBezTo>
                <a:cubicBezTo>
                  <a:pt x="11408" y="9522"/>
                  <a:pt x="11427" y="9500"/>
                  <a:pt x="11485" y="9500"/>
                </a:cubicBezTo>
                <a:cubicBezTo>
                  <a:pt x="11592" y="9500"/>
                  <a:pt x="11533" y="9505"/>
                  <a:pt x="11584" y="9599"/>
                </a:cubicBezTo>
                <a:cubicBezTo>
                  <a:pt x="11619" y="9665"/>
                  <a:pt x="11630" y="9742"/>
                  <a:pt x="11633" y="9823"/>
                </a:cubicBezTo>
                <a:cubicBezTo>
                  <a:pt x="11635" y="9874"/>
                  <a:pt x="11630" y="10006"/>
                  <a:pt x="11584" y="10046"/>
                </a:cubicBezTo>
                <a:cubicBezTo>
                  <a:pt x="11539" y="10085"/>
                  <a:pt x="11511" y="10059"/>
                  <a:pt x="11460" y="10046"/>
                </a:cubicBezTo>
                <a:cubicBezTo>
                  <a:pt x="11378" y="10025"/>
                  <a:pt x="11346" y="9967"/>
                  <a:pt x="11311" y="9897"/>
                </a:cubicBezTo>
                <a:cubicBezTo>
                  <a:pt x="11303" y="9880"/>
                  <a:pt x="11294" y="9864"/>
                  <a:pt x="11286" y="9847"/>
                </a:cubicBezTo>
              </a:path>
              <a:path w="11212" h="3300">
                <a:moveTo>
                  <a:pt x="11857" y="9451"/>
                </a:moveTo>
                <a:cubicBezTo>
                  <a:pt x="11841" y="9546"/>
                  <a:pt x="11774" y="9751"/>
                  <a:pt x="11832" y="9847"/>
                </a:cubicBezTo>
                <a:cubicBezTo>
                  <a:pt x="11896" y="9953"/>
                  <a:pt x="11939" y="9971"/>
                  <a:pt x="12055" y="9971"/>
                </a:cubicBezTo>
                <a:cubicBezTo>
                  <a:pt x="12156" y="9971"/>
                  <a:pt x="12202" y="9986"/>
                  <a:pt x="12278" y="9922"/>
                </a:cubicBezTo>
                <a:cubicBezTo>
                  <a:pt x="12340" y="9870"/>
                  <a:pt x="12342" y="9748"/>
                  <a:pt x="12328" y="9674"/>
                </a:cubicBezTo>
                <a:cubicBezTo>
                  <a:pt x="12305" y="9551"/>
                  <a:pt x="12224" y="9503"/>
                  <a:pt x="12105" y="9475"/>
                </a:cubicBezTo>
                <a:cubicBezTo>
                  <a:pt x="12055" y="9463"/>
                  <a:pt x="11951" y="9502"/>
                  <a:pt x="11956" y="9451"/>
                </a:cubicBezTo>
                <a:cubicBezTo>
                  <a:pt x="11964" y="9434"/>
                  <a:pt x="11973" y="9418"/>
                  <a:pt x="11981" y="9401"/>
                </a:cubicBezTo>
              </a:path>
              <a:path w="11212" h="3300">
                <a:moveTo>
                  <a:pt x="12378" y="9475"/>
                </a:moveTo>
                <a:cubicBezTo>
                  <a:pt x="12364" y="9781"/>
                  <a:pt x="12278" y="9843"/>
                  <a:pt x="12502" y="9971"/>
                </a:cubicBezTo>
                <a:cubicBezTo>
                  <a:pt x="12606" y="10031"/>
                  <a:pt x="12654" y="10046"/>
                  <a:pt x="12774" y="10046"/>
                </a:cubicBezTo>
                <a:cubicBezTo>
                  <a:pt x="12909" y="10046"/>
                  <a:pt x="12928" y="10017"/>
                  <a:pt x="12998" y="9897"/>
                </a:cubicBezTo>
                <a:cubicBezTo>
                  <a:pt x="13049" y="9810"/>
                  <a:pt x="13018" y="9694"/>
                  <a:pt x="12948" y="9624"/>
                </a:cubicBezTo>
                <a:cubicBezTo>
                  <a:pt x="12872" y="9548"/>
                  <a:pt x="12733" y="9469"/>
                  <a:pt x="12626" y="9451"/>
                </a:cubicBezTo>
                <a:cubicBezTo>
                  <a:pt x="12546" y="9451"/>
                  <a:pt x="12517" y="9448"/>
                  <a:pt x="12477" y="94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15960" y="3929040"/>
            <a:ext cx="277920" cy="669960"/>
          </a:xfrm>
          <a:custGeom>
            <a:avLst/>
            <a:gdLst/>
            <a:ahLst/>
            <a:rect l="l" t="t" r="r" b="b"/>
            <a:pathLst>
              <a:path w="769" h="1861">
                <a:moveTo>
                  <a:pt x="2456" y="11435"/>
                </a:moveTo>
                <a:cubicBezTo>
                  <a:pt x="2368" y="11451"/>
                  <a:pt x="2271" y="11489"/>
                  <a:pt x="2183" y="11534"/>
                </a:cubicBezTo>
                <a:cubicBezTo>
                  <a:pt x="2119" y="11567"/>
                  <a:pt x="2034" y="11609"/>
                  <a:pt x="2009" y="11683"/>
                </a:cubicBezTo>
                <a:cubicBezTo>
                  <a:pt x="1985" y="11754"/>
                  <a:pt x="2115" y="11832"/>
                  <a:pt x="2158" y="11857"/>
                </a:cubicBezTo>
                <a:cubicBezTo>
                  <a:pt x="2269" y="11921"/>
                  <a:pt x="2377" y="11972"/>
                  <a:pt x="2456" y="12080"/>
                </a:cubicBezTo>
                <a:cubicBezTo>
                  <a:pt x="2487" y="12122"/>
                  <a:pt x="2480" y="12156"/>
                  <a:pt x="2480" y="12204"/>
                </a:cubicBezTo>
                <a:cubicBezTo>
                  <a:pt x="2399" y="12235"/>
                  <a:pt x="2297" y="12244"/>
                  <a:pt x="2208" y="12229"/>
                </a:cubicBezTo>
                <a:cubicBezTo>
                  <a:pt x="2121" y="12214"/>
                  <a:pt x="1992" y="12174"/>
                  <a:pt x="1935" y="12105"/>
                </a:cubicBezTo>
                <a:cubicBezTo>
                  <a:pt x="1880" y="12038"/>
                  <a:pt x="1925" y="11925"/>
                  <a:pt x="1935" y="11857"/>
                </a:cubicBezTo>
              </a:path>
              <a:path w="769" h="1861">
                <a:moveTo>
                  <a:pt x="2282" y="11336"/>
                </a:moveTo>
                <a:cubicBezTo>
                  <a:pt x="2273" y="11481"/>
                  <a:pt x="2237" y="11614"/>
                  <a:pt x="2208" y="11757"/>
                </a:cubicBezTo>
                <a:cubicBezTo>
                  <a:pt x="2177" y="11912"/>
                  <a:pt x="2128" y="12073"/>
                  <a:pt x="2108" y="12229"/>
                </a:cubicBezTo>
                <a:cubicBezTo>
                  <a:pt x="2102" y="12272"/>
                  <a:pt x="2079" y="12400"/>
                  <a:pt x="2133" y="12353"/>
                </a:cubicBezTo>
                <a:cubicBezTo>
                  <a:pt x="2141" y="12345"/>
                  <a:pt x="2150" y="12336"/>
                  <a:pt x="2158" y="12328"/>
                </a:cubicBezTo>
              </a:path>
              <a:path w="769" h="1861">
                <a:moveTo>
                  <a:pt x="2431" y="11385"/>
                </a:moveTo>
                <a:cubicBezTo>
                  <a:pt x="2411" y="11576"/>
                  <a:pt x="2385" y="11765"/>
                  <a:pt x="2381" y="11956"/>
                </a:cubicBezTo>
                <a:cubicBezTo>
                  <a:pt x="2378" y="12083"/>
                  <a:pt x="2363" y="12257"/>
                  <a:pt x="2406" y="12378"/>
                </a:cubicBezTo>
                <a:cubicBezTo>
                  <a:pt x="2429" y="12400"/>
                  <a:pt x="2437" y="12405"/>
                  <a:pt x="2431" y="12427"/>
                </a:cubicBezTo>
              </a:path>
              <a:path w="769" h="1861">
                <a:moveTo>
                  <a:pt x="1712" y="10914"/>
                </a:moveTo>
                <a:cubicBezTo>
                  <a:pt x="1728" y="11204"/>
                  <a:pt x="1756" y="11493"/>
                  <a:pt x="1761" y="11782"/>
                </a:cubicBezTo>
                <a:cubicBezTo>
                  <a:pt x="1765" y="11999"/>
                  <a:pt x="1799" y="12211"/>
                  <a:pt x="1811" y="12427"/>
                </a:cubicBezTo>
                <a:cubicBezTo>
                  <a:pt x="1817" y="12531"/>
                  <a:pt x="1831" y="12685"/>
                  <a:pt x="1786" y="12774"/>
                </a:cubicBezTo>
                <a:cubicBezTo>
                  <a:pt x="1786" y="12621"/>
                  <a:pt x="1775" y="12483"/>
                  <a:pt x="1761" y="1232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97000" y="4054320"/>
            <a:ext cx="1741320" cy="544680"/>
          </a:xfrm>
          <a:custGeom>
            <a:avLst/>
            <a:gdLst/>
            <a:ahLst/>
            <a:rect l="l" t="t" r="r" b="b"/>
            <a:pathLst>
              <a:path w="4838" h="1514">
                <a:moveTo>
                  <a:pt x="3324" y="11261"/>
                </a:moveTo>
                <a:cubicBezTo>
                  <a:pt x="3324" y="11598"/>
                  <a:pt x="3279" y="11978"/>
                  <a:pt x="3349" y="12303"/>
                </a:cubicBezTo>
                <a:cubicBezTo>
                  <a:pt x="3357" y="12341"/>
                  <a:pt x="3325" y="12387"/>
                  <a:pt x="3349" y="12353"/>
                </a:cubicBezTo>
                <a:cubicBezTo>
                  <a:pt x="3357" y="12345"/>
                  <a:pt x="3365" y="12336"/>
                  <a:pt x="3373" y="12328"/>
                </a:cubicBezTo>
              </a:path>
              <a:path w="4838" h="1514">
                <a:moveTo>
                  <a:pt x="3770" y="12229"/>
                </a:moveTo>
                <a:cubicBezTo>
                  <a:pt x="3749" y="12351"/>
                  <a:pt x="3722" y="12440"/>
                  <a:pt x="3696" y="12551"/>
                </a:cubicBezTo>
                <a:cubicBezTo>
                  <a:pt x="3682" y="12613"/>
                  <a:pt x="3709" y="12600"/>
                  <a:pt x="3721" y="12551"/>
                </a:cubicBezTo>
              </a:path>
              <a:path w="4838" h="1514">
                <a:moveTo>
                  <a:pt x="4142" y="11534"/>
                </a:moveTo>
                <a:cubicBezTo>
                  <a:pt x="4150" y="11526"/>
                  <a:pt x="4159" y="11517"/>
                  <a:pt x="4167" y="11509"/>
                </a:cubicBezTo>
                <a:cubicBezTo>
                  <a:pt x="4167" y="11565"/>
                  <a:pt x="4154" y="11630"/>
                  <a:pt x="4142" y="11683"/>
                </a:cubicBezTo>
                <a:cubicBezTo>
                  <a:pt x="4116" y="11798"/>
                  <a:pt x="4093" y="11887"/>
                  <a:pt x="4093" y="12005"/>
                </a:cubicBezTo>
                <a:cubicBezTo>
                  <a:pt x="4093" y="12104"/>
                  <a:pt x="4084" y="12215"/>
                  <a:pt x="4142" y="12303"/>
                </a:cubicBezTo>
                <a:cubicBezTo>
                  <a:pt x="4182" y="12364"/>
                  <a:pt x="4249" y="12420"/>
                  <a:pt x="4316" y="12427"/>
                </a:cubicBezTo>
                <a:cubicBezTo>
                  <a:pt x="4370" y="12433"/>
                  <a:pt x="4430" y="12426"/>
                  <a:pt x="4465" y="12378"/>
                </a:cubicBezTo>
                <a:cubicBezTo>
                  <a:pt x="4506" y="12321"/>
                  <a:pt x="4514" y="12270"/>
                  <a:pt x="4514" y="12204"/>
                </a:cubicBezTo>
                <a:cubicBezTo>
                  <a:pt x="4514" y="12150"/>
                  <a:pt x="4527" y="12083"/>
                  <a:pt x="4465" y="12055"/>
                </a:cubicBezTo>
                <a:cubicBezTo>
                  <a:pt x="4420" y="12035"/>
                  <a:pt x="4401" y="12074"/>
                  <a:pt x="4390" y="12080"/>
                </a:cubicBezTo>
                <a:cubicBezTo>
                  <a:pt x="4350" y="12101"/>
                  <a:pt x="4322" y="12172"/>
                  <a:pt x="4341" y="12229"/>
                </a:cubicBezTo>
                <a:cubicBezTo>
                  <a:pt x="4360" y="12284"/>
                  <a:pt x="4374" y="12312"/>
                  <a:pt x="4415" y="12353"/>
                </a:cubicBezTo>
              </a:path>
              <a:path w="4838" h="1514">
                <a:moveTo>
                  <a:pt x="4688" y="11658"/>
                </a:moveTo>
                <a:cubicBezTo>
                  <a:pt x="4788" y="11636"/>
                  <a:pt x="4834" y="11610"/>
                  <a:pt x="4911" y="11683"/>
                </a:cubicBezTo>
                <a:cubicBezTo>
                  <a:pt x="5010" y="11777"/>
                  <a:pt x="5031" y="11901"/>
                  <a:pt x="5035" y="12030"/>
                </a:cubicBezTo>
                <a:cubicBezTo>
                  <a:pt x="5039" y="12139"/>
                  <a:pt x="5028" y="12226"/>
                  <a:pt x="4986" y="12328"/>
                </a:cubicBezTo>
                <a:cubicBezTo>
                  <a:pt x="4968" y="12373"/>
                  <a:pt x="4910" y="12455"/>
                  <a:pt x="4862" y="12477"/>
                </a:cubicBezTo>
                <a:cubicBezTo>
                  <a:pt x="4820" y="12496"/>
                  <a:pt x="4757" y="12470"/>
                  <a:pt x="4738" y="12427"/>
                </a:cubicBezTo>
                <a:cubicBezTo>
                  <a:pt x="4717" y="12379"/>
                  <a:pt x="4713" y="12332"/>
                  <a:pt x="4713" y="12278"/>
                </a:cubicBezTo>
                <a:cubicBezTo>
                  <a:pt x="4713" y="12234"/>
                  <a:pt x="4742" y="12219"/>
                  <a:pt x="4762" y="12204"/>
                </a:cubicBezTo>
                <a:cubicBezTo>
                  <a:pt x="4814" y="12165"/>
                  <a:pt x="4818" y="12185"/>
                  <a:pt x="4862" y="12229"/>
                </a:cubicBezTo>
                <a:cubicBezTo>
                  <a:pt x="4903" y="12270"/>
                  <a:pt x="4960" y="12301"/>
                  <a:pt x="5011" y="12328"/>
                </a:cubicBezTo>
                <a:cubicBezTo>
                  <a:pt x="5062" y="12355"/>
                  <a:pt x="5119" y="12421"/>
                  <a:pt x="5184" y="12402"/>
                </a:cubicBezTo>
                <a:cubicBezTo>
                  <a:pt x="5192" y="12394"/>
                  <a:pt x="5201" y="12386"/>
                  <a:pt x="5209" y="12378"/>
                </a:cubicBezTo>
              </a:path>
              <a:path w="4838" h="1514">
                <a:moveTo>
                  <a:pt x="5283" y="11733"/>
                </a:moveTo>
                <a:cubicBezTo>
                  <a:pt x="5343" y="11688"/>
                  <a:pt x="5405" y="11668"/>
                  <a:pt x="5482" y="11658"/>
                </a:cubicBezTo>
                <a:cubicBezTo>
                  <a:pt x="5588" y="11644"/>
                  <a:pt x="5600" y="11681"/>
                  <a:pt x="5655" y="11584"/>
                </a:cubicBezTo>
              </a:path>
              <a:path w="4838" h="1514">
                <a:moveTo>
                  <a:pt x="5283" y="11708"/>
                </a:moveTo>
                <a:cubicBezTo>
                  <a:pt x="5243" y="11771"/>
                  <a:pt x="5209" y="11808"/>
                  <a:pt x="5209" y="11881"/>
                </a:cubicBezTo>
                <a:cubicBezTo>
                  <a:pt x="5209" y="11927"/>
                  <a:pt x="5207" y="11950"/>
                  <a:pt x="5259" y="11956"/>
                </a:cubicBezTo>
                <a:cubicBezTo>
                  <a:pt x="5298" y="11960"/>
                  <a:pt x="5349" y="11943"/>
                  <a:pt x="5383" y="11931"/>
                </a:cubicBezTo>
                <a:cubicBezTo>
                  <a:pt x="5410" y="11921"/>
                  <a:pt x="5472" y="11886"/>
                  <a:pt x="5507" y="11906"/>
                </a:cubicBezTo>
                <a:cubicBezTo>
                  <a:pt x="5559" y="11936"/>
                  <a:pt x="5604" y="12006"/>
                  <a:pt x="5631" y="12055"/>
                </a:cubicBezTo>
                <a:cubicBezTo>
                  <a:pt x="5674" y="12135"/>
                  <a:pt x="5680" y="12188"/>
                  <a:pt x="5680" y="12278"/>
                </a:cubicBezTo>
                <a:cubicBezTo>
                  <a:pt x="5680" y="12333"/>
                  <a:pt x="5649" y="12437"/>
                  <a:pt x="5606" y="12477"/>
                </a:cubicBezTo>
                <a:cubicBezTo>
                  <a:pt x="5583" y="12498"/>
                  <a:pt x="5461" y="12533"/>
                  <a:pt x="5432" y="12526"/>
                </a:cubicBezTo>
                <a:cubicBezTo>
                  <a:pt x="5389" y="12515"/>
                  <a:pt x="5303" y="12472"/>
                  <a:pt x="5283" y="12427"/>
                </a:cubicBezTo>
                <a:cubicBezTo>
                  <a:pt x="5283" y="12419"/>
                  <a:pt x="5283" y="12410"/>
                  <a:pt x="5283" y="12402"/>
                </a:cubicBezTo>
              </a:path>
              <a:path w="4838" h="1514">
                <a:moveTo>
                  <a:pt x="5829" y="12477"/>
                </a:moveTo>
                <a:cubicBezTo>
                  <a:pt x="5829" y="12583"/>
                  <a:pt x="5812" y="12653"/>
                  <a:pt x="5804" y="12750"/>
                </a:cubicBezTo>
                <a:cubicBezTo>
                  <a:pt x="5804" y="12774"/>
                  <a:pt x="5804" y="12782"/>
                  <a:pt x="5829" y="12774"/>
                </a:cubicBezTo>
              </a:path>
              <a:path w="4838" h="1514">
                <a:moveTo>
                  <a:pt x="6226" y="11708"/>
                </a:moveTo>
                <a:cubicBezTo>
                  <a:pt x="6178" y="11804"/>
                  <a:pt x="6115" y="11884"/>
                  <a:pt x="6077" y="11981"/>
                </a:cubicBezTo>
                <a:cubicBezTo>
                  <a:pt x="6052" y="12046"/>
                  <a:pt x="6021" y="12211"/>
                  <a:pt x="6052" y="12278"/>
                </a:cubicBezTo>
                <a:cubicBezTo>
                  <a:pt x="6099" y="12382"/>
                  <a:pt x="6168" y="12439"/>
                  <a:pt x="6251" y="12502"/>
                </a:cubicBezTo>
                <a:cubicBezTo>
                  <a:pt x="6301" y="12540"/>
                  <a:pt x="6399" y="12618"/>
                  <a:pt x="6474" y="12576"/>
                </a:cubicBezTo>
                <a:cubicBezTo>
                  <a:pt x="6544" y="12537"/>
                  <a:pt x="6609" y="12427"/>
                  <a:pt x="6623" y="12353"/>
                </a:cubicBezTo>
                <a:cubicBezTo>
                  <a:pt x="6644" y="12240"/>
                  <a:pt x="6646" y="12118"/>
                  <a:pt x="6623" y="12005"/>
                </a:cubicBezTo>
                <a:cubicBezTo>
                  <a:pt x="6601" y="11898"/>
                  <a:pt x="6571" y="11789"/>
                  <a:pt x="6499" y="11708"/>
                </a:cubicBezTo>
                <a:cubicBezTo>
                  <a:pt x="6431" y="11632"/>
                  <a:pt x="6323" y="11567"/>
                  <a:pt x="6226" y="11633"/>
                </a:cubicBezTo>
                <a:cubicBezTo>
                  <a:pt x="6150" y="11685"/>
                  <a:pt x="6079" y="11772"/>
                  <a:pt x="6052" y="11857"/>
                </a:cubicBezTo>
                <a:cubicBezTo>
                  <a:pt x="6017" y="11968"/>
                  <a:pt x="6020" y="12070"/>
                  <a:pt x="6052" y="12179"/>
                </a:cubicBezTo>
                <a:cubicBezTo>
                  <a:pt x="6082" y="12283"/>
                  <a:pt x="6125" y="12315"/>
                  <a:pt x="6226" y="12328"/>
                </a:cubicBezTo>
              </a:path>
              <a:path w="4838" h="1514">
                <a:moveTo>
                  <a:pt x="6821" y="11757"/>
                </a:moveTo>
                <a:cubicBezTo>
                  <a:pt x="6773" y="11888"/>
                  <a:pt x="6695" y="12032"/>
                  <a:pt x="6722" y="12179"/>
                </a:cubicBezTo>
                <a:cubicBezTo>
                  <a:pt x="6744" y="12298"/>
                  <a:pt x="6814" y="12352"/>
                  <a:pt x="6896" y="12427"/>
                </a:cubicBezTo>
                <a:cubicBezTo>
                  <a:pt x="6952" y="12478"/>
                  <a:pt x="7032" y="12550"/>
                  <a:pt x="7119" y="12526"/>
                </a:cubicBezTo>
                <a:cubicBezTo>
                  <a:pt x="7197" y="12505"/>
                  <a:pt x="7242" y="12421"/>
                  <a:pt x="7268" y="12353"/>
                </a:cubicBezTo>
                <a:cubicBezTo>
                  <a:pt x="7312" y="12238"/>
                  <a:pt x="7322" y="12172"/>
                  <a:pt x="7293" y="12055"/>
                </a:cubicBezTo>
                <a:cubicBezTo>
                  <a:pt x="7258" y="11914"/>
                  <a:pt x="7222" y="11859"/>
                  <a:pt x="7119" y="11757"/>
                </a:cubicBezTo>
                <a:cubicBezTo>
                  <a:pt x="7032" y="11671"/>
                  <a:pt x="6977" y="11673"/>
                  <a:pt x="6871" y="11683"/>
                </a:cubicBezTo>
                <a:cubicBezTo>
                  <a:pt x="6775" y="11692"/>
                  <a:pt x="6735" y="11721"/>
                  <a:pt x="6722" y="11832"/>
                </a:cubicBezTo>
                <a:cubicBezTo>
                  <a:pt x="6715" y="11891"/>
                  <a:pt x="6747" y="11931"/>
                  <a:pt x="6772" y="11981"/>
                </a:cubicBezTo>
              </a:path>
              <a:path w="4838" h="1514">
                <a:moveTo>
                  <a:pt x="7615" y="12129"/>
                </a:moveTo>
                <a:cubicBezTo>
                  <a:pt x="7571" y="12227"/>
                  <a:pt x="7532" y="12297"/>
                  <a:pt x="7565" y="12402"/>
                </a:cubicBezTo>
                <a:cubicBezTo>
                  <a:pt x="7593" y="12489"/>
                  <a:pt x="7677" y="12524"/>
                  <a:pt x="7739" y="12576"/>
                </a:cubicBezTo>
                <a:cubicBezTo>
                  <a:pt x="7818" y="12642"/>
                  <a:pt x="7864" y="12669"/>
                  <a:pt x="7962" y="12626"/>
                </a:cubicBezTo>
                <a:cubicBezTo>
                  <a:pt x="8051" y="12587"/>
                  <a:pt x="8097" y="12544"/>
                  <a:pt x="8136" y="12452"/>
                </a:cubicBezTo>
                <a:cubicBezTo>
                  <a:pt x="8178" y="12352"/>
                  <a:pt x="8160" y="12250"/>
                  <a:pt x="8111" y="12154"/>
                </a:cubicBezTo>
                <a:cubicBezTo>
                  <a:pt x="8048" y="12032"/>
                  <a:pt x="7922" y="11957"/>
                  <a:pt x="7813" y="11881"/>
                </a:cubicBezTo>
                <a:cubicBezTo>
                  <a:pt x="7695" y="11799"/>
                  <a:pt x="7545" y="11745"/>
                  <a:pt x="7417" y="1168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089760" y="2544840"/>
            <a:ext cx="857160" cy="366480"/>
          </a:xfrm>
          <a:custGeom>
            <a:avLst/>
            <a:gdLst/>
            <a:ahLst/>
            <a:rect l="l" t="t" r="r" b="b"/>
            <a:pathLst>
              <a:path w="2382" h="1018">
                <a:moveTo>
                  <a:pt x="16991" y="7888"/>
                </a:moveTo>
                <a:cubicBezTo>
                  <a:pt x="16991" y="7913"/>
                  <a:pt x="16991" y="7921"/>
                  <a:pt x="16991" y="7888"/>
                </a:cubicBezTo>
              </a:path>
              <a:path w="2382" h="1018">
                <a:moveTo>
                  <a:pt x="17190" y="7392"/>
                </a:moveTo>
                <a:cubicBezTo>
                  <a:pt x="17174" y="7519"/>
                  <a:pt x="17152" y="7621"/>
                  <a:pt x="17190" y="7739"/>
                </a:cubicBezTo>
                <a:cubicBezTo>
                  <a:pt x="17205" y="7785"/>
                  <a:pt x="17241" y="7834"/>
                  <a:pt x="17289" y="7838"/>
                </a:cubicBezTo>
                <a:cubicBezTo>
                  <a:pt x="17367" y="7844"/>
                  <a:pt x="17394" y="7790"/>
                  <a:pt x="17438" y="7739"/>
                </a:cubicBezTo>
                <a:cubicBezTo>
                  <a:pt x="17502" y="7665"/>
                  <a:pt x="17508" y="7566"/>
                  <a:pt x="17512" y="7466"/>
                </a:cubicBezTo>
                <a:cubicBezTo>
                  <a:pt x="17515" y="7380"/>
                  <a:pt x="17492" y="7285"/>
                  <a:pt x="17438" y="7218"/>
                </a:cubicBezTo>
                <a:cubicBezTo>
                  <a:pt x="17380" y="7146"/>
                  <a:pt x="17335" y="7177"/>
                  <a:pt x="17264" y="7193"/>
                </a:cubicBezTo>
                <a:cubicBezTo>
                  <a:pt x="17251" y="7196"/>
                  <a:pt x="17127" y="7229"/>
                  <a:pt x="17165" y="7268"/>
                </a:cubicBezTo>
                <a:cubicBezTo>
                  <a:pt x="17181" y="7276"/>
                  <a:pt x="17198" y="7285"/>
                  <a:pt x="17214" y="7293"/>
                </a:cubicBezTo>
              </a:path>
              <a:path w="2382" h="1018">
                <a:moveTo>
                  <a:pt x="16917" y="7069"/>
                </a:moveTo>
                <a:cubicBezTo>
                  <a:pt x="16917" y="7237"/>
                  <a:pt x="16924" y="7402"/>
                  <a:pt x="16942" y="7565"/>
                </a:cubicBezTo>
                <a:cubicBezTo>
                  <a:pt x="16953" y="7662"/>
                  <a:pt x="16944" y="7746"/>
                  <a:pt x="16966" y="7838"/>
                </a:cubicBezTo>
                <a:cubicBezTo>
                  <a:pt x="16966" y="7863"/>
                  <a:pt x="16966" y="7871"/>
                  <a:pt x="16966" y="7888"/>
                </a:cubicBezTo>
              </a:path>
              <a:path w="2382" h="1018">
                <a:moveTo>
                  <a:pt x="17636" y="7913"/>
                </a:moveTo>
                <a:cubicBezTo>
                  <a:pt x="17625" y="7943"/>
                  <a:pt x="17587" y="8110"/>
                  <a:pt x="17562" y="8062"/>
                </a:cubicBezTo>
              </a:path>
              <a:path w="2382" h="1018">
                <a:moveTo>
                  <a:pt x="17810" y="7342"/>
                </a:moveTo>
                <a:cubicBezTo>
                  <a:pt x="17779" y="7425"/>
                  <a:pt x="17693" y="7582"/>
                  <a:pt x="17735" y="7689"/>
                </a:cubicBezTo>
                <a:cubicBezTo>
                  <a:pt x="17745" y="7714"/>
                  <a:pt x="17807" y="7772"/>
                  <a:pt x="17835" y="7764"/>
                </a:cubicBezTo>
                <a:cubicBezTo>
                  <a:pt x="17903" y="7744"/>
                  <a:pt x="17926" y="7728"/>
                  <a:pt x="17959" y="7665"/>
                </a:cubicBezTo>
                <a:cubicBezTo>
                  <a:pt x="17989" y="7607"/>
                  <a:pt x="17998" y="7505"/>
                  <a:pt x="17983" y="7441"/>
                </a:cubicBezTo>
                <a:cubicBezTo>
                  <a:pt x="17972" y="7393"/>
                  <a:pt x="17903" y="7329"/>
                  <a:pt x="17859" y="7317"/>
                </a:cubicBezTo>
                <a:cubicBezTo>
                  <a:pt x="17795" y="7300"/>
                  <a:pt x="17811" y="7330"/>
                  <a:pt x="17760" y="7293"/>
                </a:cubicBezTo>
              </a:path>
              <a:path w="2382" h="1018">
                <a:moveTo>
                  <a:pt x="18107" y="7466"/>
                </a:moveTo>
                <a:cubicBezTo>
                  <a:pt x="18102" y="7502"/>
                  <a:pt x="18045" y="7716"/>
                  <a:pt x="18107" y="7764"/>
                </a:cubicBezTo>
                <a:cubicBezTo>
                  <a:pt x="18172" y="7814"/>
                  <a:pt x="18206" y="7822"/>
                  <a:pt x="18281" y="7789"/>
                </a:cubicBezTo>
                <a:cubicBezTo>
                  <a:pt x="18377" y="7747"/>
                  <a:pt x="18422" y="7667"/>
                  <a:pt x="18430" y="7565"/>
                </a:cubicBezTo>
                <a:cubicBezTo>
                  <a:pt x="18437" y="7481"/>
                  <a:pt x="18400" y="7395"/>
                  <a:pt x="18331" y="7342"/>
                </a:cubicBezTo>
                <a:cubicBezTo>
                  <a:pt x="18277" y="7300"/>
                  <a:pt x="18196" y="7317"/>
                  <a:pt x="18132" y="7317"/>
                </a:cubicBezTo>
                <a:cubicBezTo>
                  <a:pt x="18124" y="7317"/>
                  <a:pt x="18115" y="7317"/>
                  <a:pt x="18107" y="7317"/>
                </a:cubicBezTo>
              </a:path>
              <a:path w="2382" h="1018">
                <a:moveTo>
                  <a:pt x="18554" y="7466"/>
                </a:moveTo>
                <a:cubicBezTo>
                  <a:pt x="18541" y="7524"/>
                  <a:pt x="18445" y="7728"/>
                  <a:pt x="18554" y="7789"/>
                </a:cubicBezTo>
                <a:cubicBezTo>
                  <a:pt x="18602" y="7816"/>
                  <a:pt x="18654" y="7809"/>
                  <a:pt x="18703" y="7789"/>
                </a:cubicBezTo>
                <a:cubicBezTo>
                  <a:pt x="18783" y="7757"/>
                  <a:pt x="18814" y="7694"/>
                  <a:pt x="18827" y="7615"/>
                </a:cubicBezTo>
                <a:cubicBezTo>
                  <a:pt x="18840" y="7538"/>
                  <a:pt x="18787" y="7475"/>
                  <a:pt x="18728" y="7441"/>
                </a:cubicBezTo>
                <a:cubicBezTo>
                  <a:pt x="18671" y="7408"/>
                  <a:pt x="18603" y="7417"/>
                  <a:pt x="18554" y="7392"/>
                </a:cubicBezTo>
                <a:cubicBezTo>
                  <a:pt x="18529" y="7367"/>
                  <a:pt x="18521" y="7359"/>
                  <a:pt x="18554" y="7342"/>
                </a:cubicBezTo>
              </a:path>
              <a:path w="2382" h="1018">
                <a:moveTo>
                  <a:pt x="19199" y="7392"/>
                </a:moveTo>
                <a:cubicBezTo>
                  <a:pt x="19204" y="7488"/>
                  <a:pt x="19198" y="7619"/>
                  <a:pt x="19224" y="7714"/>
                </a:cubicBezTo>
                <a:cubicBezTo>
                  <a:pt x="19237" y="7764"/>
                  <a:pt x="19248" y="7765"/>
                  <a:pt x="19248" y="7813"/>
                </a:cubicBezTo>
              </a:path>
              <a:path w="2382" h="1018">
                <a:moveTo>
                  <a:pt x="19050" y="7541"/>
                </a:moveTo>
                <a:cubicBezTo>
                  <a:pt x="19140" y="7541"/>
                  <a:pt x="19212" y="7540"/>
                  <a:pt x="19298" y="751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62840" y="2544840"/>
            <a:ext cx="1482840" cy="330120"/>
          </a:xfrm>
          <a:custGeom>
            <a:avLst/>
            <a:gdLst/>
            <a:ahLst/>
            <a:rect l="l" t="t" r="r" b="b"/>
            <a:pathLst>
              <a:path w="4118" h="919">
                <a:moveTo>
                  <a:pt x="19769" y="7193"/>
                </a:moveTo>
                <a:cubicBezTo>
                  <a:pt x="19720" y="7300"/>
                  <a:pt x="19682" y="7404"/>
                  <a:pt x="19645" y="7516"/>
                </a:cubicBezTo>
                <a:cubicBezTo>
                  <a:pt x="19611" y="7618"/>
                  <a:pt x="19624" y="7667"/>
                  <a:pt x="19670" y="7764"/>
                </a:cubicBezTo>
                <a:cubicBezTo>
                  <a:pt x="19698" y="7823"/>
                  <a:pt x="19726" y="7856"/>
                  <a:pt x="19794" y="7863"/>
                </a:cubicBezTo>
                <a:cubicBezTo>
                  <a:pt x="19819" y="7863"/>
                  <a:pt x="19827" y="7863"/>
                  <a:pt x="19844" y="7863"/>
                </a:cubicBezTo>
              </a:path>
              <a:path w="4118" h="919">
                <a:moveTo>
                  <a:pt x="19869" y="7367"/>
                </a:moveTo>
                <a:cubicBezTo>
                  <a:pt x="20029" y="7367"/>
                  <a:pt x="20060" y="7323"/>
                  <a:pt x="20117" y="7392"/>
                </a:cubicBezTo>
                <a:cubicBezTo>
                  <a:pt x="20107" y="7458"/>
                  <a:pt x="20074" y="7501"/>
                  <a:pt x="20042" y="7565"/>
                </a:cubicBezTo>
                <a:cubicBezTo>
                  <a:pt x="20016" y="7617"/>
                  <a:pt x="19974" y="7655"/>
                  <a:pt x="19968" y="7714"/>
                </a:cubicBezTo>
                <a:cubicBezTo>
                  <a:pt x="19961" y="7780"/>
                  <a:pt x="19970" y="7801"/>
                  <a:pt x="20042" y="7813"/>
                </a:cubicBezTo>
                <a:cubicBezTo>
                  <a:pt x="20124" y="7827"/>
                  <a:pt x="20158" y="7790"/>
                  <a:pt x="20216" y="7739"/>
                </a:cubicBezTo>
              </a:path>
              <a:path w="4118" h="919">
                <a:moveTo>
                  <a:pt x="20241" y="7392"/>
                </a:moveTo>
                <a:cubicBezTo>
                  <a:pt x="20219" y="7469"/>
                  <a:pt x="20164" y="7581"/>
                  <a:pt x="20191" y="7665"/>
                </a:cubicBezTo>
                <a:cubicBezTo>
                  <a:pt x="20213" y="7736"/>
                  <a:pt x="20273" y="7759"/>
                  <a:pt x="20340" y="7764"/>
                </a:cubicBezTo>
                <a:cubicBezTo>
                  <a:pt x="20388" y="7768"/>
                  <a:pt x="20441" y="7766"/>
                  <a:pt x="20464" y="7714"/>
                </a:cubicBezTo>
                <a:cubicBezTo>
                  <a:pt x="20486" y="7665"/>
                  <a:pt x="20468" y="7558"/>
                  <a:pt x="20439" y="7516"/>
                </a:cubicBezTo>
                <a:cubicBezTo>
                  <a:pt x="20401" y="7460"/>
                  <a:pt x="20345" y="7433"/>
                  <a:pt x="20290" y="7417"/>
                </a:cubicBezTo>
                <a:cubicBezTo>
                  <a:pt x="20265" y="7417"/>
                  <a:pt x="20257" y="7417"/>
                  <a:pt x="20265" y="7392"/>
                </a:cubicBezTo>
              </a:path>
              <a:path w="4118" h="919">
                <a:moveTo>
                  <a:pt x="20613" y="7441"/>
                </a:moveTo>
                <a:cubicBezTo>
                  <a:pt x="20722" y="7465"/>
                  <a:pt x="20782" y="7476"/>
                  <a:pt x="20886" y="7441"/>
                </a:cubicBezTo>
              </a:path>
              <a:path w="4118" h="919">
                <a:moveTo>
                  <a:pt x="21084" y="7541"/>
                </a:moveTo>
                <a:cubicBezTo>
                  <a:pt x="21073" y="7643"/>
                  <a:pt x="21013" y="7912"/>
                  <a:pt x="21084" y="7838"/>
                </a:cubicBezTo>
                <a:cubicBezTo>
                  <a:pt x="21084" y="7813"/>
                  <a:pt x="21084" y="7805"/>
                  <a:pt x="21109" y="7813"/>
                </a:cubicBezTo>
              </a:path>
              <a:path w="4118" h="919">
                <a:moveTo>
                  <a:pt x="21134" y="7069"/>
                </a:moveTo>
                <a:cubicBezTo>
                  <a:pt x="21234" y="7220"/>
                  <a:pt x="21311" y="7332"/>
                  <a:pt x="21332" y="7516"/>
                </a:cubicBezTo>
                <a:cubicBezTo>
                  <a:pt x="21342" y="7606"/>
                  <a:pt x="21337" y="7754"/>
                  <a:pt x="21307" y="7838"/>
                </a:cubicBezTo>
                <a:cubicBezTo>
                  <a:pt x="21291" y="7882"/>
                  <a:pt x="21268" y="7906"/>
                  <a:pt x="21258" y="7938"/>
                </a:cubicBezTo>
              </a:path>
              <a:path w="4118" h="919">
                <a:moveTo>
                  <a:pt x="21779" y="7144"/>
                </a:moveTo>
                <a:cubicBezTo>
                  <a:pt x="21714" y="7263"/>
                  <a:pt x="21672" y="7385"/>
                  <a:pt x="21630" y="7516"/>
                </a:cubicBezTo>
                <a:cubicBezTo>
                  <a:pt x="21586" y="7653"/>
                  <a:pt x="21650" y="7704"/>
                  <a:pt x="21704" y="7813"/>
                </a:cubicBezTo>
                <a:cubicBezTo>
                  <a:pt x="21737" y="7879"/>
                  <a:pt x="21762" y="7920"/>
                  <a:pt x="21828" y="7962"/>
                </a:cubicBezTo>
                <a:cubicBezTo>
                  <a:pt x="21872" y="7984"/>
                  <a:pt x="21884" y="7997"/>
                  <a:pt x="21903" y="7962"/>
                </a:cubicBezTo>
              </a:path>
              <a:path w="4118" h="919">
                <a:moveTo>
                  <a:pt x="21927" y="7367"/>
                </a:moveTo>
                <a:cubicBezTo>
                  <a:pt x="21992" y="7343"/>
                  <a:pt x="22056" y="7320"/>
                  <a:pt x="22126" y="7317"/>
                </a:cubicBezTo>
                <a:cubicBezTo>
                  <a:pt x="22187" y="7317"/>
                  <a:pt x="22203" y="7308"/>
                  <a:pt x="22225" y="7342"/>
                </a:cubicBezTo>
                <a:cubicBezTo>
                  <a:pt x="22211" y="7410"/>
                  <a:pt x="22176" y="7475"/>
                  <a:pt x="22151" y="7541"/>
                </a:cubicBezTo>
                <a:cubicBezTo>
                  <a:pt x="22118" y="7628"/>
                  <a:pt x="22101" y="7697"/>
                  <a:pt x="22101" y="7789"/>
                </a:cubicBezTo>
                <a:cubicBezTo>
                  <a:pt x="22101" y="7797"/>
                  <a:pt x="22126" y="7921"/>
                  <a:pt x="22151" y="7888"/>
                </a:cubicBezTo>
                <a:cubicBezTo>
                  <a:pt x="22151" y="7880"/>
                  <a:pt x="22151" y="7871"/>
                  <a:pt x="22151" y="7863"/>
                </a:cubicBezTo>
              </a:path>
              <a:path w="4118" h="919">
                <a:moveTo>
                  <a:pt x="22448" y="7392"/>
                </a:moveTo>
                <a:cubicBezTo>
                  <a:pt x="22547" y="7374"/>
                  <a:pt x="22620" y="7378"/>
                  <a:pt x="22696" y="7317"/>
                </a:cubicBezTo>
              </a:path>
              <a:path w="4118" h="919">
                <a:moveTo>
                  <a:pt x="22399" y="7417"/>
                </a:moveTo>
                <a:cubicBezTo>
                  <a:pt x="22383" y="7517"/>
                  <a:pt x="22368" y="7548"/>
                  <a:pt x="22473" y="7590"/>
                </a:cubicBezTo>
                <a:cubicBezTo>
                  <a:pt x="22515" y="7607"/>
                  <a:pt x="22555" y="7582"/>
                  <a:pt x="22597" y="7565"/>
                </a:cubicBezTo>
                <a:cubicBezTo>
                  <a:pt x="22644" y="7546"/>
                  <a:pt x="22648" y="7523"/>
                  <a:pt x="22696" y="7565"/>
                </a:cubicBezTo>
                <a:cubicBezTo>
                  <a:pt x="22755" y="7617"/>
                  <a:pt x="22752" y="7656"/>
                  <a:pt x="22721" y="7714"/>
                </a:cubicBezTo>
                <a:cubicBezTo>
                  <a:pt x="22698" y="7758"/>
                  <a:pt x="22647" y="7846"/>
                  <a:pt x="22597" y="7863"/>
                </a:cubicBezTo>
                <a:cubicBezTo>
                  <a:pt x="22567" y="7873"/>
                  <a:pt x="22507" y="7863"/>
                  <a:pt x="22473" y="7863"/>
                </a:cubicBezTo>
                <a:cubicBezTo>
                  <a:pt x="22473" y="7822"/>
                  <a:pt x="22473" y="7780"/>
                  <a:pt x="22473" y="7739"/>
                </a:cubicBezTo>
              </a:path>
              <a:path w="4118" h="919">
                <a:moveTo>
                  <a:pt x="22895" y="7491"/>
                </a:moveTo>
                <a:cubicBezTo>
                  <a:pt x="22865" y="7554"/>
                  <a:pt x="22788" y="7690"/>
                  <a:pt x="22796" y="7764"/>
                </a:cubicBezTo>
                <a:cubicBezTo>
                  <a:pt x="22798" y="7780"/>
                  <a:pt x="22872" y="7893"/>
                  <a:pt x="22895" y="7888"/>
                </a:cubicBezTo>
                <a:cubicBezTo>
                  <a:pt x="23038" y="7858"/>
                  <a:pt x="23051" y="7789"/>
                  <a:pt x="23068" y="7665"/>
                </a:cubicBezTo>
                <a:cubicBezTo>
                  <a:pt x="23074" y="7620"/>
                  <a:pt x="23079" y="7498"/>
                  <a:pt x="23044" y="7466"/>
                </a:cubicBezTo>
                <a:cubicBezTo>
                  <a:pt x="22997" y="7423"/>
                  <a:pt x="22867" y="7456"/>
                  <a:pt x="22870" y="7392"/>
                </a:cubicBezTo>
                <a:cubicBezTo>
                  <a:pt x="22878" y="7392"/>
                  <a:pt x="22887" y="7392"/>
                  <a:pt x="22895" y="7392"/>
                </a:cubicBezTo>
              </a:path>
              <a:path w="4118" h="919">
                <a:moveTo>
                  <a:pt x="23168" y="7590"/>
                </a:moveTo>
                <a:cubicBezTo>
                  <a:pt x="23192" y="7750"/>
                  <a:pt x="23162" y="7818"/>
                  <a:pt x="23292" y="7888"/>
                </a:cubicBezTo>
                <a:cubicBezTo>
                  <a:pt x="23337" y="7912"/>
                  <a:pt x="23402" y="7938"/>
                  <a:pt x="23440" y="7888"/>
                </a:cubicBezTo>
                <a:cubicBezTo>
                  <a:pt x="23497" y="7813"/>
                  <a:pt x="23507" y="7698"/>
                  <a:pt x="23465" y="7615"/>
                </a:cubicBezTo>
                <a:cubicBezTo>
                  <a:pt x="23424" y="7534"/>
                  <a:pt x="23353" y="7545"/>
                  <a:pt x="23292" y="7516"/>
                </a:cubicBezTo>
                <a:cubicBezTo>
                  <a:pt x="23260" y="7501"/>
                  <a:pt x="23249" y="7469"/>
                  <a:pt x="23242" y="7441"/>
                </a:cubicBezTo>
              </a:path>
              <a:path w="4118" h="919">
                <a:moveTo>
                  <a:pt x="23614" y="7169"/>
                </a:moveTo>
                <a:cubicBezTo>
                  <a:pt x="23670" y="7344"/>
                  <a:pt x="23733" y="7481"/>
                  <a:pt x="23738" y="7665"/>
                </a:cubicBezTo>
                <a:cubicBezTo>
                  <a:pt x="23742" y="7825"/>
                  <a:pt x="23713" y="7941"/>
                  <a:pt x="23540" y="7962"/>
                </a:cubicBezTo>
                <a:cubicBezTo>
                  <a:pt x="23423" y="7962"/>
                  <a:pt x="23374" y="7959"/>
                  <a:pt x="23292" y="79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848640" y="3143160"/>
            <a:ext cx="903240" cy="295200"/>
          </a:xfrm>
          <a:custGeom>
            <a:avLst/>
            <a:gdLst/>
            <a:ahLst/>
            <a:rect l="l" t="t" r="r" b="b"/>
            <a:pathLst>
              <a:path w="2506" h="820">
                <a:moveTo>
                  <a:pt x="19124" y="8781"/>
                </a:moveTo>
                <a:cubicBezTo>
                  <a:pt x="19066" y="8781"/>
                  <a:pt x="19086" y="8794"/>
                  <a:pt x="19075" y="8731"/>
                </a:cubicBezTo>
                <a:cubicBezTo>
                  <a:pt x="19065" y="8824"/>
                  <a:pt x="19050" y="8907"/>
                  <a:pt x="19050" y="9004"/>
                </a:cubicBezTo>
                <a:cubicBezTo>
                  <a:pt x="19050" y="9092"/>
                  <a:pt x="19030" y="9168"/>
                  <a:pt x="19025" y="9252"/>
                </a:cubicBezTo>
                <a:cubicBezTo>
                  <a:pt x="19024" y="9268"/>
                  <a:pt x="19025" y="9462"/>
                  <a:pt x="19025" y="9327"/>
                </a:cubicBezTo>
              </a:path>
              <a:path w="2506" h="820">
                <a:moveTo>
                  <a:pt x="19174" y="8930"/>
                </a:moveTo>
                <a:cubicBezTo>
                  <a:pt x="19176" y="8929"/>
                  <a:pt x="19455" y="8868"/>
                  <a:pt x="19472" y="8855"/>
                </a:cubicBezTo>
                <a:cubicBezTo>
                  <a:pt x="19480" y="8839"/>
                  <a:pt x="19488" y="8822"/>
                  <a:pt x="19496" y="8806"/>
                </a:cubicBezTo>
              </a:path>
              <a:path w="2506" h="820">
                <a:moveTo>
                  <a:pt x="19224" y="8855"/>
                </a:moveTo>
                <a:cubicBezTo>
                  <a:pt x="19182" y="8915"/>
                  <a:pt x="19138" y="8959"/>
                  <a:pt x="19124" y="9029"/>
                </a:cubicBezTo>
                <a:cubicBezTo>
                  <a:pt x="19239" y="9029"/>
                  <a:pt x="19292" y="9039"/>
                  <a:pt x="19397" y="9079"/>
                </a:cubicBezTo>
                <a:cubicBezTo>
                  <a:pt x="19484" y="9112"/>
                  <a:pt x="19458" y="9142"/>
                  <a:pt x="19447" y="9227"/>
                </a:cubicBezTo>
                <a:cubicBezTo>
                  <a:pt x="19436" y="9315"/>
                  <a:pt x="19400" y="9341"/>
                  <a:pt x="19348" y="9376"/>
                </a:cubicBezTo>
                <a:cubicBezTo>
                  <a:pt x="19310" y="9401"/>
                  <a:pt x="19288" y="9435"/>
                  <a:pt x="19248" y="9451"/>
                </a:cubicBezTo>
                <a:cubicBezTo>
                  <a:pt x="19206" y="9386"/>
                  <a:pt x="19199" y="9409"/>
                  <a:pt x="19199" y="9327"/>
                </a:cubicBezTo>
              </a:path>
              <a:path w="2506" h="820">
                <a:moveTo>
                  <a:pt x="19720" y="8930"/>
                </a:moveTo>
                <a:cubicBezTo>
                  <a:pt x="19773" y="8935"/>
                  <a:pt x="19895" y="8931"/>
                  <a:pt x="19869" y="9029"/>
                </a:cubicBezTo>
                <a:cubicBezTo>
                  <a:pt x="19846" y="9114"/>
                  <a:pt x="19796" y="9166"/>
                  <a:pt x="19745" y="9227"/>
                </a:cubicBezTo>
                <a:cubicBezTo>
                  <a:pt x="19718" y="9259"/>
                  <a:pt x="19628" y="9318"/>
                  <a:pt x="19670" y="9376"/>
                </a:cubicBezTo>
                <a:cubicBezTo>
                  <a:pt x="19710" y="9376"/>
                  <a:pt x="19729" y="9365"/>
                  <a:pt x="19745" y="9327"/>
                </a:cubicBezTo>
              </a:path>
              <a:path w="2506" h="820">
                <a:moveTo>
                  <a:pt x="20017" y="9227"/>
                </a:moveTo>
                <a:cubicBezTo>
                  <a:pt x="20013" y="9241"/>
                  <a:pt x="19937" y="9459"/>
                  <a:pt x="19943" y="9500"/>
                </a:cubicBezTo>
                <a:cubicBezTo>
                  <a:pt x="19947" y="9529"/>
                  <a:pt x="19976" y="9544"/>
                  <a:pt x="19993" y="9550"/>
                </a:cubicBezTo>
              </a:path>
              <a:path w="2506" h="820">
                <a:moveTo>
                  <a:pt x="20216" y="9004"/>
                </a:moveTo>
                <a:cubicBezTo>
                  <a:pt x="20321" y="8948"/>
                  <a:pt x="20430" y="8946"/>
                  <a:pt x="20513" y="8880"/>
                </a:cubicBezTo>
                <a:cubicBezTo>
                  <a:pt x="20521" y="8872"/>
                  <a:pt x="20530" y="8863"/>
                  <a:pt x="20538" y="8855"/>
                </a:cubicBezTo>
              </a:path>
              <a:path w="2506" h="820">
                <a:moveTo>
                  <a:pt x="20166" y="9004"/>
                </a:moveTo>
                <a:cubicBezTo>
                  <a:pt x="20150" y="9004"/>
                  <a:pt x="20133" y="9004"/>
                  <a:pt x="20117" y="9004"/>
                </a:cubicBezTo>
                <a:cubicBezTo>
                  <a:pt x="20132" y="9083"/>
                  <a:pt x="20140" y="9079"/>
                  <a:pt x="20216" y="9079"/>
                </a:cubicBezTo>
                <a:cubicBezTo>
                  <a:pt x="20285" y="9079"/>
                  <a:pt x="20425" y="9113"/>
                  <a:pt x="20464" y="9178"/>
                </a:cubicBezTo>
                <a:cubicBezTo>
                  <a:pt x="20503" y="9242"/>
                  <a:pt x="20482" y="9320"/>
                  <a:pt x="20439" y="9376"/>
                </a:cubicBezTo>
                <a:cubicBezTo>
                  <a:pt x="20408" y="9417"/>
                  <a:pt x="20312" y="9439"/>
                  <a:pt x="20265" y="9451"/>
                </a:cubicBezTo>
                <a:cubicBezTo>
                  <a:pt x="20244" y="9413"/>
                  <a:pt x="20182" y="9349"/>
                  <a:pt x="20191" y="9302"/>
                </a:cubicBezTo>
                <a:cubicBezTo>
                  <a:pt x="20199" y="9277"/>
                  <a:pt x="20208" y="9252"/>
                  <a:pt x="20216" y="9227"/>
                </a:cubicBezTo>
              </a:path>
              <a:path w="2506" h="820">
                <a:moveTo>
                  <a:pt x="20563" y="9153"/>
                </a:moveTo>
                <a:cubicBezTo>
                  <a:pt x="20552" y="9255"/>
                  <a:pt x="20509" y="9364"/>
                  <a:pt x="20638" y="9376"/>
                </a:cubicBezTo>
                <a:cubicBezTo>
                  <a:pt x="20785" y="9389"/>
                  <a:pt x="20803" y="9377"/>
                  <a:pt x="20886" y="9302"/>
                </a:cubicBezTo>
                <a:cubicBezTo>
                  <a:pt x="20941" y="9252"/>
                  <a:pt x="20951" y="9185"/>
                  <a:pt x="20910" y="9103"/>
                </a:cubicBezTo>
                <a:cubicBezTo>
                  <a:pt x="20895" y="9073"/>
                  <a:pt x="20796" y="9013"/>
                  <a:pt x="20762" y="9004"/>
                </a:cubicBezTo>
                <a:cubicBezTo>
                  <a:pt x="20673" y="8979"/>
                  <a:pt x="20720" y="9040"/>
                  <a:pt x="20662" y="8954"/>
                </a:cubicBezTo>
              </a:path>
              <a:path w="2506" h="820">
                <a:moveTo>
                  <a:pt x="21084" y="9153"/>
                </a:moveTo>
                <a:cubicBezTo>
                  <a:pt x="21098" y="9284"/>
                  <a:pt x="21084" y="9360"/>
                  <a:pt x="21233" y="9376"/>
                </a:cubicBezTo>
                <a:cubicBezTo>
                  <a:pt x="21335" y="9387"/>
                  <a:pt x="21421" y="9392"/>
                  <a:pt x="21481" y="9327"/>
                </a:cubicBezTo>
                <a:cubicBezTo>
                  <a:pt x="21541" y="9262"/>
                  <a:pt x="21538" y="9214"/>
                  <a:pt x="21481" y="9153"/>
                </a:cubicBezTo>
                <a:cubicBezTo>
                  <a:pt x="21409" y="9076"/>
                  <a:pt x="21280" y="9060"/>
                  <a:pt x="21183" y="9029"/>
                </a:cubicBezTo>
                <a:cubicBezTo>
                  <a:pt x="21093" y="9006"/>
                  <a:pt x="21069" y="8998"/>
                  <a:pt x="21010" y="900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98320" y="3902040"/>
            <a:ext cx="2724480" cy="1152720"/>
          </a:xfrm>
          <a:custGeom>
            <a:avLst/>
            <a:gdLst/>
            <a:ahLst/>
            <a:rect l="l" t="t" r="r" b="b"/>
            <a:pathLst>
              <a:path w="7566" h="3200">
                <a:moveTo>
                  <a:pt x="1662" y="10840"/>
                </a:moveTo>
                <a:cubicBezTo>
                  <a:pt x="1835" y="10863"/>
                  <a:pt x="2007" y="10883"/>
                  <a:pt x="2183" y="10889"/>
                </a:cubicBezTo>
                <a:cubicBezTo>
                  <a:pt x="2829" y="10911"/>
                  <a:pt x="3473" y="10864"/>
                  <a:pt x="4118" y="10864"/>
                </a:cubicBezTo>
                <a:cubicBezTo>
                  <a:pt x="4548" y="10864"/>
                  <a:pt x="4976" y="10889"/>
                  <a:pt x="5407" y="10889"/>
                </a:cubicBezTo>
                <a:cubicBezTo>
                  <a:pt x="5912" y="10889"/>
                  <a:pt x="6416" y="10910"/>
                  <a:pt x="6921" y="10914"/>
                </a:cubicBezTo>
                <a:cubicBezTo>
                  <a:pt x="7244" y="10917"/>
                  <a:pt x="7564" y="10889"/>
                  <a:pt x="7888" y="10889"/>
                </a:cubicBezTo>
                <a:cubicBezTo>
                  <a:pt x="8109" y="10889"/>
                  <a:pt x="8341" y="10867"/>
                  <a:pt x="8558" y="10914"/>
                </a:cubicBezTo>
                <a:cubicBezTo>
                  <a:pt x="8683" y="10941"/>
                  <a:pt x="8807" y="10984"/>
                  <a:pt x="8905" y="11063"/>
                </a:cubicBezTo>
                <a:cubicBezTo>
                  <a:pt x="8978" y="11122"/>
                  <a:pt x="8981" y="11148"/>
                  <a:pt x="9004" y="11237"/>
                </a:cubicBezTo>
                <a:cubicBezTo>
                  <a:pt x="9160" y="11836"/>
                  <a:pt x="9046" y="12622"/>
                  <a:pt x="9128" y="13246"/>
                </a:cubicBezTo>
                <a:cubicBezTo>
                  <a:pt x="9149" y="13404"/>
                  <a:pt x="9181" y="13561"/>
                  <a:pt x="9203" y="13717"/>
                </a:cubicBezTo>
                <a:cubicBezTo>
                  <a:pt x="9219" y="13827"/>
                  <a:pt x="9224" y="13927"/>
                  <a:pt x="9227" y="14039"/>
                </a:cubicBezTo>
                <a:cubicBezTo>
                  <a:pt x="9180" y="14029"/>
                  <a:pt x="9108" y="13995"/>
                  <a:pt x="9054" y="13990"/>
                </a:cubicBezTo>
                <a:cubicBezTo>
                  <a:pt x="8934" y="13978"/>
                  <a:pt x="8822" y="14004"/>
                  <a:pt x="8706" y="14015"/>
                </a:cubicBezTo>
                <a:cubicBezTo>
                  <a:pt x="8389" y="14044"/>
                  <a:pt x="8054" y="14073"/>
                  <a:pt x="7739" y="14015"/>
                </a:cubicBezTo>
                <a:cubicBezTo>
                  <a:pt x="7232" y="13922"/>
                  <a:pt x="6735" y="13774"/>
                  <a:pt x="6226" y="13692"/>
                </a:cubicBezTo>
                <a:cubicBezTo>
                  <a:pt x="5725" y="13611"/>
                  <a:pt x="5221" y="13556"/>
                  <a:pt x="4713" y="13543"/>
                </a:cubicBezTo>
                <a:cubicBezTo>
                  <a:pt x="3908" y="13523"/>
                  <a:pt x="3127" y="13574"/>
                  <a:pt x="2332" y="1369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ignment: p.636(71-89)</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3" name=""/>
          <p:cNvSpPr/>
          <p:nvPr/>
        </p:nvSpPr>
        <p:spPr>
          <a:xfrm>
            <a:off x="4705200" y="1608120"/>
            <a:ext cx="1054080" cy="571680"/>
          </a:xfrm>
          <a:custGeom>
            <a:avLst/>
            <a:gdLst/>
            <a:ahLst/>
            <a:rect l="l" t="t" r="r" b="b"/>
            <a:pathLst>
              <a:path w="2928" h="1588">
                <a:moveTo>
                  <a:pt x="13444" y="5184"/>
                </a:moveTo>
                <a:cubicBezTo>
                  <a:pt x="13435" y="5211"/>
                  <a:pt x="13421" y="5243"/>
                  <a:pt x="13395" y="5283"/>
                </a:cubicBezTo>
                <a:cubicBezTo>
                  <a:pt x="13369" y="5322"/>
                  <a:pt x="13331" y="5405"/>
                  <a:pt x="13320" y="5457"/>
                </a:cubicBezTo>
                <a:cubicBezTo>
                  <a:pt x="13307" y="5514"/>
                  <a:pt x="13312" y="5614"/>
                  <a:pt x="13345" y="5655"/>
                </a:cubicBezTo>
                <a:cubicBezTo>
                  <a:pt x="13374" y="5691"/>
                  <a:pt x="13416" y="5748"/>
                  <a:pt x="13469" y="5730"/>
                </a:cubicBezTo>
                <a:cubicBezTo>
                  <a:pt x="13505" y="5718"/>
                  <a:pt x="13588" y="5690"/>
                  <a:pt x="13618" y="5655"/>
                </a:cubicBezTo>
                <a:cubicBezTo>
                  <a:pt x="13650" y="5618"/>
                  <a:pt x="13729" y="5529"/>
                  <a:pt x="13742" y="5482"/>
                </a:cubicBezTo>
                <a:cubicBezTo>
                  <a:pt x="13760" y="5414"/>
                  <a:pt x="13783" y="5348"/>
                  <a:pt x="13742" y="5283"/>
                </a:cubicBezTo>
                <a:cubicBezTo>
                  <a:pt x="13715" y="5240"/>
                  <a:pt x="13633" y="5178"/>
                  <a:pt x="13593" y="5159"/>
                </a:cubicBezTo>
                <a:cubicBezTo>
                  <a:pt x="13562" y="5144"/>
                  <a:pt x="13467" y="5157"/>
                  <a:pt x="13444" y="5184"/>
                </a:cubicBezTo>
                <a:cubicBezTo>
                  <a:pt x="13444" y="5209"/>
                  <a:pt x="13444" y="5217"/>
                  <a:pt x="13444" y="5234"/>
                </a:cubicBezTo>
              </a:path>
              <a:path w="2928" h="1588">
                <a:moveTo>
                  <a:pt x="14412" y="5159"/>
                </a:moveTo>
                <a:cubicBezTo>
                  <a:pt x="14389" y="5143"/>
                  <a:pt x="14345" y="5117"/>
                  <a:pt x="14312" y="5135"/>
                </a:cubicBezTo>
                <a:cubicBezTo>
                  <a:pt x="14260" y="5163"/>
                  <a:pt x="14228" y="5227"/>
                  <a:pt x="14188" y="5259"/>
                </a:cubicBezTo>
                <a:cubicBezTo>
                  <a:pt x="14136" y="5301"/>
                  <a:pt x="14059" y="5359"/>
                  <a:pt x="14039" y="5432"/>
                </a:cubicBezTo>
                <a:cubicBezTo>
                  <a:pt x="14026" y="5480"/>
                  <a:pt x="13996" y="5579"/>
                  <a:pt x="14015" y="5631"/>
                </a:cubicBezTo>
                <a:cubicBezTo>
                  <a:pt x="14030" y="5670"/>
                  <a:pt x="14085" y="5693"/>
                  <a:pt x="14114" y="5705"/>
                </a:cubicBezTo>
                <a:cubicBezTo>
                  <a:pt x="14208" y="5746"/>
                  <a:pt x="14267" y="5695"/>
                  <a:pt x="14337" y="5631"/>
                </a:cubicBezTo>
                <a:cubicBezTo>
                  <a:pt x="14394" y="5578"/>
                  <a:pt x="14407" y="5500"/>
                  <a:pt x="14436" y="5432"/>
                </a:cubicBezTo>
                <a:cubicBezTo>
                  <a:pt x="14478" y="5333"/>
                  <a:pt x="14486" y="5266"/>
                  <a:pt x="14486" y="5159"/>
                </a:cubicBezTo>
                <a:cubicBezTo>
                  <a:pt x="14486" y="5048"/>
                  <a:pt x="14492" y="4909"/>
                  <a:pt x="14461" y="4837"/>
                </a:cubicBezTo>
                <a:cubicBezTo>
                  <a:pt x="14461" y="4829"/>
                  <a:pt x="14461" y="4820"/>
                  <a:pt x="14461" y="4812"/>
                </a:cubicBezTo>
                <a:cubicBezTo>
                  <a:pt x="14461" y="4932"/>
                  <a:pt x="14450" y="5046"/>
                  <a:pt x="14436" y="5159"/>
                </a:cubicBezTo>
                <a:cubicBezTo>
                  <a:pt x="14423" y="5263"/>
                  <a:pt x="14445" y="5361"/>
                  <a:pt x="14461" y="5457"/>
                </a:cubicBezTo>
                <a:cubicBezTo>
                  <a:pt x="14474" y="5537"/>
                  <a:pt x="14446" y="5601"/>
                  <a:pt x="14486" y="5680"/>
                </a:cubicBezTo>
                <a:cubicBezTo>
                  <a:pt x="14494" y="5688"/>
                  <a:pt x="14503" y="5697"/>
                  <a:pt x="14511" y="5705"/>
                </a:cubicBezTo>
              </a:path>
              <a:path w="2928" h="1588">
                <a:moveTo>
                  <a:pt x="15230" y="5333"/>
                </a:moveTo>
                <a:cubicBezTo>
                  <a:pt x="15148" y="5252"/>
                  <a:pt x="15166" y="5245"/>
                  <a:pt x="15056" y="5259"/>
                </a:cubicBezTo>
                <a:cubicBezTo>
                  <a:pt x="14968" y="5270"/>
                  <a:pt x="14911" y="5318"/>
                  <a:pt x="14858" y="5383"/>
                </a:cubicBezTo>
                <a:cubicBezTo>
                  <a:pt x="14812" y="5440"/>
                  <a:pt x="14792" y="5494"/>
                  <a:pt x="14759" y="5556"/>
                </a:cubicBezTo>
                <a:cubicBezTo>
                  <a:pt x="14736" y="5600"/>
                  <a:pt x="14725" y="5692"/>
                  <a:pt x="14759" y="5730"/>
                </a:cubicBezTo>
                <a:cubicBezTo>
                  <a:pt x="14783" y="5756"/>
                  <a:pt x="14846" y="5753"/>
                  <a:pt x="14883" y="5755"/>
                </a:cubicBezTo>
                <a:cubicBezTo>
                  <a:pt x="14996" y="5761"/>
                  <a:pt x="15076" y="5670"/>
                  <a:pt x="15131" y="5581"/>
                </a:cubicBezTo>
                <a:cubicBezTo>
                  <a:pt x="15171" y="5515"/>
                  <a:pt x="15219" y="5383"/>
                  <a:pt x="15230" y="5308"/>
                </a:cubicBezTo>
                <a:cubicBezTo>
                  <a:pt x="15244" y="5216"/>
                  <a:pt x="15255" y="5130"/>
                  <a:pt x="15255" y="5035"/>
                </a:cubicBezTo>
                <a:cubicBezTo>
                  <a:pt x="15255" y="4965"/>
                  <a:pt x="15247" y="4919"/>
                  <a:pt x="15230" y="4862"/>
                </a:cubicBezTo>
                <a:cubicBezTo>
                  <a:pt x="15230" y="4854"/>
                  <a:pt x="15230" y="4845"/>
                  <a:pt x="15230" y="4837"/>
                </a:cubicBezTo>
                <a:cubicBezTo>
                  <a:pt x="15196" y="4878"/>
                  <a:pt x="15176" y="4833"/>
                  <a:pt x="15156" y="4936"/>
                </a:cubicBezTo>
                <a:cubicBezTo>
                  <a:pt x="15142" y="5009"/>
                  <a:pt x="15146" y="5086"/>
                  <a:pt x="15131" y="5159"/>
                </a:cubicBezTo>
                <a:cubicBezTo>
                  <a:pt x="15108" y="5267"/>
                  <a:pt x="15098" y="5325"/>
                  <a:pt x="15131" y="5432"/>
                </a:cubicBezTo>
                <a:cubicBezTo>
                  <a:pt x="15163" y="5535"/>
                  <a:pt x="15205" y="5580"/>
                  <a:pt x="15280" y="5655"/>
                </a:cubicBezTo>
                <a:cubicBezTo>
                  <a:pt x="15348" y="5723"/>
                  <a:pt x="15417" y="5739"/>
                  <a:pt x="15503" y="5779"/>
                </a:cubicBezTo>
                <a:cubicBezTo>
                  <a:pt x="15524" y="5789"/>
                  <a:pt x="15629" y="5833"/>
                  <a:pt x="15652" y="5804"/>
                </a:cubicBezTo>
                <a:cubicBezTo>
                  <a:pt x="15690" y="5756"/>
                  <a:pt x="15612" y="5774"/>
                  <a:pt x="15602" y="5779"/>
                </a:cubicBezTo>
              </a:path>
              <a:path w="2928" h="1588">
                <a:moveTo>
                  <a:pt x="13146" y="5978"/>
                </a:moveTo>
                <a:lnTo>
                  <a:pt x="13122" y="5978"/>
                </a:lnTo>
                <a:lnTo>
                  <a:pt x="13146" y="6003"/>
                </a:lnTo>
                <a:lnTo>
                  <a:pt x="13171" y="6003"/>
                </a:lnTo>
                <a:lnTo>
                  <a:pt x="13196" y="6003"/>
                </a:lnTo>
                <a:lnTo>
                  <a:pt x="13246" y="6028"/>
                </a:lnTo>
                <a:lnTo>
                  <a:pt x="13295" y="6028"/>
                </a:lnTo>
                <a:lnTo>
                  <a:pt x="13370" y="6028"/>
                </a:lnTo>
                <a:lnTo>
                  <a:pt x="13444" y="6028"/>
                </a:lnTo>
                <a:lnTo>
                  <a:pt x="13543" y="6052"/>
                </a:lnTo>
                <a:lnTo>
                  <a:pt x="13643" y="6052"/>
                </a:lnTo>
                <a:lnTo>
                  <a:pt x="13767" y="6052"/>
                </a:lnTo>
                <a:lnTo>
                  <a:pt x="13891" y="6052"/>
                </a:lnTo>
                <a:lnTo>
                  <a:pt x="14015" y="6028"/>
                </a:lnTo>
                <a:lnTo>
                  <a:pt x="14163" y="6028"/>
                </a:lnTo>
                <a:lnTo>
                  <a:pt x="14312" y="6028"/>
                </a:lnTo>
                <a:lnTo>
                  <a:pt x="14635" y="6028"/>
                </a:lnTo>
                <a:lnTo>
                  <a:pt x="14784" y="6028"/>
                </a:lnTo>
                <a:lnTo>
                  <a:pt x="14957" y="6028"/>
                </a:lnTo>
                <a:lnTo>
                  <a:pt x="15106" y="6028"/>
                </a:lnTo>
                <a:lnTo>
                  <a:pt x="15255" y="6052"/>
                </a:lnTo>
                <a:lnTo>
                  <a:pt x="15404" y="6052"/>
                </a:lnTo>
                <a:lnTo>
                  <a:pt x="15528" y="6052"/>
                </a:lnTo>
                <a:lnTo>
                  <a:pt x="15627" y="6052"/>
                </a:lnTo>
                <a:lnTo>
                  <a:pt x="15726" y="6052"/>
                </a:lnTo>
                <a:lnTo>
                  <a:pt x="15801" y="6052"/>
                </a:lnTo>
                <a:lnTo>
                  <a:pt x="15875" y="6052"/>
                </a:lnTo>
                <a:lnTo>
                  <a:pt x="15925" y="6052"/>
                </a:lnTo>
                <a:lnTo>
                  <a:pt x="15949" y="6028"/>
                </a:lnTo>
                <a:lnTo>
                  <a:pt x="15974" y="6028"/>
                </a:lnTo>
                <a:lnTo>
                  <a:pt x="15999" y="6003"/>
                </a:lnTo>
                <a:lnTo>
                  <a:pt x="15999" y="5978"/>
                </a:lnTo>
                <a:lnTo>
                  <a:pt x="15999" y="5953"/>
                </a:lnTo>
                <a:lnTo>
                  <a:pt x="15999" y="5904"/>
                </a:lnTo>
                <a:lnTo>
                  <a:pt x="15974" y="5879"/>
                </a:lnTo>
                <a:lnTo>
                  <a:pt x="15974" y="5829"/>
                </a:lnTo>
                <a:lnTo>
                  <a:pt x="15974" y="5779"/>
                </a:lnTo>
                <a:lnTo>
                  <a:pt x="15949" y="5730"/>
                </a:lnTo>
                <a:lnTo>
                  <a:pt x="15949" y="5655"/>
                </a:lnTo>
                <a:lnTo>
                  <a:pt x="15949" y="5581"/>
                </a:lnTo>
                <a:lnTo>
                  <a:pt x="15949" y="5507"/>
                </a:lnTo>
                <a:lnTo>
                  <a:pt x="15949" y="5432"/>
                </a:lnTo>
                <a:lnTo>
                  <a:pt x="15949" y="5333"/>
                </a:lnTo>
                <a:lnTo>
                  <a:pt x="15949" y="5259"/>
                </a:lnTo>
                <a:lnTo>
                  <a:pt x="15949" y="5159"/>
                </a:lnTo>
                <a:lnTo>
                  <a:pt x="15949" y="5085"/>
                </a:lnTo>
                <a:lnTo>
                  <a:pt x="15949" y="4986"/>
                </a:lnTo>
                <a:lnTo>
                  <a:pt x="15949" y="4911"/>
                </a:lnTo>
                <a:lnTo>
                  <a:pt x="15949" y="4862"/>
                </a:lnTo>
                <a:lnTo>
                  <a:pt x="15949" y="4738"/>
                </a:lnTo>
                <a:lnTo>
                  <a:pt x="15949" y="4713"/>
                </a:lnTo>
                <a:lnTo>
                  <a:pt x="15925" y="4663"/>
                </a:lnTo>
                <a:lnTo>
                  <a:pt x="15925" y="4638"/>
                </a:lnTo>
                <a:lnTo>
                  <a:pt x="15925" y="4614"/>
                </a:lnTo>
                <a:lnTo>
                  <a:pt x="15925" y="4589"/>
                </a:lnTo>
                <a:lnTo>
                  <a:pt x="15900" y="4564"/>
                </a:lnTo>
                <a:lnTo>
                  <a:pt x="15900" y="4539"/>
                </a:lnTo>
                <a:lnTo>
                  <a:pt x="15875" y="4539"/>
                </a:lnTo>
                <a:lnTo>
                  <a:pt x="15850" y="4514"/>
                </a:lnTo>
                <a:lnTo>
                  <a:pt x="15825" y="4514"/>
                </a:lnTo>
                <a:lnTo>
                  <a:pt x="15801" y="4514"/>
                </a:lnTo>
                <a:lnTo>
                  <a:pt x="15751" y="4514"/>
                </a:lnTo>
                <a:lnTo>
                  <a:pt x="15701" y="4514"/>
                </a:lnTo>
                <a:lnTo>
                  <a:pt x="15627" y="4514"/>
                </a:lnTo>
                <a:lnTo>
                  <a:pt x="15553" y="4490"/>
                </a:lnTo>
                <a:lnTo>
                  <a:pt x="15453" y="4490"/>
                </a:lnTo>
                <a:lnTo>
                  <a:pt x="15329" y="4490"/>
                </a:lnTo>
                <a:lnTo>
                  <a:pt x="15205" y="4490"/>
                </a:lnTo>
                <a:lnTo>
                  <a:pt x="15081" y="4490"/>
                </a:lnTo>
                <a:lnTo>
                  <a:pt x="14932" y="4465"/>
                </a:lnTo>
                <a:lnTo>
                  <a:pt x="14784" y="4465"/>
                </a:lnTo>
                <a:lnTo>
                  <a:pt x="14610" y="4465"/>
                </a:lnTo>
                <a:lnTo>
                  <a:pt x="14436" y="4465"/>
                </a:lnTo>
                <a:lnTo>
                  <a:pt x="14263" y="4465"/>
                </a:lnTo>
                <a:lnTo>
                  <a:pt x="14089" y="4465"/>
                </a:lnTo>
                <a:lnTo>
                  <a:pt x="13940" y="4490"/>
                </a:lnTo>
                <a:lnTo>
                  <a:pt x="13816" y="4490"/>
                </a:lnTo>
                <a:lnTo>
                  <a:pt x="13519" y="4490"/>
                </a:lnTo>
                <a:lnTo>
                  <a:pt x="13419" y="4490"/>
                </a:lnTo>
                <a:lnTo>
                  <a:pt x="13320" y="4490"/>
                </a:lnTo>
                <a:lnTo>
                  <a:pt x="13221" y="4490"/>
                </a:lnTo>
                <a:lnTo>
                  <a:pt x="13171" y="4490"/>
                </a:lnTo>
                <a:lnTo>
                  <a:pt x="13122" y="4490"/>
                </a:lnTo>
                <a:lnTo>
                  <a:pt x="13097" y="4490"/>
                </a:lnTo>
                <a:lnTo>
                  <a:pt x="13072" y="4465"/>
                </a:lnTo>
                <a:lnTo>
                  <a:pt x="13072" y="4490"/>
                </a:lnTo>
                <a:lnTo>
                  <a:pt x="13097" y="4514"/>
                </a:lnTo>
                <a:lnTo>
                  <a:pt x="13097" y="4539"/>
                </a:lnTo>
                <a:lnTo>
                  <a:pt x="13097" y="4589"/>
                </a:lnTo>
                <a:lnTo>
                  <a:pt x="13097" y="4638"/>
                </a:lnTo>
                <a:lnTo>
                  <a:pt x="13097" y="4713"/>
                </a:lnTo>
                <a:lnTo>
                  <a:pt x="13097" y="4812"/>
                </a:lnTo>
                <a:lnTo>
                  <a:pt x="13072" y="4936"/>
                </a:lnTo>
                <a:lnTo>
                  <a:pt x="13072" y="5035"/>
                </a:lnTo>
                <a:lnTo>
                  <a:pt x="13072" y="5159"/>
                </a:lnTo>
                <a:lnTo>
                  <a:pt x="13072" y="5259"/>
                </a:lnTo>
                <a:lnTo>
                  <a:pt x="13072" y="5358"/>
                </a:lnTo>
                <a:lnTo>
                  <a:pt x="13097" y="5457"/>
                </a:lnTo>
                <a:lnTo>
                  <a:pt x="13097" y="5531"/>
                </a:lnTo>
                <a:lnTo>
                  <a:pt x="13097" y="5606"/>
                </a:lnTo>
                <a:lnTo>
                  <a:pt x="13097" y="5730"/>
                </a:lnTo>
                <a:lnTo>
                  <a:pt x="13097" y="5779"/>
                </a:lnTo>
                <a:lnTo>
                  <a:pt x="13097" y="5804"/>
                </a:lnTo>
                <a:lnTo>
                  <a:pt x="13097" y="5854"/>
                </a:lnTo>
                <a:lnTo>
                  <a:pt x="13097" y="5879"/>
                </a:lnTo>
                <a:lnTo>
                  <a:pt x="13097" y="5904"/>
                </a:lnTo>
                <a:lnTo>
                  <a:pt x="13097" y="5879"/>
                </a:lnTo>
                <a:lnTo>
                  <a:pt x="13097" y="5854"/>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1:44:55Z</dcterms:created>
  <dc:creator>abeason</dc:creator>
  <dc:description/>
  <dc:language>en-US</dc:language>
  <cp:lastModifiedBy>abeason</cp:lastModifiedBy>
  <dcterms:modified xsi:type="dcterms:W3CDTF">2009-03-23T16:37:04Z</dcterms:modified>
  <cp:revision>4</cp:revision>
  <dc:subject/>
  <dc:title>Sums of finite series</dc:title>
</cp:coreProperties>
</file>